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1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2640" y="695160"/>
            <a:ext cx="4567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dt" idx="1"/>
          </p:nvPr>
        </p:nvSpPr>
        <p:spPr>
          <a:xfrm>
            <a:off x="3881520" y="-360"/>
            <a:ext cx="29700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2"/>
          </p:nvPr>
        </p:nvSpPr>
        <p:spPr>
          <a:xfrm>
            <a:off x="-360" y="8686440"/>
            <a:ext cx="29703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3"/>
          </p:nvPr>
        </p:nvSpPr>
        <p:spPr>
          <a:xfrm>
            <a:off x="3881520" y="8686440"/>
            <a:ext cx="29700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C3E37A-E34E-4F6A-BF79-2C31A4F1C7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82" name=""/>
          <p:cNvSpPr/>
          <p:nvPr/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02" name=""/>
          <p:cNvSpPr/>
          <p:nvPr/>
        </p:nvSpPr>
        <p:spPr>
          <a:xfrm>
            <a:off x="68580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4343400"/>
            <a:ext cx="544212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06" name=""/>
          <p:cNvSpPr/>
          <p:nvPr/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08" name=""/>
          <p:cNvSpPr/>
          <p:nvPr/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10" name=""/>
          <p:cNvSpPr/>
          <p:nvPr/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12" name=""/>
          <p:cNvSpPr/>
          <p:nvPr/>
        </p:nvSpPr>
        <p:spPr>
          <a:xfrm>
            <a:off x="68580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14" name=""/>
          <p:cNvSpPr/>
          <p:nvPr/>
        </p:nvSpPr>
        <p:spPr>
          <a:xfrm>
            <a:off x="68580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16" name=""/>
          <p:cNvSpPr/>
          <p:nvPr/>
        </p:nvSpPr>
        <p:spPr>
          <a:xfrm>
            <a:off x="68580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18" name=""/>
          <p:cNvSpPr/>
          <p:nvPr/>
        </p:nvSpPr>
        <p:spPr>
          <a:xfrm>
            <a:off x="68580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20" name=""/>
          <p:cNvSpPr/>
          <p:nvPr/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84" name=""/>
          <p:cNvSpPr/>
          <p:nvPr/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22" name=""/>
          <p:cNvSpPr/>
          <p:nvPr/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24" name=""/>
          <p:cNvSpPr/>
          <p:nvPr/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26" name=""/>
          <p:cNvSpPr/>
          <p:nvPr/>
        </p:nvSpPr>
        <p:spPr>
          <a:xfrm>
            <a:off x="68580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28" name=""/>
          <p:cNvSpPr/>
          <p:nvPr/>
        </p:nvSpPr>
        <p:spPr>
          <a:xfrm>
            <a:off x="685800" y="4341960"/>
            <a:ext cx="548172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30" name=""/>
          <p:cNvSpPr/>
          <p:nvPr/>
        </p:nvSpPr>
        <p:spPr>
          <a:xfrm>
            <a:off x="68580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32" name=""/>
          <p:cNvSpPr/>
          <p:nvPr/>
        </p:nvSpPr>
        <p:spPr>
          <a:xfrm>
            <a:off x="685800" y="4341960"/>
            <a:ext cx="548172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57600" cy="3424320"/>
          </a:xfrm>
          <a:prstGeom prst="rect">
            <a:avLst/>
          </a:prstGeom>
          <a:ln w="0">
            <a:noFill/>
          </a:ln>
        </p:spPr>
      </p:sp>
      <p:sp>
        <p:nvSpPr>
          <p:cNvPr id="334" name=""/>
          <p:cNvSpPr/>
          <p:nvPr/>
        </p:nvSpPr>
        <p:spPr>
          <a:xfrm>
            <a:off x="685800" y="4343400"/>
            <a:ext cx="547056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95160"/>
            <a:ext cx="456732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4343400"/>
            <a:ext cx="544212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143000" y="695160"/>
            <a:ext cx="456732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" y="4343400"/>
            <a:ext cx="544212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90" name=""/>
          <p:cNvSpPr/>
          <p:nvPr/>
        </p:nvSpPr>
        <p:spPr>
          <a:xfrm>
            <a:off x="685800" y="4341960"/>
            <a:ext cx="548496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92" name=""/>
          <p:cNvSpPr/>
          <p:nvPr/>
        </p:nvSpPr>
        <p:spPr>
          <a:xfrm>
            <a:off x="685800" y="4340160"/>
            <a:ext cx="5484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94" name=""/>
          <p:cNvSpPr/>
          <p:nvPr/>
        </p:nvSpPr>
        <p:spPr>
          <a:xfrm>
            <a:off x="685800" y="4341960"/>
            <a:ext cx="548496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96" name=""/>
          <p:cNvSpPr/>
          <p:nvPr/>
        </p:nvSpPr>
        <p:spPr>
          <a:xfrm>
            <a:off x="68580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99" name=""/>
          <p:cNvSpPr/>
          <p:nvPr/>
        </p:nvSpPr>
        <p:spPr>
          <a:xfrm>
            <a:off x="68580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584496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35360" y="5049720"/>
            <a:ext cx="584496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30560" y="243180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35360" y="504972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830560" y="504972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18817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11400" y="2431800"/>
            <a:ext cx="18817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87800" y="2431800"/>
            <a:ext cx="18817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35360" y="5049720"/>
            <a:ext cx="18817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11400" y="5049720"/>
            <a:ext cx="18817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87800" y="5049720"/>
            <a:ext cx="18817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835360" y="2431800"/>
            <a:ext cx="584496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584496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285228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830560" y="2431800"/>
            <a:ext cx="285228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835360" y="849240"/>
            <a:ext cx="584496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830560" y="2431800"/>
            <a:ext cx="285228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835360" y="504972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35360" y="2431800"/>
            <a:ext cx="584496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285228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830560" y="243180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830560" y="504972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830560" y="243180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835360" y="5049720"/>
            <a:ext cx="584496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584496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835360" y="5049720"/>
            <a:ext cx="584496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830560" y="243180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835360" y="504972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830560" y="504972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18817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1400" y="2431800"/>
            <a:ext cx="18817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787800" y="2431800"/>
            <a:ext cx="18817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835360" y="5049720"/>
            <a:ext cx="18817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11400" y="5049720"/>
            <a:ext cx="18817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787800" y="5049720"/>
            <a:ext cx="18817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835360" y="2431800"/>
            <a:ext cx="584496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584496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285228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830560" y="2431800"/>
            <a:ext cx="285228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584496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835360" y="849240"/>
            <a:ext cx="584496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830560" y="2431800"/>
            <a:ext cx="285228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835360" y="504972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285228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830560" y="243180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830560" y="504972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830560" y="243180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835360" y="5049720"/>
            <a:ext cx="584496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584496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835360" y="5049720"/>
            <a:ext cx="584496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830560" y="243180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835360" y="504972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830560" y="504972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18817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11400" y="2431800"/>
            <a:ext cx="18817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787800" y="2431800"/>
            <a:ext cx="18817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2835360" y="5049720"/>
            <a:ext cx="18817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811400" y="5049720"/>
            <a:ext cx="18817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787800" y="5049720"/>
            <a:ext cx="18817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835360" y="2431800"/>
            <a:ext cx="584496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584496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285228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830560" y="2431800"/>
            <a:ext cx="285228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285228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830560" y="2431800"/>
            <a:ext cx="285228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835360" y="849240"/>
            <a:ext cx="584496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830560" y="2431800"/>
            <a:ext cx="285228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835360" y="504972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285228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830560" y="243180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30560" y="504972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830560" y="243180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835360" y="5049720"/>
            <a:ext cx="584496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584496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835360" y="5049720"/>
            <a:ext cx="584496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830560" y="243180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835360" y="504972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830560" y="504972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18817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11400" y="2431800"/>
            <a:ext cx="18817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787800" y="2431800"/>
            <a:ext cx="18817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835360" y="5049720"/>
            <a:ext cx="18817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11400" y="5049720"/>
            <a:ext cx="18817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787800" y="5049720"/>
            <a:ext cx="18817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35360" y="849240"/>
            <a:ext cx="584496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830560" y="2431800"/>
            <a:ext cx="285228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35360" y="504972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285228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830560" y="243180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830560" y="504972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830560" y="2431800"/>
            <a:ext cx="285228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35360" y="5049720"/>
            <a:ext cx="584496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5340000">
            <a:off x="-1111320" y="774360"/>
            <a:ext cx="5761080" cy="384012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287280" y="2925720"/>
            <a:ext cx="3657600" cy="3932280"/>
          </a:xfrm>
          <a:prstGeom prst="rtTriangle">
            <a:avLst/>
          </a:prstGeom>
          <a:solidFill>
            <a:srgbClr val="e6e6e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44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835360" y="2431800"/>
            <a:ext cx="584496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64000"/>
          </a:bodyPr>
          <a:p>
            <a:pPr marL="219240" indent="0" algn="ctr">
              <a:lnSpc>
                <a:spcPct val="99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1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2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3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4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5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6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74680" y="5567400"/>
            <a:ext cx="2124000" cy="101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 flipV="1" rot="5400000">
            <a:off x="4810320" y="2565360"/>
            <a:ext cx="8226720" cy="53316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1824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01320" y="1455480"/>
            <a:ext cx="851364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318960" indent="-31896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2" marL="318960" indent="-31896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3" marL="318960" indent="-31896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4" marL="318960" indent="-31896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5" marL="318960" indent="-31896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6" marL="318960" indent="-31896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4" name=""/>
          <p:cNvSpPr/>
          <p:nvPr/>
        </p:nvSpPr>
        <p:spPr>
          <a:xfrm>
            <a:off x="577800" y="6578640"/>
            <a:ext cx="21034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info@aspirationtech.org</a:t>
            </a:r>
            <a:r>
              <a:rPr b="0" lang="en-US" sz="1400" spc="-1" strike="noStrike">
                <a:solidFill>
                  <a:srgbClr val="999999"/>
                </a:solidFill>
                <a:latin typeface="Khmer UI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018640" y="255600"/>
            <a:ext cx="998280" cy="474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985000" y="6573960"/>
            <a:ext cx="283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www.aspirationtech.org/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 flipH="1" flipV="1" rot="5400000">
            <a:off x="4813200" y="2563920"/>
            <a:ext cx="8226360" cy="53820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320" y="120600"/>
            <a:ext cx="75200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301680" y="1455840"/>
            <a:ext cx="851544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0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2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3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4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5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6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6" name=""/>
          <p:cNvSpPr/>
          <p:nvPr/>
        </p:nvSpPr>
        <p:spPr>
          <a:xfrm>
            <a:off x="577800" y="6578640"/>
            <a:ext cx="21034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info@aspirationtech.org</a:t>
            </a:r>
            <a:r>
              <a:rPr b="0" lang="en-US" sz="1400" spc="-1" strike="noStrike">
                <a:solidFill>
                  <a:srgbClr val="999999"/>
                </a:solidFill>
                <a:latin typeface="Khmer UI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018640" y="255600"/>
            <a:ext cx="998280" cy="474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985000" y="6573960"/>
            <a:ext cx="283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www.aspirationtech.org/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 rot="5340000">
            <a:off x="-1112760" y="775800"/>
            <a:ext cx="5761080" cy="384012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-287280" y="2925720"/>
            <a:ext cx="3657600" cy="3932280"/>
          </a:xfrm>
          <a:prstGeom prst="rtTriangle">
            <a:avLst/>
          </a:prstGeom>
          <a:solidFill>
            <a:srgbClr val="e6e6e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35000" y="849240"/>
            <a:ext cx="58467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2835000" y="2432160"/>
            <a:ext cx="5846760" cy="5860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68000"/>
          </a:bodyPr>
          <a:p>
            <a:pPr marL="233280" indent="0" algn="ctr">
              <a:lnSpc>
                <a:spcPct val="99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1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2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3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4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5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6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74680" y="5567400"/>
            <a:ext cx="2124000" cy="101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28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28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28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image" Target="../media/image17.pn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28.xml"/><Relationship Id="rId10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hyperlink" Target="http://www.rysecenter.org/" TargetMode="External"/><Relationship Id="rId5" Type="http://schemas.openxmlformats.org/officeDocument/2006/relationships/slideLayout" Target="../slideLayouts/slideLayout27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7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aspirationtech.org/attribute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5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5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5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35360" y="758880"/>
            <a:ext cx="5851440" cy="13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Online Communication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835360" y="2601720"/>
            <a:ext cx="585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Building Online Advocates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7" name=""/>
          <p:cNvSpPr/>
          <p:nvPr/>
        </p:nvSpPr>
        <p:spPr>
          <a:xfrm>
            <a:off x="3033720" y="6129360"/>
            <a:ext cx="4114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  <a:ea typeface="Tahoma"/>
              </a:rPr>
              <a:t>These training materials have been prepared by Aspiration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497720" y="6199200"/>
            <a:ext cx="137160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-23760"/>
            <a:ext cx="752328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Identify Your Audienc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65040" y="1609560"/>
            <a:ext cx="8151840" cy="54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o supports your cause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o chooses to respond to your request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o views you as a trusted source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o shares things you care about online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192240"/>
            <a:ext cx="752328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Develop Tactic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for Your Goal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671120"/>
            <a:ext cx="851832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 tactic is a plan, procedure, or move you can take to help achieve your goa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Your tactics depend on who you are trying to reach and what you are trying to do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Let's take a look at some online “moves”..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Online Tactic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279080"/>
            <a:ext cx="851832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Meet people where they are a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8680" indent="-2174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Create appropriate messages for different platform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3257640" y="2560680"/>
            <a:ext cx="5337000" cy="37497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404640" y="3382920"/>
            <a:ext cx="343548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Online Tactic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Mobilize established network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0">
              <a:lnSpc>
                <a:spcPct val="108000"/>
              </a:lnSpc>
              <a:spcBef>
                <a:spcPts val="700"/>
              </a:spcBef>
              <a:buNone/>
              <a:tabLst>
                <a:tab algn="l" pos="0"/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2011320" y="2286000"/>
            <a:ext cx="5486400" cy="36576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" y="4343400"/>
            <a:ext cx="2117880" cy="17352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6126120" y="1746360"/>
            <a:ext cx="2857680" cy="27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670200" y="1182600"/>
            <a:ext cx="5381640" cy="49435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Online Tactic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Get Creativ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0">
              <a:lnSpc>
                <a:spcPct val="108000"/>
              </a:lnSpc>
              <a:spcBef>
                <a:spcPts val="700"/>
              </a:spcBef>
              <a:buNone/>
              <a:tabLst>
                <a:tab algn="l" pos="0"/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19240" y="2103480"/>
            <a:ext cx="2889000" cy="40687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2835360" y="2468520"/>
            <a:ext cx="25146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Bottom Lin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8720" indent="-217440">
              <a:lnSpc>
                <a:spcPct val="106000"/>
              </a:lnSpc>
              <a:spcBef>
                <a:spcPts val="799"/>
              </a:spcBef>
              <a:buSzPct val="131640"/>
              <a:buBlip>
                <a:blip r:embed="rId1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Online tools aren't a magic bullet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31640"/>
              <a:buBlip>
                <a:blip r:embed="rId2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You need: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958680" indent="-2174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An measurable goal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1" marL="958680" indent="-2174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A compelling message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1" marL="958680" indent="-2174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Effective tactics to realize your goal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1" marL="958680" indent="-2174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A plan for engaging supporters and well-defined ways for them to plug in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Online Organizing is an Ongoing Conversation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680" y="1795320"/>
            <a:ext cx="85183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Establish Trust with your audiences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8680" indent="-2174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Trust empowers mobilization.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oo many orgs use online to BLAST their audiences “THE SKY IS FALLING TODAY”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Review the narrative over time, not just the “Asks”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274680"/>
            <a:ext cx="752328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Online Engagement Ask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1680" y="1553760"/>
            <a:ext cx="851832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Encourage Action 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8680" indent="-2174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Make it the “easy choice” to get involved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58680" indent="-2174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Reduce barriers for participation 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2" marL="1359000" indent="-21924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Decrease the # of clicks to action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2" marL="1359000" indent="-21924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Give fame for getting involved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2" marL="1359000" indent="-21924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Remove login or memberships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2" marL="1359000" indent="-21924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Use accessible language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2" marL="1359000" indent="-21924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Create clearly defined asks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Online Engagement Ask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49120" y="1147320"/>
            <a:ext cx="4872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Your role is to define ways for your different audiences to plug in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2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How are you engaging strangers? fans? funders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3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Prep work is key. 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4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Define your lists of “Asks” when you plan your messaging.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5"/>
          <a:stretch/>
        </p:blipFill>
        <p:spPr>
          <a:xfrm>
            <a:off x="5165640" y="1828800"/>
            <a:ext cx="3429000" cy="375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Online Engagement Ask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2160" y="1006200"/>
            <a:ext cx="46641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052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1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Pledge Support 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58680" indent="-2174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(Petitions, Endorsements)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3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Donate Money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4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Contribute to an Art project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5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Join an Online Contest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6"/>
              </a:buBlip>
              <a:tabLst>
                <a:tab algn="l" pos="56052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Volunteer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7"/>
          <a:stretch/>
        </p:blipFill>
        <p:spPr>
          <a:xfrm>
            <a:off x="4754520" y="1554120"/>
            <a:ext cx="3978360" cy="397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Who is Aspiration?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2960" indent="-21492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spiration helps nonprofits and foundations use software tools more effectively and sustainably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2960" indent="-21492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e serve as </a:t>
            </a:r>
            <a:r>
              <a:rPr b="1" lang="en-US" sz="3200" spc="-1" strike="noStrike">
                <a:solidFill>
                  <a:srgbClr val="000000"/>
                </a:solidFill>
                <a:latin typeface="Khmer UI"/>
              </a:rPr>
              <a:t>ally, coach, strategist, mentor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nd</a:t>
            </a:r>
            <a:r>
              <a:rPr b="1" lang="en-US" sz="3200" spc="-1" strike="noStrike">
                <a:solidFill>
                  <a:srgbClr val="000000"/>
                </a:solidFill>
                <a:latin typeface="Khmer UI"/>
              </a:rPr>
              <a:t> facilitator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to those trying to make more impactful use of information technology in their social change efforts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2960" indent="-21492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ww.aspirationtech.org/servic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58560" y="69480"/>
            <a:ext cx="752292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Online Engagement Ask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74680" y="1201680"/>
            <a:ext cx="55785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Influence Campaign Decisions 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8680" indent="-2174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(Polls, Voting, Discussion Forum, Letters to the Editor)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Recruit Other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8680" indent="-2174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ocial Network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58680" indent="-2174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hout Out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58680" indent="-2174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Guest Blog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7"/>
          <a:stretch/>
        </p:blipFill>
        <p:spPr>
          <a:xfrm>
            <a:off x="5532480" y="1920960"/>
            <a:ext cx="3154320" cy="32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Offline Engagement Ask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800" y="1463400"/>
            <a:ext cx="5367240" cy="55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8720" indent="-21744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1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Gather Info or Research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2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Host or Attend Event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58680" indent="-2174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Day of Action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958680" indent="-2174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Movie Screenings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958680" indent="-2174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House Gatherings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6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tart local groups/chapter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58680" indent="-2174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Volunteer Management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8"/>
          <a:stretch/>
        </p:blipFill>
        <p:spPr>
          <a:xfrm>
            <a:off x="5211720" y="1920960"/>
            <a:ext cx="3246480" cy="32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680" y="192240"/>
            <a:ext cx="752328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Organizing Youth Onlin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680" y="1553760"/>
            <a:ext cx="8518320" cy="53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Khmer UI"/>
              </a:rPr>
              <a:t>Who: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Organized group of young people in Richmond, CA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Khmer UI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: How can activated young people use online advocacy to support their on-the-ground community effort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Khmer UI"/>
              </a:rPr>
              <a:t>Partners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: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Khmer UI"/>
              </a:rPr>
              <a:t>http://www.canfit.org;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Khmer UI"/>
                <a:hlinkClick r:id="rId4"/>
              </a:rPr>
              <a:t>http://www.rysecenter.org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Organizing Youth Onlin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015920" y="1554120"/>
            <a:ext cx="2916360" cy="39783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4022640" y="1463760"/>
            <a:ext cx="4592880" cy="39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58720" indent="-217440">
              <a:lnSpc>
                <a:spcPct val="106000"/>
              </a:lnSpc>
              <a:spcBef>
                <a:spcPts val="799"/>
              </a:spcBef>
              <a:buSzPct val="114232"/>
              <a:buBlip>
                <a:blip r:embed="rId2"/>
              </a:buBlip>
              <a:tabLst>
                <a:tab algn="l" pos="558720"/>
                <a:tab algn="l" pos="1015920"/>
                <a:tab algn="l" pos="1473120"/>
                <a:tab algn="l" pos="1930320"/>
                <a:tab algn="l" pos="2387520"/>
                <a:tab algn="l" pos="2844720"/>
                <a:tab algn="l" pos="3301920"/>
                <a:tab algn="l" pos="3759120"/>
                <a:tab algn="l" pos="4216320"/>
                <a:tab algn="l" pos="4673520"/>
                <a:tab algn="l" pos="5130720"/>
                <a:tab algn="l" pos="5587920"/>
                <a:tab algn="l" pos="6045120"/>
                <a:tab algn="l" pos="6502320"/>
                <a:tab algn="l" pos="6959520"/>
                <a:tab algn="l" pos="7416720"/>
                <a:tab algn="l" pos="7873920"/>
                <a:tab algn="l" pos="8331120"/>
                <a:tab algn="l" pos="8788320"/>
                <a:tab algn="l" pos="9245520"/>
                <a:tab algn="l" pos="970272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I can talk about my community work online and not just my personal life.” “in my voice, in my story without the usual filters.”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217440" algn="r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558720"/>
                <a:tab algn="l" pos="1015920"/>
                <a:tab algn="l" pos="1473120"/>
                <a:tab algn="l" pos="1930320"/>
                <a:tab algn="l" pos="2387520"/>
                <a:tab algn="l" pos="2844720"/>
                <a:tab algn="l" pos="3301920"/>
                <a:tab algn="l" pos="3759120"/>
                <a:tab algn="l" pos="4216320"/>
                <a:tab algn="l" pos="4673520"/>
                <a:tab algn="l" pos="5130720"/>
                <a:tab algn="l" pos="5587920"/>
                <a:tab algn="l" pos="6045120"/>
                <a:tab algn="l" pos="6502320"/>
                <a:tab algn="l" pos="6959520"/>
                <a:tab algn="l" pos="7416720"/>
                <a:tab algn="l" pos="7873920"/>
                <a:tab algn="l" pos="8331120"/>
                <a:tab algn="l" pos="8788320"/>
                <a:tab algn="l" pos="9245520"/>
                <a:tab algn="l" pos="9702720"/>
                <a:tab algn="l" pos="10058400"/>
                <a:tab algn="l" pos="105156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Khmer UI"/>
              </a:rPr>
              <a:t>- youth participa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Learnings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Organizing Youth Onlin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9920" y="1887480"/>
            <a:ext cx="8518680" cy="46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8720" indent="-217440">
              <a:lnSpc>
                <a:spcPct val="106000"/>
              </a:lnSpc>
              <a:spcBef>
                <a:spcPts val="799"/>
              </a:spcBef>
              <a:buSzPct val="114232"/>
              <a:buBlip>
                <a:blip r:embed="rId1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Maintain principles of youth development 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14232"/>
              <a:buBlip>
                <a:blip r:embed="rId2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Move away from assumptions about youth and social networks, and create a strategy with goals and tactics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14232"/>
              <a:buBlip>
                <a:blip r:embed="rId3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Organizing people takes time, online and offline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012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Learnings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Youth eAdvocacy Video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049400" y="1828800"/>
            <a:ext cx="7021440" cy="397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omment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906640" y="417240"/>
            <a:ext cx="6034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Use, Modify &amp; Attribut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335320" y="1854360"/>
            <a:ext cx="6673680" cy="48463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Khmer UI"/>
                <a:hlinkClick r:id="rId1"/>
              </a:rPr>
              <a:t>www.aspirationtech.org/attribut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spiration distributes these materials under 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reative Commons Attribution-ShareAlike licen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  <a:ea typeface="ArialMT"/>
              </a:rPr>
              <a:t>We encourage re-use, modification, and re-distribution in any situation where they may be useful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We love to hear about how you are improving and remixing what we've done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Questions? Email us info@aspirationtech.org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419040" y="1006560"/>
            <a:ext cx="1828800" cy="63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835360" y="848880"/>
            <a:ext cx="5850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ontact U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58500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aspirationtech.org/training/support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nfo@aspirationtech.org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+1-415-839-6456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First Thing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536040" indent="-208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is webinar is envisioned as a dialog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20160" indent="-2084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We want your input as much as possibl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36040" indent="-208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Please ask questions early and often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20160" indent="-2084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Especially if and when we use technical jargon, terminology and concepts you don't know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36040" indent="-208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It will only be as valuable for you as you make it!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Review the limitations and caveats of online organizing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iscuss tangible ways to engage and sustain online advocat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hare engagement asks and tactic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Most importantly, answer your question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320" y="274680"/>
            <a:ext cx="765324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Limitations of Online Organizing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6" name=""/>
          <p:cNvSpPr/>
          <p:nvPr/>
        </p:nvSpPr>
        <p:spPr>
          <a:xfrm>
            <a:off x="345960" y="1533600"/>
            <a:ext cx="8228160" cy="42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622160"/>
            <a:ext cx="85183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541800" indent="-2106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Never forget who is left out by online strategi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41800" indent="-2106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rust relationships are best built in person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29880" indent="-2106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Online organizing is most effective when it leverages established social networks and communitie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41800" indent="-2106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Each community and campaign is differen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29880" indent="-2106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Your mileage will vary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3600" y="91800"/>
            <a:ext cx="82281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aveats of Online Tool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6240" y="1218960"/>
            <a:ext cx="8227800" cy="52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an take a lot of tim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8680" indent="-2174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Time = Money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Big corporations want your data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8680" indent="-2174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You are the product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ere are billion of tool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8680" indent="-2174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Which ones do we need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7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ools change EVERY. SINGLE. DAY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8680" indent="-2174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How can we keep up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41280" y="328680"/>
            <a:ext cx="752328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Develop Campaign Goal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42440" y="1736280"/>
            <a:ext cx="85186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Influence Decision Maker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Mobilize for an Even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Educate 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Raise Fund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Increase Volunteer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41280" y="-36360"/>
            <a:ext cx="752328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What are your goals?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93" name=""/>
          <p:cNvSpPr/>
          <p:nvPr/>
        </p:nvSpPr>
        <p:spPr>
          <a:xfrm>
            <a:off x="1312920" y="5403960"/>
            <a:ext cx="2279520" cy="1135080"/>
          </a:xfrm>
          <a:prstGeom prst="ellipse">
            <a:avLst/>
          </a:prstGeom>
          <a:solidFill>
            <a:srgbClr val="35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To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60640" y="4268880"/>
            <a:ext cx="1261800" cy="941400"/>
          </a:xfrm>
          <a:prstGeom prst="ellipse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Go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452680" y="4257720"/>
            <a:ext cx="1263600" cy="939600"/>
          </a:xfrm>
          <a:prstGeom prst="ellipse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Go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1674720" y="5160960"/>
            <a:ext cx="77760" cy="426960"/>
          </a:xfrm>
          <a:prstGeom prst="line">
            <a:avLst/>
          </a:prstGeom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3054240" y="5117760"/>
            <a:ext cx="7920" cy="420840"/>
          </a:xfrm>
          <a:prstGeom prst="line">
            <a:avLst/>
          </a:prstGeom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45080" y="5386320"/>
            <a:ext cx="2278080" cy="1144800"/>
          </a:xfrm>
          <a:prstGeom prst="ellipse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o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72000" y="4251240"/>
            <a:ext cx="1262160" cy="949320"/>
          </a:xfrm>
          <a:prstGeom prst="ellipse">
            <a:avLst/>
          </a:prstGeom>
          <a:solidFill>
            <a:srgbClr val="35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To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04000" y="4272120"/>
            <a:ext cx="1262160" cy="949320"/>
          </a:xfrm>
          <a:prstGeom prst="ellipse">
            <a:avLst/>
          </a:prstGeom>
          <a:solidFill>
            <a:srgbClr val="35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5962320" y="5164200"/>
            <a:ext cx="58680" cy="372960"/>
          </a:xfrm>
          <a:prstGeom prst="line">
            <a:avLst/>
          </a:prstGeom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302600" y="5189040"/>
            <a:ext cx="34920" cy="420840"/>
          </a:xfrm>
          <a:prstGeom prst="line">
            <a:avLst/>
          </a:prstGeom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54480" y="5548320"/>
            <a:ext cx="817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V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1320" y="1006200"/>
            <a:ext cx="8520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Measurabl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at does success look like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8720" indent="-2174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ool-Agnostic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8680" indent="-2174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Make sure your communications plan stays in tact when the tool you are using fails you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978600" y="2487600"/>
            <a:ext cx="1262160" cy="857160"/>
          </a:xfrm>
          <a:prstGeom prst="ellipse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 vert="eaVert" rot="10800000">
            <a:noAutofit/>
          </a:bodyPr>
          <a:p>
            <a:pPr algn="ctr" rtl="1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Go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ool Agnostic?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7" name=""/>
          <p:cNvSpPr/>
          <p:nvPr/>
        </p:nvSpPr>
        <p:spPr>
          <a:xfrm>
            <a:off x="1092240" y="5346720"/>
            <a:ext cx="1998720" cy="1004760"/>
          </a:xfrm>
          <a:prstGeom prst="ellipse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o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65280" y="4222800"/>
            <a:ext cx="1242720" cy="831960"/>
          </a:xfrm>
          <a:prstGeom prst="ellipse">
            <a:avLst/>
          </a:prstGeom>
          <a:solidFill>
            <a:srgbClr val="35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To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30560" y="4206960"/>
            <a:ext cx="1317600" cy="831600"/>
          </a:xfrm>
          <a:prstGeom prst="ellipse">
            <a:avLst/>
          </a:prstGeom>
          <a:solidFill>
            <a:srgbClr val="35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1414440" y="5032440"/>
            <a:ext cx="209520" cy="380880"/>
          </a:xfrm>
          <a:prstGeom prst="line">
            <a:avLst/>
          </a:prstGeom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503440" y="4997520"/>
            <a:ext cx="206280" cy="403200"/>
          </a:xfrm>
          <a:prstGeom prst="line">
            <a:avLst/>
          </a:prstGeom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9120" y="2568600"/>
            <a:ext cx="2076480" cy="1033560"/>
          </a:xfrm>
          <a:prstGeom prst="ellipse">
            <a:avLst/>
          </a:prstGeom>
          <a:solidFill>
            <a:srgbClr val="35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To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6440" y="1501920"/>
            <a:ext cx="1332000" cy="857160"/>
          </a:xfrm>
          <a:prstGeom prst="ellipse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Go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122560" y="1523880"/>
            <a:ext cx="1262160" cy="857520"/>
          </a:xfrm>
          <a:prstGeom prst="ellipse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Go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1022400" y="2323800"/>
            <a:ext cx="169920" cy="415800"/>
          </a:xfrm>
          <a:prstGeom prst="line">
            <a:avLst/>
          </a:prstGeom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376360" y="2340000"/>
            <a:ext cx="208080" cy="357120"/>
          </a:xfrm>
          <a:prstGeom prst="line">
            <a:avLst/>
          </a:prstGeom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86160" y="2517840"/>
            <a:ext cx="1908000" cy="1440"/>
          </a:xfrm>
          <a:prstGeom prst="line">
            <a:avLst/>
          </a:prstGeom>
          <a:ln cap="sq" w="36720">
            <a:solidFill>
              <a:srgbClr val="008000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1120" y="5248440"/>
            <a:ext cx="1838520" cy="1440"/>
          </a:xfrm>
          <a:prstGeom prst="line">
            <a:avLst/>
          </a:prstGeom>
          <a:ln cap="sq" w="36720">
            <a:solidFill>
              <a:srgbClr val="008000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70680" y="5327640"/>
            <a:ext cx="1998720" cy="1004760"/>
          </a:xfrm>
          <a:prstGeom prst="ellipse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o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43440" y="4264200"/>
            <a:ext cx="1301760" cy="831600"/>
          </a:xfrm>
          <a:prstGeom prst="ellipse">
            <a:avLst/>
          </a:prstGeom>
          <a:solidFill>
            <a:srgbClr val="35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To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6391440" y="5086440"/>
            <a:ext cx="288720" cy="301680"/>
          </a:xfrm>
          <a:prstGeom prst="line">
            <a:avLst/>
          </a:prstGeom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8900000">
            <a:off x="5427360" y="2384280"/>
            <a:ext cx="1379520" cy="857520"/>
          </a:xfrm>
          <a:prstGeom prst="ellipse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Go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6039000" y="3025800"/>
            <a:ext cx="174600" cy="309600"/>
          </a:xfrm>
          <a:prstGeom prst="line">
            <a:avLst/>
          </a:prstGeom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5907240" y="2714760"/>
            <a:ext cx="320400" cy="366480"/>
          </a:xfrm>
          <a:prstGeom prst="line">
            <a:avLst/>
          </a:prstGeom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932440" y="2432160"/>
            <a:ext cx="174600" cy="333360"/>
          </a:xfrm>
          <a:prstGeom prst="line">
            <a:avLst/>
          </a:prstGeom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7500960" y="3038400"/>
            <a:ext cx="216000" cy="309600"/>
          </a:xfrm>
          <a:prstGeom prst="line">
            <a:avLst/>
          </a:prstGeom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7526160" y="2852640"/>
            <a:ext cx="279720" cy="239760"/>
          </a:xfrm>
          <a:prstGeom prst="line">
            <a:avLst/>
          </a:prstGeom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7464240" y="2700000"/>
            <a:ext cx="379080" cy="204840"/>
          </a:xfrm>
          <a:prstGeom prst="line">
            <a:avLst/>
          </a:prstGeom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 fill="hold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1000" fill="hold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dur="indefinite" fill="hold">
                      <p:stCondLst>
                        <p:cond delay="indefinite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 fill="hold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These training materials have been prepared by Aspiration 
These materials are distributed under a Creative Commons license: Attribution-ShareAlike </dc:description>
  <dc:language>en-US</dc:language>
  <cp:lastModifiedBy/>
  <dcterms:modified xsi:type="dcterms:W3CDTF">2014-08-28T15:20:25Z</dcterms:modified>
  <cp:revision>2</cp:revision>
  <dc:subject/>
  <dc:title>Aspiration Online Campaign Tactics</dc:title>
</cp:coreProperties>
</file>