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"/>
          </p:nvPr>
        </p:nvSpPr>
        <p:spPr>
          <a:xfrm>
            <a:off x="3881520" y="-36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3"/>
          </p:nvPr>
        </p:nvSpPr>
        <p:spPr>
          <a:xfrm>
            <a:off x="3881520" y="868644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01E3-9313-458A-926D-42EB56DEF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685800" y="4341960"/>
            <a:ext cx="5481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685800" y="4341960"/>
            <a:ext cx="5481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7600" cy="342432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016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1320" y="77436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0320" y="2565360"/>
            <a:ext cx="8226720" cy="5331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182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320" y="1455480"/>
            <a:ext cx="85136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flipH="1" flipV="1" rot="5400000">
            <a:off x="4813200" y="2563920"/>
            <a:ext cx="8226360" cy="5382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00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54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340000">
            <a:off x="-1112760" y="7758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6760" cy="5860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8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8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8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rysecenter.org/" TargetMode="External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ommunic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35360" y="2601720"/>
            <a:ext cx="585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uilding Online Advocate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-2376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Identify Your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65040" y="1609560"/>
            <a:ext cx="815184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supports your caus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chooses to respond to your reques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views you as a trusted sourc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shares things you care about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tactic is a plan, procedure, or move you can take to help achieve your go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tactics depend on who you are trying to reach and what you are trying to d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take a look at some online “moves”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2790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et people where they are 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ppropriate messages for different platform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57640" y="2560680"/>
            <a:ext cx="5337000" cy="3749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04640" y="3382920"/>
            <a:ext cx="34354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established networ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011320" y="22860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117880" cy="1735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26120" y="1746360"/>
            <a:ext cx="28576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70200" y="1182600"/>
            <a:ext cx="5381640" cy="4943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Creati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9240" y="2103480"/>
            <a:ext cx="2889000" cy="406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835360" y="24685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Organizing is an Ongoing Conversa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795320"/>
            <a:ext cx="8518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Trust with your audience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ust empowers mobilization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 many orgs use online to BLAST their audiences “THE SKY IS FALLING TODAY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narrative over time, not just the “Asks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53760"/>
            <a:ext cx="85183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courage Action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the “easy choice”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duce barriers for participation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ecrease the # of clicks to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fame for getting involve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move login or membership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Use accessible languag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clearly defined ask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9120" y="1147320"/>
            <a:ext cx="4872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role is to define ways for your different audiences to plug i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ngaging strangers? fans? funder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ep work is key.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fine your lists of “Asks” when you plan your messaging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165640" y="1828800"/>
            <a:ext cx="342900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2160" y="1006200"/>
            <a:ext cx="46641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ledge Support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(Petitions, Endorsements)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e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ribute to an Art proje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Join an Online Contes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Volunte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4754520" y="1554120"/>
            <a:ext cx="397836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8560" y="69480"/>
            <a:ext cx="7522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680" y="1201680"/>
            <a:ext cx="55785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Campaign Decisions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(Polls, Voting, Discussion Forum, Letters to the Editor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cruit Oth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out Ou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uest Blog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5532480" y="1920960"/>
            <a:ext cx="31543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ff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800" y="1463400"/>
            <a:ext cx="536724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ather Info or Re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st or Atte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ay of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ovie Screenin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ouse Gatherin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rt local groups/chapt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olunteer Managem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5211720" y="1920960"/>
            <a:ext cx="324648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53760"/>
            <a:ext cx="851832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Who: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Organized group of young people in Richmond, C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: How can activated young people use online advocacy to support their on-the-ground community effor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Partners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Khmer UI"/>
              </a:rPr>
              <a:t>http://www.canfit.org;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Khmer UI"/>
                <a:hlinkClick r:id="rId4"/>
              </a:rPr>
              <a:t>http://www.rysecenter.org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15920" y="1554120"/>
            <a:ext cx="2916360" cy="397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022640" y="1463760"/>
            <a:ext cx="459288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702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 can talk about my community work online and not just my personal life.” “in my voice, in my story without the usual filters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217440" algn="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70272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Khmer UI"/>
              </a:rPr>
              <a:t>- youth particip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9920" y="1887480"/>
            <a:ext cx="851868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intain principles of youth development 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ove away from assumptions about youth and social networks, and create a strategy with goals and tactic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Organizing people takes time, online and offline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Youth eAdvocacy Video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49400" y="1828800"/>
            <a:ext cx="7021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06640" y="41724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35320" y="1854360"/>
            <a:ext cx="6673680" cy="4846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webinar is envisioned as a dialo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0160" indent="-208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 want your input as much as po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0160" indent="-208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specially if and when we use technical jargon, terminology and concepts you don't know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limitations and caveats of online organiz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angible ways to engage and sustain online advoc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hare engagement asks and tac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74680"/>
            <a:ext cx="7653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1533600"/>
            <a:ext cx="822816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22160"/>
            <a:ext cx="8518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ver forget who is left out by online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9880" indent="-210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9880" indent="-210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600" y="9180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6240" y="1218960"/>
            <a:ext cx="82278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1280" y="32868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 Campaign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736280"/>
            <a:ext cx="85186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Decision Mak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for an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ucat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aise Fun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e Volunte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1280" y="-3636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3" name=""/>
          <p:cNvSpPr/>
          <p:nvPr/>
        </p:nvSpPr>
        <p:spPr>
          <a:xfrm>
            <a:off x="1312920" y="5403960"/>
            <a:ext cx="2279520" cy="113508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0640" y="4268880"/>
            <a:ext cx="1261800" cy="9414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52680" y="4257720"/>
            <a:ext cx="1263600" cy="9396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674720" y="5160960"/>
            <a:ext cx="77760" cy="4269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54240" y="5117760"/>
            <a:ext cx="7920" cy="4208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45080" y="5386320"/>
            <a:ext cx="2278080" cy="11448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2000" y="425124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427212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962320" y="5164200"/>
            <a:ext cx="58680" cy="3729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02600" y="5189040"/>
            <a:ext cx="34920" cy="4208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4480" y="5548320"/>
            <a:ext cx="81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00620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978600" y="2487600"/>
            <a:ext cx="126216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34672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280" y="4222800"/>
            <a:ext cx="1242720" cy="8319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30560" y="4206960"/>
            <a:ext cx="131760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414440" y="5032440"/>
            <a:ext cx="209520" cy="3808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503440" y="4997520"/>
            <a:ext cx="206280" cy="403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9120" y="2568600"/>
            <a:ext cx="2076480" cy="10335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6440" y="1501920"/>
            <a:ext cx="133200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2560" y="1523880"/>
            <a:ext cx="126216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022400" y="2323800"/>
            <a:ext cx="169920" cy="4158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76360" y="2340000"/>
            <a:ext cx="208080" cy="3571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86160" y="2517840"/>
            <a:ext cx="190800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1120" y="5248440"/>
            <a:ext cx="183852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70680" y="532764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3440" y="4264200"/>
            <a:ext cx="130176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391440" y="5086440"/>
            <a:ext cx="288720" cy="301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900000">
            <a:off x="5427360" y="2384280"/>
            <a:ext cx="137952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39000" y="3025800"/>
            <a:ext cx="174600" cy="3096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907240" y="2714760"/>
            <a:ext cx="320400" cy="3664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932440" y="2432160"/>
            <a:ext cx="17460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500960" y="3038400"/>
            <a:ext cx="216000" cy="3096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26160" y="2852640"/>
            <a:ext cx="279720" cy="2397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464240" y="2700000"/>
            <a:ext cx="379080" cy="2048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 </dc:description>
  <dc:language>en-US</dc:language>
  <cp:lastModifiedBy/>
  <dcterms:modified xsi:type="dcterms:W3CDTF">2014-08-28T15:20:25Z</dcterms:modified>
  <cp:revision>2</cp:revision>
  <dc:subject/>
  <dc:title>Aspiration Online Campaign Tactics</dc:title>
</cp:coreProperties>
</file>