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DCFC5-8952-48C5-85B7-FA3D4F028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Advoca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alendaring Campaign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uild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known events and milesto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fixed dates you know you'll messag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lot in support content to complement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se message dates are subject to chan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list segments for “micro-targeting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s to segments impact larger calenda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volve the calendar as campaign develo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main flexible, adapt to feedback &amp; resul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4974" b="0"/>
          <a:stretch/>
        </p:blipFill>
        <p:spPr>
          <a:xfrm>
            <a:off x="189000" y="1189080"/>
            <a:ext cx="85122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ntent Calendar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hannel Calendar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volv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You can't know the future when you calendar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calendar must be adapta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Be ready to respond to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 developments in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ift in organizational prior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urrent events: tie breaking news to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alendar changes must be transpar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ll stakeholders need to know what and wh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pport”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upport content is used for messaging during “down times” or lulls in the campaign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Education piec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bout your issue, your target(s), your other wor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Donation appeal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Non-tactical online engagemen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gn a petition, take a survey, spread the wor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hout-outs for allies and related caus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72520"/>
            <a:ext cx="85201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ample Campaign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96360" cy="34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gagement Cycl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people engage online, reciprocate with an online engagement cyc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engagement should map to their activ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ossible cycles 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Take-Ac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ail Sign-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ay-of-Action Event Host and Participant cyc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last Pre-Send Time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a message is going out on date X, what needs to be ready when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development: Content author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mplate selected/design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mages and other media assets ready to g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-through page and content ready to g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tegration of all the above to be blast-read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sting, testing, testing...Blast!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last Pre-Send Time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ample Timeline for scheduled blast (YMMV)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ent authored: 7-14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mplate selected/designed: 5-7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mages and other media assets: 4-5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-through page and content: 3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tegration: 2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sting, testing, testing: day befor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last!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last Post-Send Time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Verify blast processed by mailing hos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replies: immediately and alway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open/clickthru rates after 12-24 hou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unsub count on list after 1-3 day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sess effectiveness of blast after 2-4 day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djust future calendar items based on results and learning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5200" y="1455840"/>
            <a:ext cx="7451640" cy="397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58680" y="1455840"/>
            <a:ext cx="7204320" cy="397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27120" y="1455840"/>
            <a:ext cx="42674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65360" y="1254240"/>
            <a:ext cx="5649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ectio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"/>
          <p:cNvSpPr/>
          <p:nvPr/>
        </p:nvSpPr>
        <p:spPr>
          <a:xfrm>
            <a:off x="299880" y="1455840"/>
            <a:ext cx="85377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mpaign Calendar gives pace and structure to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lendar Process makes for sustainable calendars and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Enhance with “support content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dapt schedule as campaign evolv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ollow pre-send and post-send time li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Campaign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Calendar Proces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nderstand the need to adapt schedu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a sample campaign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pre-send and post-send time li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mpaign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mpaign Calendar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scheduled set of dates with planned email messages, online actions and other engagements that you maintain across a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lendars allow you t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stain consistent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ordinate internal processes and projec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void list fatigu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Calenda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s a consistent presence in your contacts’ inboxes (you don’t want to appear once a year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sure that programs and campaigns are messaged and not forgot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truct a single email with multiple people providing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28120" indent="-205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the role that internet will play in your messaging and mobilization strateg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28120" indent="-205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aracterize your online campaign calendar as a story that spans your timelin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03960" indent="-205560">
              <a:lnSpc>
                <a:spcPct val="108000"/>
              </a:lnSpc>
              <a:spcBef>
                <a:spcPts val="700"/>
              </a:spcBef>
              <a:buSzPct val="124409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Khmer UI"/>
              </a:rPr>
              <a:t>We’ll do general education 3 months out, get supporters focused with online actions 2 months out, then pump up email delivery frequency in the 4 weeks leading up to mobilization date”</a:t>
            </a:r>
            <a:endParaRPr b="0" lang="en-US" sz="1800" spc="-1" strike="noStrike">
              <a:solidFill>
                <a:srgbClr val="000000"/>
              </a:solidFill>
              <a:latin typeface="Khmer UI"/>
            </a:endParaRPr>
          </a:p>
          <a:p>
            <a:pPr marL="528120" indent="-205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your message arc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03960" indent="-205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are you educating and moving your base towards action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xample of a Message Arc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new law is on the ballot and it’s horrible! Sign our pet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at all these signatures we’ve received! Help us email our lawmakers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vote is tomorrow! Come and show your oppos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won! The law didn’t pass! Help us continue this important work by donating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ering is the art of scheduling the known together with the unknow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initial calendar, then evolve ove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a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often will you hit your list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will you escalate delivery rat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ead-up and follow-up around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en is the finish line? Is there on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manages the calendar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is the role and responsibilities?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re they empowered to resolve the following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the process for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dding messages to the calendar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solving conflicts - what gets bump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alancing campaign goals with list fatigu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oring and tracking calendar milestone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9:43:15Z</dcterms:modified>
  <cp:revision>6</cp:revision>
  <dc:subject/>
  <dc:title>Aspiration Calendaring Campaigns</dc:title>
</cp:coreProperties>
</file>