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EEC6D-0621-42D2-A438-34FD6FCCF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7" name=""/>
          <p:cNvSpPr/>
          <p:nvPr/>
        </p:nvSpPr>
        <p:spPr>
          <a:xfrm>
            <a:off x="685800" y="4343400"/>
            <a:ext cx="54561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9" name=""/>
          <p:cNvSpPr/>
          <p:nvPr/>
        </p:nvSpPr>
        <p:spPr>
          <a:xfrm>
            <a:off x="685800" y="4343400"/>
            <a:ext cx="54561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5" name=""/>
          <p:cNvSpPr/>
          <p:nvPr/>
        </p:nvSpPr>
        <p:spPr>
          <a:xfrm>
            <a:off x="685800" y="4343400"/>
            <a:ext cx="54561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7" name=""/>
          <p:cNvSpPr/>
          <p:nvPr/>
        </p:nvSpPr>
        <p:spPr>
          <a:xfrm>
            <a:off x="685800" y="4343400"/>
            <a:ext cx="54561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9" name=""/>
          <p:cNvSpPr/>
          <p:nvPr/>
        </p:nvSpPr>
        <p:spPr>
          <a:xfrm>
            <a:off x="685800" y="4343400"/>
            <a:ext cx="54561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340000">
            <a:off x="-1114560" y="7776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8000"/>
          </a:bodyPr>
          <a:p>
            <a:pPr marL="23328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 rot="5400000">
            <a:off x="4809960" y="2564640"/>
            <a:ext cx="8226360" cy="53640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4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Advocac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00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alendaring Campaigns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612792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Building the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50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dentify known events and mileston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at are fixed dates you know you'll message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lot in support content to complement pac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hese message dates are subject to chang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dentify list segments for “micro-targeting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essages to segments impact larger calendar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volve the calendar as campaign develop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Remain flexible, adapt to feedback &amp; resul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4974" b="0"/>
          <a:stretch/>
        </p:blipFill>
        <p:spPr>
          <a:xfrm>
            <a:off x="189000" y="1189080"/>
            <a:ext cx="851220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Content Calendaring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Channel Calendaring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volving the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4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You can't know the future when you calendar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Your calendar must be adaptab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Be ready to respond to: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New developments in campaig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hift in organizational prioriti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urrent events: tie breaking news to campaig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Calendar changes must be transparent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ll stakeholders need to know what and wh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Support” Cont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Support content is used for messaging during “down times” or lulls in the campaign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Education piece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bout your issue, your target(s), your other wor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Donation appeal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Non-tactical online engagement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ign a petition, take a survey, spread the wor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Shout-outs for allies and related cause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72520"/>
            <a:ext cx="85201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Sample Campaign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96360" cy="34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ngagement Cycl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en people engage online, reciprocate with an online engagement cycl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Your engagement should map to their activit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ossible cycles include: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nline Take-Action cyc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mail Sign-On cyc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onation cyc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ay-of-Action Event Host and Participant cycl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Blast Pre-Send Time Lin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f a message is going out on date X, what needs to be ready when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essage development: Content authore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emplate selected/designe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mages and other media assets ready to go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lick-through page and content ready to go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tegration of all the above to be blast-read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esting, testing, testing...Blast!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Blast Pre-Send Time Lin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ample Timeline for scheduled blast (YMMV)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ntent authored: 7-14 days ou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emplate selected/designed: 5-7 days ou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mages and other media assets: 4-5 days ou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lick-through page and content: 3 days ou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tegration: 2 days ou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esting, testing, testing: day befor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Blast!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Blast Post-Send Time Lin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Verify blast processed by mailing hos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heck replies: immediately and alway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heck open/clickthru rates after 12-24 hour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heck unsub count on list after 1-3 day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sess effectiveness of blast after 2-4 day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djust future calendar items based on results and learning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5200" y="1455840"/>
            <a:ext cx="7451640" cy="397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lendaring Templat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58680" y="1455840"/>
            <a:ext cx="7204320" cy="397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lendaring Templat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427120" y="1455840"/>
            <a:ext cx="42674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lendaring Templat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65360" y="1254240"/>
            <a:ext cx="5649840" cy="52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Section Summar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1" name=""/>
          <p:cNvSpPr/>
          <p:nvPr/>
        </p:nvSpPr>
        <p:spPr>
          <a:xfrm>
            <a:off x="299880" y="1455840"/>
            <a:ext cx="853776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Campaign Calendar gives pace and structure to campaig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Calendar Process makes for sustainable calendars and campaig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Enhance with “support content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Adapt schedule as campaign evolv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Follow pre-send and post-send time lin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35360" y="2034720"/>
            <a:ext cx="58500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Learning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fine Campaign Calenda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iscuss Calendar Proces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nderstand the need to adapt schedul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eview a sample campaign calenda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earn pre-send and post-send time lin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mpaign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ampaign Calendar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 scheduled set of dates with planned email messages, online actions and other engagements that you maintain across a campaig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alendars allow you to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ustain consistent messagin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ordinate internal processes and projec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void list fatigu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Why Calendar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eps a consistent presence in your contacts’ inboxes (you don’t want to appear once a year)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nsure that programs and campaigns are messaged and not forgotte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nstruct a single email with multiple people providing cont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lendaring Proces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7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528120" indent="-2055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fine the role that internet will play in your messaging and mobilization strategi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28120" indent="-2055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haracterize your online campaign calendar as a story that spans your timeline: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03960" indent="-205560">
              <a:lnSpc>
                <a:spcPct val="108000"/>
              </a:lnSpc>
              <a:spcBef>
                <a:spcPts val="700"/>
              </a:spcBef>
              <a:buSzPct val="124409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Khmer UI"/>
              </a:rPr>
              <a:t>We’ll do general education 3 months out, get supporters focused with online actions 2 months out, then pump up email delivery frequency in the 4 weeks leading up to mobilization date”</a:t>
            </a:r>
            <a:endParaRPr b="0" lang="en-US" sz="1800" spc="-1" strike="noStrike">
              <a:solidFill>
                <a:srgbClr val="000000"/>
              </a:solidFill>
              <a:latin typeface="Khmer UI"/>
            </a:endParaRPr>
          </a:p>
          <a:p>
            <a:pPr marL="528120" indent="-2055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now your message arc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03960" indent="-2055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w are you educating and moving your base towards action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xample of a Message Arc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 new law is on the ballot and it’s horrible! Sign our petition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ook at all these signatures we’ve received! Help us email our lawmakers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e vote is tomorrow! Come and show your opposition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won! The law didn’t pass! Help us continue this important work by donating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lendaring Proces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essage calendering is the art of scheduling the known together with the unknow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reate initial calendar, then evolve over tim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stablish a pac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w often will you hit your list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en will you escalate delivery rate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Lead-up and follow-up around even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en is the finish line? Is there one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lendar Proces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manages the calendar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at is the role and responsibilities?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re they empowered to resolve the following...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is the process for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dding messages to the calendar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Resolving conflicts - what gets bumped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Balancing campaign goals with list fatigue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oring and tracking calendar milestones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hese training materials have been prepared by Aspiration. These materials are distributed under a Creative Commons license:  Attribution-ShareAlike</dc:description>
  <dc:language>en-US</dc:language>
  <cp:lastModifiedBy/>
  <dcterms:modified xsi:type="dcterms:W3CDTF">2014-06-24T19:43:15Z</dcterms:modified>
  <cp:revision>6</cp:revision>
  <dc:subject/>
  <dc:title>Aspiration Calendaring Campaigns</dc:title>
</cp:coreProperties>
</file>