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BFB41-60CD-4D14-908D-A340591A1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95280" y="765000"/>
            <a:ext cx="5166000" cy="37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9840" cy="3765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343400"/>
            <a:ext cx="54594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343400"/>
            <a:ext cx="54594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1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685800" y="4343400"/>
            <a:ext cx="54561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685800" y="4343400"/>
            <a:ext cx="545004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7056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5760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685800" y="4343400"/>
            <a:ext cx="547056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5400000">
            <a:off x="48124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valianttry.us/?p=42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hyperlink" Target="http://j.mp/1d5ENsv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7920" y="4065480"/>
            <a:ext cx="1985760" cy="1970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35360" y="758880"/>
            <a:ext cx="58514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alendaring Your Messaging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4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5120" y="2487600"/>
            <a:ext cx="2845080" cy="3265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71760" y="2709720"/>
            <a:ext cx="2197080" cy="3773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94200" y="4741920"/>
            <a:ext cx="3086280" cy="130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8080" y="1609560"/>
            <a:ext cx="2655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82800" bIns="82800" anchor="t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ll ‘em what you’re going to tell ‘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4200" y="3714840"/>
            <a:ext cx="31435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82800" bIns="82800" anchor="t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ll ‘em what you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ld ‘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5200" y="2136600"/>
            <a:ext cx="16938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82800" bIns="82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ll ‘em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ell 'em Tri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gagement Cycl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n people engage online, reciprocate with an online engagement cyc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engagement should map to their activit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9280" indent="-209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ossible cycles includ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Take-Acti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ail Sign-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ation cyc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23400" indent="-209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ay-of-Action Event Host and Participant cycl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calendering is the art of scheduling the known together with the unknow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initial calendar, then evolve over ti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 a pa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often will you hit your list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n will you escalate delivery rate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Lead-up and follow-up around ev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en is the finish line? Is there on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uilding th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50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505440" indent="-196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known events and mileston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65440" indent="-1969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re fixed dates you know you'll messag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05440" indent="-196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lot in support content to complement pa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65440" indent="-1969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hese message dates are subject to chang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05440" indent="-196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list segments for “micro-targeting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65440" indent="-1969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Messages to specific audiences for larger impac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05440" indent="-1969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volve the calendar as campaign develop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65440" indent="-1969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main flexible, adapt to feedback &amp; resul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1680" y="2185920"/>
            <a:ext cx="8518320" cy="2516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hannel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Message Calenda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s a consistent presence in your contacts’ inboxes (you don’t want to appear once a year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sure that programs and campaigns are messaged and not forgott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truct a single email with multiple people providing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an a “message arc” for your end of year “story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-36720"/>
            <a:ext cx="752328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alendaring in Pract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Javier shares his experience with using a Message Calenda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View Aspiration's Actual Message Calenda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manages the calendar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is the role and responsibilities?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re they empowered to resolve the following..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the process for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dding messages to the calendar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solving conflicts - what gets bump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alancing campaign goals with list fatigue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oring and tracking calendar milestone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volving th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You can't know the future when you calendar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calendar must be adapta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Be ready to respond to: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w developments in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ift in organizational priorit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urrent events: tie breaking news to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Calendar changes must be transparent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ll stakeholders need to know what and why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1680" y="1819440"/>
            <a:ext cx="8518320" cy="3252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1680" y="1830240"/>
            <a:ext cx="8518320" cy="3227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4716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d of Year Fundraising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320" y="1274760"/>
            <a:ext cx="852012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zilla shared their end of year fundraising campaign calendar with their communit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2162520" indent="-20808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egoe UI"/>
              <a:buChar char="»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Sourc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Khmer UI"/>
                <a:hlinkClick r:id="rId2"/>
              </a:rPr>
              <a:t>http://valianttry.us/?p=42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22600" y="2590920"/>
            <a:ext cx="568476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63720" y="1455840"/>
            <a:ext cx="7194600" cy="397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-36720"/>
            <a:ext cx="752328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Programmatic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32160" y="1455840"/>
            <a:ext cx="4257720" cy="397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bined 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d of Year Fundraising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1680" y="2276640"/>
            <a:ext cx="85183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upport” Cont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upport content is used for messaging during “down times” or lulls in the campaign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Education piec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bout your issue, your target(s), your other wor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Donation appeal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Non-tactical online engagement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ign a petition, take a survey, spread the wor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hout-outs for allies and related caus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1880" y="1782720"/>
            <a:ext cx="7607160" cy="3978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320" y="4716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upport Content Calendar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320" y="1274400"/>
            <a:ext cx="852012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lining Institute's Content Schedu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about the Social Media Toolkit -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j.mp/1d5ENs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ection 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201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ampaign Calendar gives pace and structure to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alendar Process makes for sustainable calendars and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Adapt templates to fit your need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Enhance with “support content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Adapt schedule as campaign evolv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28960" y="2035080"/>
            <a:ext cx="585000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Messaging Calenda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Calendar Proces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nderstand the need to adapt schedu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a sample calenda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92080" y="118440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07240" y="396720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89412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99240" y="3073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98720" y="496728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43280" y="301608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88080" y="4437000"/>
            <a:ext cx="1928880" cy="198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63760" y="445608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essage Calendar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scheduled set of dates with planned email messages, online actions and other engagements that you maintain across a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lendars allow you to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stain consistent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ordinate internal processes and projec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void list fatigu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ample Campaign Calenda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1680" y="1719360"/>
            <a:ext cx="851832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lendaring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347480"/>
            <a:ext cx="85183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fine the role that internet will play in your messaging and mobilization strateg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haracterize your online campaign calendar as a story that spans your timeline: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Khmer UI"/>
              </a:rPr>
              <a:t>We’ll do general education 3 months out, get supporters focused with online actions 2 months out, then pump up email delivery frequency in the 4 weeks leading up to mobilization date</a:t>
            </a:r>
            <a:r>
              <a:rPr b="0" lang="en-US" sz="2500" spc="-1" strike="noStrike">
                <a:solidFill>
                  <a:srgbClr val="000000"/>
                </a:solidFill>
                <a:latin typeface="Khmer UI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your message arc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Khmer UI"/>
              </a:rPr>
              <a:t>How are you educating and moving your base towards action?</a:t>
            </a:r>
            <a:endParaRPr b="0" lang="en-US" sz="25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xample of a Message Arc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new law is on the ballot and it’s horrible! Sign our petition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ook at all these signatures we’ve received! Help us email our lawmakers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vote is tomorrow! Come and show your opposition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won! The law didn’t pass! Help us continue this important work by donating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ell 'em Tri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ll 'em what you're going to tell '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x. “We're planning our next set of trainings, what topics would most interest you?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ll '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x. “Thanks for your feed back! Here are our upcoming trainings offerings.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n, Tell 'em what you told 'e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Ex. “We had a great training series, here are the materials we covered. Let us know what you think!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.
 These materials are distributed under a Creative Commons license:  Attribution-ShareAlike</dc:description>
  <dc:language>en-US</dc:language>
  <cp:lastModifiedBy/>
  <dcterms:modified xsi:type="dcterms:W3CDTF">2014-07-25T17:29:51Z</dcterms:modified>
  <cp:revision>13</cp:revision>
  <dc:subject/>
  <dc:title>Aspiration Calendaring your Messaging</dc:title>
</cp:coreProperties>
</file>