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876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38811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11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CCCC5-52FA-4BB2-BB7B-EB6240B21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95280" y="765000"/>
            <a:ext cx="5166000" cy="37674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7796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19840" cy="3765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4343400"/>
            <a:ext cx="54594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9" name=""/>
          <p:cNvSpPr/>
          <p:nvPr/>
        </p:nvSpPr>
        <p:spPr>
          <a:xfrm>
            <a:off x="685800" y="4343400"/>
            <a:ext cx="54561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4343400"/>
            <a:ext cx="54594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7" name=""/>
          <p:cNvSpPr/>
          <p:nvPr/>
        </p:nvSpPr>
        <p:spPr>
          <a:xfrm>
            <a:off x="685800" y="4343400"/>
            <a:ext cx="54561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9" name=""/>
          <p:cNvSpPr/>
          <p:nvPr/>
        </p:nvSpPr>
        <p:spPr>
          <a:xfrm>
            <a:off x="685800" y="4343400"/>
            <a:ext cx="54561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1" name=""/>
          <p:cNvSpPr/>
          <p:nvPr/>
        </p:nvSpPr>
        <p:spPr>
          <a:xfrm>
            <a:off x="685800" y="4343400"/>
            <a:ext cx="54561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3" name=""/>
          <p:cNvSpPr/>
          <p:nvPr/>
        </p:nvSpPr>
        <p:spPr>
          <a:xfrm>
            <a:off x="685800" y="4343400"/>
            <a:ext cx="54561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5" name=""/>
          <p:cNvSpPr/>
          <p:nvPr/>
        </p:nvSpPr>
        <p:spPr>
          <a:xfrm>
            <a:off x="685800" y="4343400"/>
            <a:ext cx="545004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7" name=""/>
          <p:cNvSpPr/>
          <p:nvPr/>
        </p:nvSpPr>
        <p:spPr>
          <a:xfrm>
            <a:off x="685800" y="4343400"/>
            <a:ext cx="547056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7" name=""/>
          <p:cNvSpPr/>
          <p:nvPr/>
        </p:nvSpPr>
        <p:spPr>
          <a:xfrm>
            <a:off x="685800" y="4343400"/>
            <a:ext cx="547056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1248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896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350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1248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896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248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896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350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1248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896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5400000">
            <a:off x="4812480" y="2565360"/>
            <a:ext cx="8226360" cy="53496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1320" y="120600"/>
            <a:ext cx="752148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1680" y="1455840"/>
            <a:ext cx="85168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 rot="5340000">
            <a:off x="-1114560" y="77760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4000"/>
          </a:bodyPr>
          <a:p>
            <a:pPr marL="21924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image" Target="../media/image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valianttry.us/?p=42" TargetMode="Externa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4.png"/><Relationship Id="rId3" Type="http://schemas.openxmlformats.org/officeDocument/2006/relationships/hyperlink" Target="http://j.mp/1d5ENsv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7920" y="4065480"/>
            <a:ext cx="1985760" cy="1970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35360" y="758880"/>
            <a:ext cx="585144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mmunications Process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35360" y="2432160"/>
            <a:ext cx="5851440" cy="2060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alendaring Your Messaging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4" name=""/>
          <p:cNvSpPr/>
          <p:nvPr/>
        </p:nvSpPr>
        <p:spPr>
          <a:xfrm>
            <a:off x="3033720" y="6129360"/>
            <a:ext cx="4114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497720" y="6199200"/>
            <a:ext cx="13716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5120" y="2487600"/>
            <a:ext cx="2845080" cy="3265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371760" y="2709720"/>
            <a:ext cx="2197080" cy="3773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794200" y="4741920"/>
            <a:ext cx="3086280" cy="1306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08080" y="1609560"/>
            <a:ext cx="26557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82800" bIns="82800" anchor="t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ell ‘em what you’re going to tell ‘e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4200" y="3714840"/>
            <a:ext cx="31435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82800" bIns="82800" anchor="t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ell ‘em what you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ld ‘e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5200" y="2136600"/>
            <a:ext cx="16938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82800" bIns="82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ell ‘em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ell 'em Tripl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ngagement Cycl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539280" indent="-209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en people engage online, reciprocate with an online engagement cycl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Your engagement should map to their activit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39280" indent="-209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ossible cycles include: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Online Take-Action cyc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Email Sign-On cyc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onation cyc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ay-of-Action Event Host and Participant cycl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lendaring Proces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essage calendering is the art of scheduling the known together with the unknow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reate initial calendar, then evolve over tim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stablish a pac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ow often will you hit your list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en will you escalate delivery rate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Lead-up and follow-up around even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en is the finish line? Is there one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Building the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50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505440" indent="-1969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dentify known events and mileston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865440" indent="-1969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at are fixed dates you know you'll message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05440" indent="-1969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lot in support content to complement pac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865440" indent="-1969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hese message dates are subject to chang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05440" indent="-1969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dentify list segments for “micro-targeting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865440" indent="-1969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Messages to specific audiences for larger impac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05440" indent="-1969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volve the calendar as campaign develop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865440" indent="-1969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Remain flexible, adapt to feedback &amp; resul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1680" y="2185920"/>
            <a:ext cx="8518320" cy="25164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hannel Message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Why Message Calendar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eeps a consistent presence in your contacts’ inboxes (you don’t want to appear once a year)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nsure that programs and campaigns are messaged and not forgotte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nstruct a single email with multiple people providing cont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lan a “message arc” for your end of year “story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-36720"/>
            <a:ext cx="752328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essage Calendaring in Practi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Javier shares his experience with using a Message Calenda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View Aspiration's Actual Message Calendar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lendar Proces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o manages the calendar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at is the role and responsibilities?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re they empowered to resolve the following...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at is the process for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dding messages to the calendar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Resolving conflicts - what gets bumped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Balancing campaign goals with list fatigue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oring and tracking calendar milestones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volving the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4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You can't know the future when you calendar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Your calendar must be adaptab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Be ready to respond to: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New developments in campaig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hift in organizational prioriti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urrent events: tie breaking news to campaig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Calendar changes must be transparent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ll stakeholders need to know what and wh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1680" y="1819440"/>
            <a:ext cx="8518320" cy="3252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Message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1680" y="1830240"/>
            <a:ext cx="8518320" cy="32274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Message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320" y="47160"/>
            <a:ext cx="8520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nd of Year Fundraising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320" y="1274760"/>
            <a:ext cx="852012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533520" indent="-207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ozilla shared their end of year fundraising campaign calendar with their communit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3352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3352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3352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3352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3352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3352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2162520" indent="-208080">
              <a:lnSpc>
                <a:spcPct val="108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Segoe UI"/>
              <a:buChar char="»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Source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Khmer UI"/>
                <a:hlinkClick r:id="rId2"/>
              </a:rPr>
              <a:t>http://valianttry.us/?p=42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722600" y="2590920"/>
            <a:ext cx="5684760" cy="34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63720" y="1455840"/>
            <a:ext cx="7194600" cy="397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-36720"/>
            <a:ext cx="752328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Programmatic Message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432160" y="1455840"/>
            <a:ext cx="4257720" cy="397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mbined Message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nd of Year Fundraising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01680" y="2276640"/>
            <a:ext cx="8518320" cy="23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Support” Cont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50440" indent="-21420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Support content is used for messaging during “down times” or lulls in the campaign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Education piece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bout your issue, your target(s), your other work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Donation appeal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Non-tactical online engagement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ign a petition, take a survey, spread the wor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Shout-outs for allies and related cause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1880" y="1782720"/>
            <a:ext cx="7607160" cy="3978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320" y="47160"/>
            <a:ext cx="8520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Support Content Calendaring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320" y="1274400"/>
            <a:ext cx="852012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lining Institute's Content Schedul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1348560" indent="-2167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about the Social Media Toolkit -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j.mp/1d5ENs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Section Summar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85201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Campaign Calendar gives pace and structure to campaig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Calendar Process makes for sustainable calendars and campaig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Adapt templates to fit your need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Enhance with “support content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Adapt schedule as campaign evolv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906640" y="632880"/>
            <a:ext cx="60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928960" y="2035080"/>
            <a:ext cx="5850000" cy="3641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19040" y="1006560"/>
            <a:ext cx="182880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Learning 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fine Messaging Calenda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iscuss Calendar Proces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Understand the need to adapt schedul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eview a sample calendar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50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142920"/>
            <a:ext cx="82278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our Process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20680" y="1455840"/>
            <a:ext cx="1843200" cy="1809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07160" y="1433520"/>
            <a:ext cx="1842840" cy="1797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92080" y="1184400"/>
            <a:ext cx="2425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dience Assess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07240" y="3967200"/>
            <a:ext cx="20430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ssage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95360" y="3894120"/>
            <a:ext cx="20811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cking &amp; Me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69000" y="1204920"/>
            <a:ext cx="199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shing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62360" y="2038320"/>
            <a:ext cx="1557360" cy="446040"/>
          </a:xfrm>
          <a:prstGeom prst="rightArrow">
            <a:avLst>
              <a:gd name="adj1" fmla="val 50000"/>
              <a:gd name="adj2" fmla="val 87288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99240" y="3073320"/>
            <a:ext cx="357120" cy="806400"/>
          </a:xfrm>
          <a:prstGeom prst="downArrow">
            <a:avLst>
              <a:gd name="adj1" fmla="val 50000"/>
              <a:gd name="adj2" fmla="val 56452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98720" y="4967280"/>
            <a:ext cx="1567080" cy="455760"/>
          </a:xfrm>
          <a:prstGeom prst="leftArrow">
            <a:avLst>
              <a:gd name="adj1" fmla="val 50000"/>
              <a:gd name="adj2" fmla="val 85960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43280" y="3016080"/>
            <a:ext cx="345960" cy="844560"/>
          </a:xfrm>
          <a:prstGeom prst="upArrow">
            <a:avLst>
              <a:gd name="adj1" fmla="val 50000"/>
              <a:gd name="adj2" fmla="val 61030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788080" y="4437000"/>
            <a:ext cx="1928880" cy="1986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463760" y="4456080"/>
            <a:ext cx="1763640" cy="17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essage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essage Calendar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 scheduled set of dates with planned email messages, online actions and other engagements that you maintain across a campaig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alendars allow you to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ustain consistent messagin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oordinate internal processes and projec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void list fatigu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Sample Campaign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1680" y="1719360"/>
            <a:ext cx="8518320" cy="34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lendaring Proces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347480"/>
            <a:ext cx="851832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efine the role that internet will play in your messaging and mobilization strategi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haracterize your online campaign calendar as a story that spans your timeline: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Khmer UI"/>
              </a:rPr>
              <a:t>We’ll do general education 3 months out, get supporters focused with online actions 2 months out, then pump up email delivery frequency in the 4 weeks leading up to mobilization date</a:t>
            </a:r>
            <a:r>
              <a:rPr b="0" lang="en-US" sz="2500" spc="-1" strike="noStrike">
                <a:solidFill>
                  <a:srgbClr val="000000"/>
                </a:solidFill>
                <a:latin typeface="Khmer UI"/>
              </a:rPr>
              <a:t>”</a:t>
            </a:r>
            <a:endParaRPr b="0" lang="en-US" sz="25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Know your message arc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Khmer UI"/>
              </a:rPr>
              <a:t>How are you educating and moving your base towards action?</a:t>
            </a:r>
            <a:endParaRPr b="0" lang="en-US" sz="25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xample of a Message Arc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 new law is on the ballot and it’s horrible! Sign our petition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ook at all these signatures we’ve received! Help us email our lawmakers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e vote is tomorrow! Come and show your opposition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won! The law didn’t pass! Help us continue this important work by donating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ell 'em Tripl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533520" indent="-207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ell 'em what you're going to tell 'em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13680" indent="-207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Ex. “We're planning our next set of trainings, what topics would most interest you?”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33520" indent="-207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ell 'em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13680" indent="-207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Ex. “Thanks for your feed back! Here are our upcoming trainings offerings.”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33520" indent="-207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en, Tell 'em what you told 'em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13680" indent="-207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Ex. “We had a great training series, here are the materials we covered. Let us know what you think!”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These training materials have been prepared by Aspiration.
 These materials are distributed under a Creative Commons license:  Attribution-ShareAlike</dc:description>
  <dc:language>en-US</dc:language>
  <cp:lastModifiedBy/>
  <dcterms:modified xsi:type="dcterms:W3CDTF">2014-07-25T17:29:51Z</dcterms:modified>
  <cp:revision>13</cp:revision>
  <dc:subject/>
  <dc:title>Aspiration Calendaring your Messaging</dc:title>
</cp:coreProperties>
</file>