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94920" y="763200"/>
            <a:ext cx="517860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4398840" y="-3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9554760"/>
            <a:ext cx="33685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398840" y="9554760"/>
            <a:ext cx="3368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95AED-864C-4CCB-84B8-105D31A85E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4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1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5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7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59" name="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61" name=""/>
          <p:cNvSpPr/>
          <p:nvPr/>
        </p:nvSpPr>
        <p:spPr>
          <a:xfrm>
            <a:off x="777960" y="4776840"/>
            <a:ext cx="6218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19" name=""/>
          <p:cNvSpPr/>
          <p:nvPr/>
        </p:nvSpPr>
        <p:spPr>
          <a:xfrm>
            <a:off x="777960" y="4776840"/>
            <a:ext cx="619920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776160" y="4776840"/>
            <a:ext cx="62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95280" y="763560"/>
            <a:ext cx="5180040" cy="3770280"/>
          </a:xfrm>
          <a:prstGeom prst="rect">
            <a:avLst/>
          </a:prstGeom>
          <a:ln w="0">
            <a:noFill/>
          </a:ln>
        </p:spPr>
      </p:sp>
      <p:sp>
        <p:nvSpPr>
          <p:cNvPr id="223" name=""/>
          <p:cNvSpPr/>
          <p:nvPr/>
        </p:nvSpPr>
        <p:spPr>
          <a:xfrm>
            <a:off x="776160" y="4776840"/>
            <a:ext cx="62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8584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58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56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8584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0568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85840" y="26812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1258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30568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485840" y="5442480"/>
            <a:ext cx="207576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5000"/>
          </a:bodyPr>
          <a:p>
            <a:pPr marL="25704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25880" y="934560"/>
            <a:ext cx="64468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29600" y="54424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29600" y="2681280"/>
            <a:ext cx="314604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2000"/>
          </a:bodyPr>
          <a:p>
            <a:pPr marL="31536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5880" y="5442480"/>
            <a:ext cx="6446880" cy="25214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226880" y="857160"/>
            <a:ext cx="6351480" cy="42336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316080" y="3224160"/>
            <a:ext cx="4032360" cy="43354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25880" y="934560"/>
            <a:ext cx="64468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125880" y="2681280"/>
            <a:ext cx="644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1000"/>
          </a:bodyPr>
          <a:p>
            <a:pPr marL="209160" indent="0" algn="ctr">
              <a:lnSpc>
                <a:spcPct val="99000"/>
              </a:lnSpc>
              <a:spcAft>
                <a:spcPts val="15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1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2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3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4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5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  <a:p>
            <a:pPr lvl="6" marL="209160" indent="-209160" algn="ctr">
              <a:lnSpc>
                <a:spcPct val="99000"/>
              </a:lnSpc>
              <a:spcAft>
                <a:spcPts val="157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6137280"/>
            <a:ext cx="23418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5303520" y="2826360"/>
            <a:ext cx="9068040" cy="5940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1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31560" y="1604520"/>
            <a:ext cx="93884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8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43080" indent="-343080">
              <a:lnSpc>
                <a:spcPct val="106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638280" y="7251840"/>
            <a:ext cx="23191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281160"/>
            <a:ext cx="1100160" cy="522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597720" y="7246800"/>
            <a:ext cx="312588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3720" y="510840"/>
            <a:ext cx="6451560" cy="160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5640" y="2285640"/>
            <a:ext cx="74977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hmer UI"/>
              </a:rPr>
              <a:t>Coordinating Communications Channels</a:t>
            </a:r>
            <a:endParaRPr b="0" lang="en-US" sz="60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344760" y="6756480"/>
            <a:ext cx="4535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5960" y="6834240"/>
            <a:ext cx="151128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1920" y="23400"/>
            <a:ext cx="8292960" cy="17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at is a Publishing Matrix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1560" y="1820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can you operationalize these processes to make sure they happen consistently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 Publishing Matrix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A grid to help you figure out which communications channel to use for what type of message whether in a campaign or for an organizational standard as a whol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240" y="809640"/>
            <a:ext cx="9312120" cy="58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hanne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1920" y="2987640"/>
            <a:ext cx="939168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used to communicate with different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nline or Offlin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eNewsletter vs. paper newsletter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Organizational or Non-organizational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2" marL="1477800" indent="-21888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Khmer UI"/>
              </a:rPr>
              <a:t>Web site vs. Craigslist</a:t>
            </a:r>
            <a:endParaRPr b="0" lang="en-US" sz="29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31920" y="1763640"/>
            <a:ext cx="9391680" cy="9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ent Typ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1920" y="1604880"/>
            <a:ext cx="4581360" cy="50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inds of messages sent out to different audien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acilitate ac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1026360" indent="-2167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rganizational or non-organization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462680" indent="-216360">
              <a:lnSpc>
                <a:spcPct val="108000"/>
              </a:lnSpc>
              <a:spcBef>
                <a:spcPts val="663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rg update vs. recommending a partner resourc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585120" y="1604880"/>
            <a:ext cx="16984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Questions for Channe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Strangers? Fans? Funders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What value is it providing? Are they getting it somewhere els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one? Referring link? Full content piece?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520" y="914400"/>
            <a:ext cx="9312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ub. Matrix in Practi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Javier shares his experience with using a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View one of Aspiration's Publishing Matr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alking Through a Row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1920" y="3840120"/>
            <a:ext cx="939168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00120" y="2076480"/>
            <a:ext cx="875988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alking Through a Row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1920" y="3840120"/>
            <a:ext cx="939168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is our audience for this channe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 they want this type of conten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0760" indent="-2163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f yes, how should we deliver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03280" y="2227320"/>
            <a:ext cx="907092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ub. Matrix in Practi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t's build one together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ditable Publishing Matix Templ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https://aspirationtech.org/files/AspirationPubMatrixTemplate_0.xl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me content types are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eNewsletter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87320" y="3075120"/>
          <a:ext cx="8138880" cy="4012560"/>
        </p:xfrm>
        <a:graphic>
          <a:graphicData uri="http://schemas.openxmlformats.org/drawingml/2006/table">
            <a:tbl>
              <a:tblPr/>
              <a:tblGrid>
                <a:gridCol w="2135520"/>
                <a:gridCol w="2000880"/>
                <a:gridCol w="2000520"/>
                <a:gridCol w="2001960"/>
              </a:tblGrid>
              <a:tr h="81252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9960"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  <a:tr h="111996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  <a:tr h="96048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32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stead of an “X”, add example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an template Twitter Twee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3400" y="3360600"/>
          <a:ext cx="8542080" cy="3635280"/>
        </p:xfrm>
        <a:graphic>
          <a:graphicData uri="http://schemas.openxmlformats.org/drawingml/2006/table">
            <a:tbl>
              <a:tblPr/>
              <a:tblGrid>
                <a:gridCol w="2240280"/>
                <a:gridCol w="2100600"/>
                <a:gridCol w="1780200"/>
                <a:gridCol w="2421000"/>
              </a:tblGrid>
              <a:tr h="74664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6640">
                <a:tc>
                  <a:txBody>
                    <a:bodyPr lIns="36000" rIns="36000" tIns="351360" bIns="360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9052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351360" bIns="360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in us on &lt;date&gt; for &lt;event name&gt; ! &lt;link&gt; Can't wait to see you there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90520"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Al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2300"/>
                    </a:solidFill>
                  </a:tcPr>
                </a:tc>
                <a:tc>
                  <a:txBody>
                    <a:bodyPr lIns="36000" rIns="36000" tIns="562320" bIns="360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p us fight &lt;enemy&gt; by joining us to &lt;action&gt; this week! &lt;link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stead of “X” add the process of doing i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“Post Hosted Link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01800" y="3166920"/>
          <a:ext cx="8630640" cy="4290840"/>
        </p:xfrm>
        <a:graphic>
          <a:graphicData uri="http://schemas.openxmlformats.org/drawingml/2006/table">
            <a:tbl>
              <a:tblPr/>
              <a:tblGrid>
                <a:gridCol w="2251440"/>
                <a:gridCol w="2109960"/>
                <a:gridCol w="1970280"/>
                <a:gridCol w="2298960"/>
              </a:tblGrid>
              <a:tr h="81252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1320"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igs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11096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hosted version to “Newsletters”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74628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hosted link as a bit.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1256400"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to “Events”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 in the “Community Events” 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tIns="61848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st event page from web site as a bit.ly; cc: partner orgs to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ustomization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sign channels or content types to peopl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or example, Courtney is our web person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4320" y="3151080"/>
          <a:ext cx="9327600" cy="4665240"/>
        </p:xfrm>
        <a:graphic>
          <a:graphicData uri="http://schemas.openxmlformats.org/drawingml/2006/table">
            <a:tbl>
              <a:tblPr/>
              <a:tblGrid>
                <a:gridCol w="1982520"/>
                <a:gridCol w="1603800"/>
                <a:gridCol w="1905480"/>
                <a:gridCol w="1978200"/>
                <a:gridCol w="1857600"/>
              </a:tblGrid>
              <a:tr h="81360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315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0000" rIns="90000" tIns="618480" bIns="46800" anchor="ctr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s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760">
                <a:tc>
                  <a:txBody>
                    <a:bodyPr lIns="90000" rIns="90000" tIns="746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ssigned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674640"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ssigned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315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rt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s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  <a:tr h="106776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is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74628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  <a:tr h="961560"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Annou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3b8dc"/>
                    </a:solidFill>
                  </a:tcPr>
                </a:tc>
                <a:tc>
                  <a:txBody>
                    <a:bodyPr lIns="0" rIns="0" tIns="526320" bIns="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es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98a8a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4794"/>
                    </a:solidFill>
                  </a:tcPr>
                </a:tc>
                <a:tc>
                  <a:txBody>
                    <a:bodyPr lIns="90000" rIns="90000" tIns="618480" bIns="46800" anchor="ctr">
                      <a:noAutofit/>
                    </a:bodyPr>
                    <a:p>
                      <a:pPr algn="ctr">
                        <a:lnSpc>
                          <a:spcPct val="5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50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asic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12109"/>
              <a:buBlip>
                <a:blip r:embed="rId1"/>
              </a:buBlip>
              <a:tabLst>
                <a:tab algn="l" pos="511200"/>
                <a:tab algn="l" pos="623880"/>
                <a:tab algn="l" pos="1081080"/>
                <a:tab algn="l" pos="1538280"/>
                <a:tab algn="l" pos="1995480"/>
                <a:tab algn="l" pos="2452680"/>
                <a:tab algn="l" pos="2909880"/>
                <a:tab algn="l" pos="3367080"/>
                <a:tab algn="l" pos="3824280"/>
                <a:tab algn="l" pos="4281480"/>
                <a:tab algn="l" pos="4738680"/>
                <a:tab algn="l" pos="5195880"/>
                <a:tab algn="l" pos="5653080"/>
                <a:tab algn="l" pos="6110280"/>
                <a:tab algn="l" pos="6567480"/>
                <a:tab algn="l" pos="7024680"/>
                <a:tab algn="l" pos="7481880"/>
                <a:tab algn="l" pos="7939080"/>
                <a:tab algn="l" pos="8396280"/>
                <a:tab algn="l" pos="8853480"/>
                <a:tab algn="l" pos="9310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e Campaign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54160" y="2690640"/>
            <a:ext cx="959616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Advanced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10960" y="2617920"/>
            <a:ext cx="9741240" cy="4378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6120" y="164304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12109"/>
              <a:buBlip>
                <a:blip r:embed="rId2"/>
              </a:buBlip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rocesse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Brain Exploding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7" name=""/>
          <p:cNvSpPr/>
          <p:nvPr/>
        </p:nvSpPr>
        <p:spPr>
          <a:xfrm>
            <a:off x="519120" y="129060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11200" indent="-406440">
              <a:lnSpc>
                <a:spcPct val="101000"/>
              </a:lnSpc>
              <a:spcBef>
                <a:spcPts val="799"/>
              </a:spcBef>
              <a:buSzPct val="128543"/>
              <a:buBlip>
                <a:blip r:embed="rId1"/>
              </a:buBlip>
              <a:tabLst>
                <a:tab algn="l" pos="511200"/>
                <a:tab algn="l" pos="968400"/>
                <a:tab algn="l" pos="1425600"/>
                <a:tab algn="l" pos="1882800"/>
                <a:tab algn="l" pos="2340000"/>
                <a:tab algn="l" pos="2797200"/>
                <a:tab algn="l" pos="3254400"/>
                <a:tab algn="l" pos="3711600"/>
                <a:tab algn="l" pos="4168800"/>
                <a:tab algn="l" pos="4626000"/>
                <a:tab algn="l" pos="5083200"/>
                <a:tab algn="l" pos="5540400"/>
                <a:tab algn="l" pos="5997600"/>
                <a:tab algn="l" pos="6454800"/>
                <a:tab algn="l" pos="6912000"/>
                <a:tab algn="l" pos="7369200"/>
                <a:tab algn="l" pos="7826400"/>
                <a:tab algn="l" pos="8283600"/>
                <a:tab algn="l" pos="8740800"/>
                <a:tab algn="l" pos="9198000"/>
                <a:tab algn="l" pos="9655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s, processes defined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0960" y="1922400"/>
            <a:ext cx="973620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Operational Benefi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numerates Channels &amp; Content Typ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s communications proc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ighlights ways to save time,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using content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05480" indent="-21240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Redistributing responsibilitie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eals messaging opportunities in underused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78880" indent="-21204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es an organizational comms. standard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Strategic Benefit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s more eyeballs on your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reates more opportunities to propagate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s the engagement of your audiences more consis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ind out where you need to engage more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1036800" indent="-219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Find out where you need to engage less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In Summar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ublishing Matrix is a simple tool to put together a lightweight communications plan for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be used for overall communications or for a single campaign or ev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ustomize to make it useful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through standard practices of coordinating communications at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nd ways to save time, re-use content and coordinate your communication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tablish an organizational standard through the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uild out your publishing matrix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your proc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hare it with your team to create an organizational asse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0880" indent="-20556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ook for places to adjust your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hannels you aren't using as much as you could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6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Content types that could be recycled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74520" indent="-20592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rocesses that don't have an owner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Participant Survey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42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2109"/>
              <a:buBlip>
                <a:blip r:embed="rId1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is one thing that you would tell a friend or peer about coordinating different online channels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0">
              <a:lnSpc>
                <a:spcPct val="106000"/>
              </a:lnSpc>
              <a:spcBef>
                <a:spcPts val="887"/>
              </a:spcBef>
              <a:buNone/>
              <a:tabLst>
                <a:tab algn="l" pos="0"/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04720" y="696600"/>
            <a:ext cx="6651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125880" y="2242800"/>
            <a:ext cx="64483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0440" y="1108080"/>
            <a:ext cx="201600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5880" y="934920"/>
            <a:ext cx="64483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25880" y="2681280"/>
            <a:ext cx="64483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78000" indent="0" algn="ctr">
              <a:lnSpc>
                <a:spcPct val="99000"/>
              </a:lnSpc>
              <a:spcAft>
                <a:spcPts val="157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78000"/>
                <a:tab algn="l" pos="490680"/>
                <a:tab algn="l" pos="947880"/>
                <a:tab algn="l" pos="1405080"/>
                <a:tab algn="l" pos="1862280"/>
                <a:tab algn="l" pos="2319480"/>
                <a:tab algn="l" pos="2776680"/>
                <a:tab algn="l" pos="3233880"/>
                <a:tab algn="l" pos="3691080"/>
                <a:tab algn="l" pos="4148280"/>
                <a:tab algn="l" pos="4605480"/>
                <a:tab algn="l" pos="5062680"/>
                <a:tab algn="l" pos="5519880"/>
                <a:tab algn="l" pos="5977080"/>
                <a:tab algn="l" pos="6434280"/>
                <a:tab algn="l" pos="6891480"/>
                <a:tab algn="l" pos="7348680"/>
                <a:tab algn="l" pos="7805880"/>
                <a:tab algn="l" pos="8263080"/>
                <a:tab algn="l" pos="8720280"/>
                <a:tab algn="l" pos="9177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120" y="156960"/>
            <a:ext cx="90694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35160" y="1604880"/>
            <a:ext cx="2031840" cy="1995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400800" y="1579680"/>
            <a:ext cx="2031840" cy="1981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82800" y="1305000"/>
            <a:ext cx="267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2040" y="4373640"/>
            <a:ext cx="225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38280" y="4292640"/>
            <a:ext cx="229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9400" y="1328760"/>
            <a:ext cx="219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6480" y="2246400"/>
            <a:ext cx="1716120" cy="492120"/>
          </a:xfrm>
          <a:prstGeom prst="rightArrow">
            <a:avLst>
              <a:gd name="adj1" fmla="val 50000"/>
              <a:gd name="adj2" fmla="val 8718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5040" y="3387600"/>
            <a:ext cx="393840" cy="889200"/>
          </a:xfrm>
          <a:prstGeom prst="downArrow">
            <a:avLst>
              <a:gd name="adj1" fmla="val 50000"/>
              <a:gd name="adj2" fmla="val 56444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87880" y="5475240"/>
            <a:ext cx="1727280" cy="503280"/>
          </a:xfrm>
          <a:prstGeom prst="leftArrow">
            <a:avLst>
              <a:gd name="adj1" fmla="val 50000"/>
              <a:gd name="adj2" fmla="val 85801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1640" y="3324240"/>
            <a:ext cx="380880" cy="930240"/>
          </a:xfrm>
          <a:prstGeom prst="upArrow">
            <a:avLst>
              <a:gd name="adj1" fmla="val 50000"/>
              <a:gd name="adj2" fmla="val 61059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380280" y="4890960"/>
            <a:ext cx="212544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646280" y="4805280"/>
            <a:ext cx="1763640" cy="1763640"/>
          </a:xfrm>
          <a:prstGeom prst="rect">
            <a:avLst/>
          </a:prstGeom>
          <a:ln w="0">
            <a:noFill/>
          </a:ln>
          <a:effectLst>
            <a:outerShdw dist="103350" dir="2700000" blurRad="0" rotWithShape="0">
              <a:srgbClr val="c0c0c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299520"/>
            <a:ext cx="9064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et Content to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76688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1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needs to see your conten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re are they most likely to see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46280" y="3657600"/>
            <a:ext cx="732456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835360"/>
            <a:ext cx="7324560" cy="284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589040" y="5578560"/>
          <a:ext cx="6679800" cy="1361520"/>
        </p:xfrm>
        <a:graphic>
          <a:graphicData uri="http://schemas.openxmlformats.org/drawingml/2006/table">
            <a:tbl>
              <a:tblPr/>
              <a:tblGrid>
                <a:gridCol w="2226240"/>
                <a:gridCol w="2225880"/>
                <a:gridCol w="2227680"/>
              </a:tblGrid>
              <a:tr h="136152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299520"/>
            <a:ext cx="90648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.: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Khmer UI"/>
              </a:rPr>
              <a:t>Event Announcement</a:t>
            </a: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o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176688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2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o needs to see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Khmer UI"/>
              </a:rPr>
              <a:t>Event Announcement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1480" indent="-396720">
              <a:lnSpc>
                <a:spcPct val="101000"/>
              </a:lnSpc>
              <a:spcBef>
                <a:spcPts val="726"/>
              </a:spcBef>
              <a:buSzPct val="113122"/>
              <a:buBlip>
                <a:blip r:embed="rId3"/>
              </a:buBlip>
              <a:tabLst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ere are they most likely to see i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03280" indent="0">
              <a:lnSpc>
                <a:spcPct val="126000"/>
              </a:lnSpc>
              <a:spcBef>
                <a:spcPts val="726"/>
              </a:spcBef>
              <a:buNone/>
              <a:tabLst>
                <a:tab algn="l" pos="0"/>
                <a:tab algn="l" pos="501480"/>
                <a:tab algn="l" pos="614520"/>
                <a:tab algn="l" pos="1071720"/>
                <a:tab algn="l" pos="1528920"/>
                <a:tab algn="l" pos="1986120"/>
                <a:tab algn="l" pos="2443320"/>
                <a:tab algn="l" pos="2900520"/>
                <a:tab algn="l" pos="3357720"/>
                <a:tab algn="l" pos="3814920"/>
                <a:tab algn="l" pos="4272120"/>
                <a:tab algn="l" pos="4729320"/>
                <a:tab algn="l" pos="5186520"/>
                <a:tab algn="l" pos="5643720"/>
                <a:tab algn="l" pos="6100920"/>
                <a:tab algn="l" pos="6558120"/>
                <a:tab algn="l" pos="7015320"/>
                <a:tab algn="l" pos="7472520"/>
                <a:tab algn="l" pos="7929720"/>
                <a:tab algn="l" pos="8386920"/>
                <a:tab algn="l" pos="8844120"/>
                <a:tab algn="l" pos="9301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9" name=""/>
          <p:cNvSpPr/>
          <p:nvPr/>
        </p:nvSpPr>
        <p:spPr>
          <a:xfrm>
            <a:off x="1736640" y="5761080"/>
            <a:ext cx="18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weets with @ &amp; #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9200" y="5761080"/>
            <a:ext cx="2286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 N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mb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4440" y="57610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s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use-Remix-Recycl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1560" y="1604880"/>
            <a:ext cx="93898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On average, email newsletters take 20 hours to creat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log posts and other “long form” content takes time to develop &amp; publish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96880" indent="-218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the biggest ROI by posting content on other channe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121360"/>
            <a:ext cx="1646280" cy="16462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4" idx="3"/>
            <a:endCxn id="126" idx="1"/>
          </p:cNvCxnSpPr>
          <p:nvPr/>
        </p:nvCxnSpPr>
        <p:spPr>
          <a:xfrm flipV="1">
            <a:off x="2560680" y="5222880"/>
            <a:ext cx="1921680" cy="722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24" idx="3"/>
            <a:endCxn id="128" idx="1"/>
          </p:cNvCxnSpPr>
          <p:nvPr/>
        </p:nvCxnSpPr>
        <p:spPr>
          <a:xfrm>
            <a:off x="2560680" y="5943600"/>
            <a:ext cx="1921680" cy="7214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endCxn id="130" idx="1"/>
          </p:cNvCxnSpPr>
          <p:nvPr/>
        </p:nvCxnSpPr>
        <p:spPr>
          <a:xfrm flipV="1">
            <a:off x="6886080" y="4988880"/>
            <a:ext cx="353160" cy="230760"/>
          </a:xfrm>
          <a:prstGeom prst="bentConnector3">
            <a:avLst>
              <a:gd name="adj1" fmla="val 2428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endCxn id="132" idx="1"/>
          </p:cNvCxnSpPr>
          <p:nvPr/>
        </p:nvCxnSpPr>
        <p:spPr>
          <a:xfrm>
            <a:off x="5851440" y="5222880"/>
            <a:ext cx="2286720" cy="637200"/>
          </a:xfrm>
          <a:prstGeom prst="bentConnector3">
            <a:avLst>
              <a:gd name="adj1" fmla="val 4605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3" name=""/>
          <p:cNvCxnSpPr>
            <a:stCxn id="126" idx="3"/>
            <a:endCxn id="134" idx="1"/>
          </p:cNvCxnSpPr>
          <p:nvPr/>
        </p:nvCxnSpPr>
        <p:spPr>
          <a:xfrm>
            <a:off x="5600520" y="5222880"/>
            <a:ext cx="1167480" cy="1185120"/>
          </a:xfrm>
          <a:prstGeom prst="bentConnector3">
            <a:avLst>
              <a:gd name="adj1" fmla="val 49167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479840" y="4664160"/>
            <a:ext cx="1121040" cy="11206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79840" y="6103800"/>
            <a:ext cx="1121040" cy="112104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7440" y="4632480"/>
            <a:ext cx="717480" cy="7174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65840" y="6049800"/>
            <a:ext cx="717480" cy="71784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37440" y="5500800"/>
            <a:ext cx="717480" cy="717480"/>
          </a:xfrm>
          <a:prstGeom prst="rect">
            <a:avLst/>
          </a:prstGeom>
          <a:solidFill>
            <a:srgbClr val="ffcc99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mbl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132680" y="1235160"/>
            <a:ext cx="2020680" cy="196524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sp>
        <p:nvSpPr>
          <p:cNvPr id="136" name=""/>
          <p:cNvSpPr/>
          <p:nvPr/>
        </p:nvSpPr>
        <p:spPr>
          <a:xfrm>
            <a:off x="2344680" y="1716120"/>
            <a:ext cx="5578560" cy="5029200"/>
          </a:xfrm>
          <a:prstGeom prst="irregularSeal2">
            <a:avLst/>
          </a:prstGeom>
          <a:solidFill>
            <a:srgbClr val="eb613d"/>
          </a:solidFill>
          <a:ln w="0">
            <a:noFill/>
          </a:ln>
          <a:effectLst>
            <a:outerShdw dist="129315" dir="2700000" blurRad="0" rotWithShape="0">
              <a:srgbClr val="c0c0c0">
                <a:alpha val="9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Reuse-Remix-Recycl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89280" y="2328840"/>
            <a:ext cx="2587680" cy="3867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080" y="1490760"/>
            <a:ext cx="2149560" cy="39052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954920" y="3273480"/>
            <a:ext cx="2011320" cy="7491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297320" y="6656400"/>
            <a:ext cx="1984320" cy="84132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249640" y="1352520"/>
            <a:ext cx="1957320" cy="84132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57200" y="5549760"/>
            <a:ext cx="2203560" cy="149076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sp>
        <p:nvSpPr>
          <p:cNvPr id="144" name=""/>
          <p:cNvSpPr/>
          <p:nvPr/>
        </p:nvSpPr>
        <p:spPr>
          <a:xfrm>
            <a:off x="46080" y="4664160"/>
            <a:ext cx="2103480" cy="731880"/>
          </a:xfrm>
          <a:prstGeom prst="roundRect">
            <a:avLst>
              <a:gd name="adj" fmla="val 16667"/>
            </a:avLst>
          </a:prstGeom>
          <a:noFill/>
          <a:ln w="36720">
            <a:solidFill>
              <a:srgbClr val="ffcc99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40600" y="1681200"/>
            <a:ext cx="1463760" cy="1006560"/>
          </a:xfrm>
          <a:prstGeom prst="roundRect">
            <a:avLst>
              <a:gd name="adj" fmla="val 16667"/>
            </a:avLst>
          </a:prstGeom>
          <a:noFill/>
          <a:ln w="36720">
            <a:solidFill>
              <a:srgbClr val="ffcc99"/>
            </a:solidFill>
            <a:prstDash val="lg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315200" y="4141800"/>
            <a:ext cx="2130480" cy="2990880"/>
          </a:xfrm>
          <a:prstGeom prst="rect">
            <a:avLst/>
          </a:prstGeom>
          <a:ln w="9360">
            <a:solidFill>
              <a:srgbClr val="3465a4"/>
            </a:solidFill>
            <a:round/>
          </a:ln>
        </p:spPr>
      </p:pic>
      <p:cxnSp>
        <p:nvCxnSpPr>
          <p:cNvPr id="147" name=""/>
          <p:cNvCxnSpPr>
            <a:stCxn id="138" idx="3"/>
            <a:endCxn id="146" idx="1"/>
          </p:cNvCxnSpPr>
          <p:nvPr/>
        </p:nvCxnSpPr>
        <p:spPr>
          <a:xfrm>
            <a:off x="6276960" y="4262040"/>
            <a:ext cx="1040400" cy="13755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8" name=""/>
          <p:cNvCxnSpPr>
            <a:stCxn id="138" idx="0"/>
            <a:endCxn id="145" idx="1"/>
          </p:cNvCxnSpPr>
          <p:nvPr/>
        </p:nvCxnSpPr>
        <p:spPr>
          <a:xfrm flipV="1">
            <a:off x="4982760" y="2184120"/>
            <a:ext cx="2159640" cy="144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49" name=""/>
          <p:cNvCxnSpPr>
            <a:stCxn id="138" idx="1"/>
            <a:endCxn id="143" idx="3"/>
          </p:cNvCxnSpPr>
          <p:nvPr/>
        </p:nvCxnSpPr>
        <p:spPr>
          <a:xfrm flipH="1">
            <a:off x="2660040" y="4262040"/>
            <a:ext cx="1027800" cy="20343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0" name=""/>
          <p:cNvCxnSpPr>
            <a:stCxn id="138" idx="2"/>
            <a:endCxn id="141" idx="0"/>
          </p:cNvCxnSpPr>
          <p:nvPr/>
        </p:nvCxnSpPr>
        <p:spPr>
          <a:xfrm>
            <a:off x="4983120" y="6195600"/>
            <a:ext cx="308880" cy="461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1" name=""/>
          <p:cNvCxnSpPr>
            <a:stCxn id="146" idx="3"/>
          </p:cNvCxnSpPr>
          <p:nvPr/>
        </p:nvCxnSpPr>
        <p:spPr>
          <a:xfrm flipV="1">
            <a:off x="9445320" y="4122000"/>
            <a:ext cx="181800" cy="15152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2" name=""/>
          <p:cNvCxnSpPr>
            <a:stCxn id="139" idx="3"/>
          </p:cNvCxnSpPr>
          <p:nvPr/>
        </p:nvCxnSpPr>
        <p:spPr>
          <a:xfrm flipV="1">
            <a:off x="2193840" y="2350440"/>
            <a:ext cx="705240" cy="1091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53" name=""/>
          <p:cNvCxnSpPr>
            <a:stCxn id="138" idx="1"/>
            <a:endCxn id="139" idx="3"/>
          </p:cNvCxnSpPr>
          <p:nvPr/>
        </p:nvCxnSpPr>
        <p:spPr>
          <a:xfrm flipH="1" flipV="1">
            <a:off x="2193480" y="3442680"/>
            <a:ext cx="1494720" cy="8197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1920" y="131760"/>
            <a:ext cx="8292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Khmer UI"/>
              </a:rPr>
              <a:t>Consistent Presence</a:t>
            </a:r>
            <a:endParaRPr b="0" lang="en-US" sz="53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1560" y="1604520"/>
            <a:ext cx="938988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72760" indent="-209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1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ot calling any group out, but we've all seen it..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2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They tweeted everyday until this past April, are they still around?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marL="572760" indent="-209880">
              <a:lnSpc>
                <a:spcPct val="106000"/>
              </a:lnSpc>
              <a:spcBef>
                <a:spcPts val="887"/>
              </a:spcBef>
              <a:buSzPct val="106921"/>
              <a:buBlip>
                <a:blip r:embed="rId3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 consistent source of information and people will start to rely on finding information by checking specific place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4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I read every Enewsletter, that is how I know what to volunteer for.”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  <a:p>
            <a:pPr lvl="1" marL="995040" indent="-210240">
              <a:lnSpc>
                <a:spcPct val="108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596880"/>
                <a:tab algn="l" pos="709560"/>
                <a:tab algn="l" pos="1166760"/>
                <a:tab algn="l" pos="1623960"/>
                <a:tab algn="l" pos="2081160"/>
                <a:tab algn="l" pos="2538360"/>
                <a:tab algn="l" pos="2995560"/>
                <a:tab algn="l" pos="3452760"/>
                <a:tab algn="l" pos="3909960"/>
                <a:tab algn="l" pos="4367160"/>
                <a:tab algn="l" pos="4824360"/>
                <a:tab algn="l" pos="5281560"/>
                <a:tab algn="l" pos="5738760"/>
                <a:tab algn="l" pos="6195960"/>
                <a:tab algn="l" pos="6653160"/>
                <a:tab algn="l" pos="7110360"/>
                <a:tab algn="l" pos="7567560"/>
                <a:tab algn="l" pos="8024760"/>
                <a:tab algn="l" pos="8481960"/>
                <a:tab algn="l" pos="8939160"/>
                <a:tab algn="l" pos="939636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Khmer UI"/>
              </a:rPr>
              <a:t>Put your community members in the “drivers seat” to connecting with you.</a:t>
            </a:r>
            <a:endParaRPr b="0" lang="en-US" sz="31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23:25:24Z</dcterms:created>
  <dc:creator>Matthew Garcia</dc:creator>
  <dc:description>These training materials have been prepared by Aspiration.
 These materials are distributed under a Creative Commons license:  Attribution-ShareAlike</dc:description>
  <dc:language>en-US</dc:language>
  <cp:lastModifiedBy/>
  <dcterms:modified xsi:type="dcterms:W3CDTF">2014-07-22T20:24:16Z</dcterms:modified>
  <cp:revision>76</cp:revision>
  <dc:subject/>
  <dc:title>Aspiration Coordinating Online Communications</dc:title>
</cp:coreProperties>
</file>