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94920" y="763200"/>
            <a:ext cx="517860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4398840" y="-360"/>
            <a:ext cx="3368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9554760"/>
            <a:ext cx="33685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398840" y="9554760"/>
            <a:ext cx="3368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28AC2-A3F5-4408-8918-D66D9240BA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2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2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2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3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3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3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3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3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4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4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4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4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4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5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5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1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61" name=""/>
          <p:cNvSpPr/>
          <p:nvPr/>
        </p:nvSpPr>
        <p:spPr>
          <a:xfrm>
            <a:off x="777960" y="4776840"/>
            <a:ext cx="621828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19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21" name=""/>
          <p:cNvSpPr/>
          <p:nvPr/>
        </p:nvSpPr>
        <p:spPr>
          <a:xfrm>
            <a:off x="776160" y="4776840"/>
            <a:ext cx="621216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23" name=""/>
          <p:cNvSpPr/>
          <p:nvPr/>
        </p:nvSpPr>
        <p:spPr>
          <a:xfrm>
            <a:off x="776160" y="4776840"/>
            <a:ext cx="621216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644688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25880" y="5442480"/>
            <a:ext cx="644688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29600" y="26812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25880" y="54424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29600" y="54424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207576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5000"/>
          </a:bodyPr>
          <a:p>
            <a:pPr marL="257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5680" y="2681280"/>
            <a:ext cx="207576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5000"/>
          </a:bodyPr>
          <a:p>
            <a:pPr marL="257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85840" y="2681280"/>
            <a:ext cx="207576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5000"/>
          </a:bodyPr>
          <a:p>
            <a:pPr marL="257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25880" y="5442480"/>
            <a:ext cx="207576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5000"/>
          </a:bodyPr>
          <a:p>
            <a:pPr marL="257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05680" y="5442480"/>
            <a:ext cx="207576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5000"/>
          </a:bodyPr>
          <a:p>
            <a:pPr marL="257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485840" y="5442480"/>
            <a:ext cx="207576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5000"/>
          </a:bodyPr>
          <a:p>
            <a:pPr marL="257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125880" y="2681280"/>
            <a:ext cx="644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644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31460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429600" y="2681280"/>
            <a:ext cx="31460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125880" y="934560"/>
            <a:ext cx="64468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429600" y="2681280"/>
            <a:ext cx="31460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125880" y="54424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25880" y="2681280"/>
            <a:ext cx="644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31460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429600" y="26812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429600" y="54424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29600" y="26812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125880" y="5442480"/>
            <a:ext cx="644688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644688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25880" y="5442480"/>
            <a:ext cx="644688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29600" y="26812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125880" y="54424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429600" y="54424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207576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5000"/>
          </a:bodyPr>
          <a:p>
            <a:pPr marL="257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05680" y="2681280"/>
            <a:ext cx="207576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5000"/>
          </a:bodyPr>
          <a:p>
            <a:pPr marL="257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485840" y="2681280"/>
            <a:ext cx="207576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5000"/>
          </a:bodyPr>
          <a:p>
            <a:pPr marL="257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125880" y="5442480"/>
            <a:ext cx="207576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5000"/>
          </a:bodyPr>
          <a:p>
            <a:pPr marL="257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5305680" y="5442480"/>
            <a:ext cx="207576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5000"/>
          </a:bodyPr>
          <a:p>
            <a:pPr marL="257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485840" y="5442480"/>
            <a:ext cx="207576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5000"/>
          </a:bodyPr>
          <a:p>
            <a:pPr marL="257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644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31460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29600" y="2681280"/>
            <a:ext cx="31460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5880" y="934560"/>
            <a:ext cx="64468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29600" y="2681280"/>
            <a:ext cx="31460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25880" y="54424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31460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29600" y="26812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29600" y="54424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29600" y="26812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25880" y="5442480"/>
            <a:ext cx="644688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340000">
            <a:off x="-1226880" y="857160"/>
            <a:ext cx="6351480" cy="423360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316080" y="3224160"/>
            <a:ext cx="4032360" cy="43354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125880" y="2681280"/>
            <a:ext cx="644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1000"/>
          </a:bodyPr>
          <a:p>
            <a:pPr marL="209160" indent="0" algn="ctr">
              <a:lnSpc>
                <a:spcPct val="99000"/>
              </a:lnSpc>
              <a:spcAft>
                <a:spcPts val="15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1" marL="209160" indent="-20916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2" marL="209160" indent="-20916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3" marL="209160" indent="-20916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4" marL="209160" indent="-20916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5" marL="209160" indent="-20916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6" marL="209160" indent="-20916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6137280"/>
            <a:ext cx="23418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 rot="5400000">
            <a:off x="5303520" y="2826360"/>
            <a:ext cx="9068040" cy="59400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1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31560" y="1604520"/>
            <a:ext cx="93884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88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43080" indent="-34308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43080" indent="-34308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43080" indent="-34308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43080" indent="-34308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43080" indent="-34308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43080" indent="-34308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4" name=""/>
          <p:cNvSpPr/>
          <p:nvPr/>
        </p:nvSpPr>
        <p:spPr>
          <a:xfrm>
            <a:off x="638280" y="7251840"/>
            <a:ext cx="23191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839080" y="281160"/>
            <a:ext cx="1100160" cy="522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97720" y="7246800"/>
            <a:ext cx="31258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6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image" Target="../media/image3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3720" y="510840"/>
            <a:ext cx="6451560" cy="16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ommunications Processe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5640" y="2285640"/>
            <a:ext cx="749772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Coordinating Communications Channels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"/>
          <p:cNvSpPr/>
          <p:nvPr/>
        </p:nvSpPr>
        <p:spPr>
          <a:xfrm>
            <a:off x="3344760" y="6756480"/>
            <a:ext cx="4535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65960" y="6834240"/>
            <a:ext cx="1511280" cy="52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1920" y="23400"/>
            <a:ext cx="829296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What is a Publishing Matrix?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1560" y="1820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How can you operationalize these processes to make sure they happen consistently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 Publishing Matrix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A grid to help you figure out which communications channel to use for what type of message whether in a campaign or for an organizational standard as a whole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240" y="809640"/>
            <a:ext cx="9312120" cy="58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hanne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31920" y="2987640"/>
            <a:ext cx="939168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ools used to communicate with different audien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Online or Offline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2" marL="1477800" indent="-21888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Khmer UI"/>
              </a:rPr>
              <a:t>eNewsletter vs. paper newsletter</a:t>
            </a:r>
            <a:endParaRPr b="0" lang="en-US" sz="29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Organizational or Non-organizational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2" marL="1477800" indent="-21888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Khmer UI"/>
              </a:rPr>
              <a:t>Web site vs. Craigslist</a:t>
            </a:r>
            <a:endParaRPr b="0" lang="en-US" sz="29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31920" y="1763640"/>
            <a:ext cx="9391680" cy="9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ontent Type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31920" y="1604880"/>
            <a:ext cx="4581360" cy="50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inds of messages sent out to different audien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Facilitate ac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rm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rganizational or non-organizational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462680" indent="-21636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Org update vs. recommending a partner resource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6585120" y="1604880"/>
            <a:ext cx="169848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Questions for Channe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is our audience for this channel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Strangers? Fans? Funders?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o they want this type of content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What value is it providing? Are they getting it somewhere else?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f yes, how should we deliver it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Tone? Referring link? Full content piece?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82520" y="914400"/>
            <a:ext cx="9312480" cy="58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Pub. Matrix in Practice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Javier shares his experience with using a Publishing Matrix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View one of Aspiration's Publishing Matr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Walking Through a Row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31920" y="3840120"/>
            <a:ext cx="939168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is our audience for this channel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o they want this type of content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f yes, how should we deliver it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00120" y="2076480"/>
            <a:ext cx="8759880" cy="12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Walking Through a Row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1920" y="3840120"/>
            <a:ext cx="939168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is our audience for this channel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o they want this type of content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f yes, how should we deliver it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03280" y="2227320"/>
            <a:ext cx="907092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Pub. Matrix in Practice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et's build one together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ditable Publishing Matix Templat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https://aspirationtech.org/files/AspirationPubMatrixTemplate_0.xl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ustomization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ome content types are channel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For example, eNewsletter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87320" y="3075120"/>
          <a:ext cx="8138880" cy="4012560"/>
        </p:xfrm>
        <a:graphic>
          <a:graphicData uri="http://schemas.openxmlformats.org/drawingml/2006/table">
            <a:tbl>
              <a:tblPr/>
              <a:tblGrid>
                <a:gridCol w="2135520"/>
                <a:gridCol w="2000880"/>
                <a:gridCol w="2000520"/>
                <a:gridCol w="2001960"/>
              </a:tblGrid>
              <a:tr h="812520"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ons Chan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9960">
                <a:tc>
                  <a:txBody>
                    <a:bodyPr tIns="74628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3b8dc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b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4794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320"/>
                    </a:solidFill>
                  </a:tcPr>
                </a:tc>
              </a:tr>
              <a:tr h="1119960"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3b8dc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tIns="74628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4794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320"/>
                    </a:solidFill>
                  </a:tcPr>
                </a:tc>
              </a:tr>
              <a:tr h="960480"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 Announ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3b8dc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4794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32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ustomization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nstead of an “X”, add example cont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For example, an template Twitter Tweet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3400" y="3360600"/>
          <a:ext cx="8542080" cy="3635280"/>
        </p:xfrm>
        <a:graphic>
          <a:graphicData uri="http://schemas.openxmlformats.org/drawingml/2006/table">
            <a:tbl>
              <a:tblPr/>
              <a:tblGrid>
                <a:gridCol w="2240280"/>
                <a:gridCol w="2100600"/>
                <a:gridCol w="1780200"/>
                <a:gridCol w="2421000"/>
              </a:tblGrid>
              <a:tr h="746640">
                <a:tc>
                  <a:txBody>
                    <a:bodyPr lIns="36000" rIns="36000" tIns="562320" bIns="360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36000" rIns="36000" tIns="562320" bIns="360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ons Chan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6640">
                <a:tc>
                  <a:txBody>
                    <a:bodyPr lIns="36000" rIns="36000" tIns="351360" bIns="360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3b8dc"/>
                    </a:solidFill>
                  </a:tcPr>
                </a:tc>
                <a:tc>
                  <a:txBody>
                    <a:bodyPr lIns="36000" rIns="36000" tIns="562320" bIns="360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b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36000" rIns="36000" tIns="562320" bIns="360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2300"/>
                    </a:solidFill>
                  </a:tcPr>
                </a:tc>
                <a:tc>
                  <a:txBody>
                    <a:bodyPr lIns="36000" rIns="36000" tIns="562320" bIns="360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50e"/>
                    </a:solidFill>
                  </a:tcPr>
                </a:tc>
              </a:tr>
              <a:tr h="1190520">
                <a:tc>
                  <a:txBody>
                    <a:bodyPr lIns="36000" rIns="36000" tIns="562320" bIns="360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 Announ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3b8dc"/>
                    </a:solidFill>
                  </a:tcPr>
                </a:tc>
                <a:tc>
                  <a:txBody>
                    <a:bodyPr lIns="36000" rIns="36000" tIns="562320" bIns="360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36000" rIns="36000" tIns="351360" bIns="360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2300"/>
                    </a:solidFill>
                  </a:tcPr>
                </a:tc>
                <a:tc>
                  <a:txBody>
                    <a:bodyPr lIns="36000" rIns="36000" tIns="562320" bIns="360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in us on &lt;date&gt; for &lt;event name&gt; ! &lt;link&gt; Can't wait to see you there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50e"/>
                    </a:solidFill>
                  </a:tcPr>
                </a:tc>
              </a:tr>
              <a:tr h="1190520">
                <a:tc>
                  <a:txBody>
                    <a:bodyPr lIns="36000" rIns="36000" tIns="562320" bIns="360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 Al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3b8dc"/>
                    </a:solidFill>
                  </a:tcPr>
                </a:tc>
                <a:tc>
                  <a:txBody>
                    <a:bodyPr lIns="36000" rIns="36000" tIns="562320" bIns="360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36000" rIns="36000" tIns="562320" bIns="360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2300"/>
                    </a:solidFill>
                  </a:tcPr>
                </a:tc>
                <a:tc>
                  <a:txBody>
                    <a:bodyPr lIns="36000" rIns="36000" tIns="562320" bIns="360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Help us fight &lt;enemy&gt; by joining us to &lt;action&gt; this week! &lt;link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50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ustomization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nstead of “X” add the process of doing i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For example, “Post Hosted Link”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01800" y="3166920"/>
          <a:ext cx="8630640" cy="4290840"/>
        </p:xfrm>
        <a:graphic>
          <a:graphicData uri="http://schemas.openxmlformats.org/drawingml/2006/table">
            <a:tbl>
              <a:tblPr/>
              <a:tblGrid>
                <a:gridCol w="2251440"/>
                <a:gridCol w="2109960"/>
                <a:gridCol w="1970280"/>
                <a:gridCol w="2298960"/>
              </a:tblGrid>
              <a:tr h="812520"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ons Chan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1320">
                <a:tc>
                  <a:txBody>
                    <a:bodyPr tIns="74628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3b8dc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b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igs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4794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50e"/>
                    </a:solidFill>
                  </a:tcPr>
                </a:tc>
              </a:tr>
              <a:tr h="1110960"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3b8dc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 hosted version to “Newsletters” p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tIns="74628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4794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 hosted link as a bit.l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50e"/>
                    </a:solidFill>
                  </a:tcPr>
                </a:tc>
              </a:tr>
              <a:tr h="1256400"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 Announ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3b8dc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o “Events” p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 in the “Community Events” 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4794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ost event page from web site as a bit.ly; cc: partner orgs to 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50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ustomization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sign channels or content types to peopl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For example, Courtney is our web person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84320" y="3151080"/>
          <a:ext cx="9327600" cy="4665240"/>
        </p:xfrm>
        <a:graphic>
          <a:graphicData uri="http://schemas.openxmlformats.org/drawingml/2006/table">
            <a:tbl>
              <a:tblPr/>
              <a:tblGrid>
                <a:gridCol w="1982520"/>
                <a:gridCol w="1603800"/>
                <a:gridCol w="1905480"/>
                <a:gridCol w="1978200"/>
                <a:gridCol w="1857600"/>
              </a:tblGrid>
              <a:tr h="813600">
                <a:tc>
                  <a:txBody>
                    <a:bodyPr lIns="90000" rIns="90000" tIns="618480" bIns="468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315360" bIns="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0000" rIns="90000" tIns="618480" bIns="46800" anchor="ctr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ons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760">
                <a:tc>
                  <a:txBody>
                    <a:bodyPr lIns="90000" rIns="90000" tIns="74628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3b8dc"/>
                    </a:solidFill>
                  </a:tcPr>
                </a:tc>
                <a:tc>
                  <a:txBody>
                    <a:bodyPr lIns="0" rIns="0" tIns="526320" bIns="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ssigned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618480" bIns="468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b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618480" bIns="468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4794"/>
                    </a:solidFill>
                  </a:tcPr>
                </a:tc>
                <a:tc>
                  <a:txBody>
                    <a:bodyPr lIns="90000" rIns="90000" tIns="618480" bIns="468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50e"/>
                    </a:solidFill>
                  </a:tcPr>
                </a:tc>
              </a:tr>
              <a:tr h="674640">
                <a:tc>
                  <a:txBody>
                    <a:bodyPr lIns="0" rIns="0" tIns="526320" bIns="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ssigned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315360" bIns="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526320" bIns="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urtn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526320" bIns="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is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526320" bIns="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a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1067760">
                <a:tc>
                  <a:txBody>
                    <a:bodyPr lIns="90000" rIns="90000" tIns="618480" bIns="468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3b8dc"/>
                    </a:solidFill>
                  </a:tcPr>
                </a:tc>
                <a:tc>
                  <a:txBody>
                    <a:bodyPr lIns="0" rIns="0" tIns="526320" bIns="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is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618480" bIns="468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74628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4794"/>
                    </a:solidFill>
                  </a:tcPr>
                </a:tc>
                <a:tc>
                  <a:txBody>
                    <a:bodyPr lIns="90000" rIns="90000" tIns="618480" bIns="468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50e"/>
                    </a:solidFill>
                  </a:tcPr>
                </a:tc>
              </a:tr>
              <a:tr h="961560">
                <a:tc>
                  <a:txBody>
                    <a:bodyPr lIns="90000" rIns="90000" tIns="618480" bIns="468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 Announ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3b8dc"/>
                    </a:solidFill>
                  </a:tcPr>
                </a:tc>
                <a:tc>
                  <a:txBody>
                    <a:bodyPr lIns="0" rIns="0" tIns="526320" bIns="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Jess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618480" bIns="468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618480" bIns="468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4794"/>
                    </a:solidFill>
                  </a:tcPr>
                </a:tc>
                <a:tc>
                  <a:txBody>
                    <a:bodyPr lIns="90000" rIns="90000" tIns="618480" bIns="468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50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Basic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1200" indent="-406440">
              <a:lnSpc>
                <a:spcPct val="101000"/>
              </a:lnSpc>
              <a:spcBef>
                <a:spcPts val="799"/>
              </a:spcBef>
              <a:buSzPct val="112109"/>
              <a:buBlip>
                <a:blip r:embed="rId1"/>
              </a:buBlip>
              <a:tabLst>
                <a:tab algn="l" pos="51120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mple Campaign Publishing Matrix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54160" y="2690640"/>
            <a:ext cx="9596160" cy="44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Advanced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10960" y="2617920"/>
            <a:ext cx="9741240" cy="43783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46120" y="164304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1200" indent="-406440">
              <a:lnSpc>
                <a:spcPct val="101000"/>
              </a:lnSpc>
              <a:spcBef>
                <a:spcPts val="799"/>
              </a:spcBef>
              <a:buSzPct val="112109"/>
              <a:buBlip>
                <a:blip r:embed="rId2"/>
              </a:buBlip>
              <a:tabLst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processe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9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Brain Exploding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7" name=""/>
          <p:cNvSpPr/>
          <p:nvPr/>
        </p:nvSpPr>
        <p:spPr>
          <a:xfrm>
            <a:off x="519120" y="129060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1200" indent="-406440">
              <a:lnSpc>
                <a:spcPct val="101000"/>
              </a:lnSpc>
              <a:spcBef>
                <a:spcPts val="799"/>
              </a:spcBef>
              <a:buSzPct val="128543"/>
              <a:buBlip>
                <a:blip r:embed="rId1"/>
              </a:buBlip>
              <a:tabLst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ments, processes defined,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10960" y="1922400"/>
            <a:ext cx="9736200" cy="53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Operational Benefit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78880" indent="-21204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numerates Channels &amp; Content Typ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78880" indent="-21204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fines communications process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78880" indent="-21204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Highlights ways to save time, effor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05480" indent="-21240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Reusing content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1005480" indent="-21240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Redistributing responsibilitie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78880" indent="-21204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eveals messaging opportunities in underused channel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78880" indent="-21204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stablishes an organizational comms. standard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Strategic Benefit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ets more eyeballs on your cont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reates more opportunities to propagate messag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akes the engagement of your audiences more consist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Find out where you need to engage more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Find out where you need to engage les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In Summary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ublishing Matrix is a simple tool to put together a lightweight communications plan for your organizatio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an be used for overall communications or for a single campaign or ev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ustomize to make it useful for you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Learning Goa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nk through standard practices of coordinating communications at your organizatio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nd ways to save time, re-use content and coordinate your communication channel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stablish an organizational standard through the Publishing Matrix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Next Step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560880" indent="-2055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uild out your publishing matrix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0880" indent="-2055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fine your process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0880" indent="-2055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hare it with your team to create an organizational asse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0880" indent="-2055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ook for places to adjust your communicatio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74520" indent="-2059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Channels you aren't using as much as you could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974520" indent="-2059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Content types that could be recycled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974520" indent="-2059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Processes that don't have an owner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Participant Survey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-396720">
              <a:lnSpc>
                <a:spcPct val="101000"/>
              </a:lnSpc>
              <a:spcBef>
                <a:spcPts val="726"/>
              </a:spcBef>
              <a:buSzPct val="112109"/>
              <a:buBlip>
                <a:blip r:embed="rId1"/>
              </a:buBlip>
              <a:tabLst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at is one thing that you would tell a friend or peer about coordinating different online channels?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0">
              <a:lnSpc>
                <a:spcPct val="106000"/>
              </a:lnSpc>
              <a:spcBef>
                <a:spcPts val="887"/>
              </a:spcBef>
              <a:buNone/>
              <a:tabLst>
                <a:tab algn="l" pos="0"/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04720" y="696600"/>
            <a:ext cx="6651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125880" y="2242800"/>
            <a:ext cx="644832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0440" y="1108080"/>
            <a:ext cx="2016000" cy="69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25880" y="934920"/>
            <a:ext cx="64483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64483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7800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120" y="156960"/>
            <a:ext cx="906948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Four Processe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35160" y="1604880"/>
            <a:ext cx="2031840" cy="1995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400800" y="1579680"/>
            <a:ext cx="2031840" cy="1981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82800" y="1305000"/>
            <a:ext cx="267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enc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2040" y="4373640"/>
            <a:ext cx="225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38280" y="4292640"/>
            <a:ext cx="2293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 &amp;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9400" y="1328760"/>
            <a:ext cx="219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shing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46480" y="2246400"/>
            <a:ext cx="1716120" cy="492120"/>
          </a:xfrm>
          <a:prstGeom prst="rightArrow">
            <a:avLst>
              <a:gd name="adj1" fmla="val 50000"/>
              <a:gd name="adj2" fmla="val 87180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85040" y="3387600"/>
            <a:ext cx="393840" cy="889200"/>
          </a:xfrm>
          <a:prstGeom prst="downArrow">
            <a:avLst>
              <a:gd name="adj1" fmla="val 50000"/>
              <a:gd name="adj2" fmla="val 56444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87880" y="5475240"/>
            <a:ext cx="1727280" cy="503280"/>
          </a:xfrm>
          <a:prstGeom prst="leftArrow">
            <a:avLst>
              <a:gd name="adj1" fmla="val 50000"/>
              <a:gd name="adj2" fmla="val 85801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41640" y="3324240"/>
            <a:ext cx="380880" cy="930240"/>
          </a:xfrm>
          <a:prstGeom prst="upArrow">
            <a:avLst>
              <a:gd name="adj1" fmla="val 50000"/>
              <a:gd name="adj2" fmla="val 61059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380280" y="4890960"/>
            <a:ext cx="212544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646280" y="4805280"/>
            <a:ext cx="1763640" cy="1763640"/>
          </a:xfrm>
          <a:prstGeom prst="rect">
            <a:avLst/>
          </a:prstGeom>
          <a:ln w="0">
            <a:noFill/>
          </a:ln>
          <a:effectLst>
            <a:outerShdw dist="103350" dir="2700000" blurRad="0" rotWithShape="0">
              <a:srgbClr val="c0c0c0">
                <a:alpha val="70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299520"/>
            <a:ext cx="90648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Get Content to Audien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176688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-396720">
              <a:lnSpc>
                <a:spcPct val="101000"/>
              </a:lnSpc>
              <a:spcBef>
                <a:spcPts val="726"/>
              </a:spcBef>
              <a:buSzPct val="113122"/>
              <a:buBlip>
                <a:blip r:embed="rId1"/>
              </a:buBlip>
              <a:tabLst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needs to see your content?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01480" indent="-396720">
              <a:lnSpc>
                <a:spcPct val="101000"/>
              </a:lnSpc>
              <a:spcBef>
                <a:spcPts val="726"/>
              </a:spcBef>
              <a:buSzPct val="113122"/>
              <a:buBlip>
                <a:blip r:embed="rId2"/>
              </a:buBlip>
              <a:tabLst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ere are they most likely to see it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03280" indent="0">
              <a:lnSpc>
                <a:spcPct val="126000"/>
              </a:lnSpc>
              <a:spcBef>
                <a:spcPts val="726"/>
              </a:spcBef>
              <a:buNone/>
              <a:tabLst>
                <a:tab algn="l" pos="0"/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46280" y="3657600"/>
            <a:ext cx="7324560" cy="28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2835360"/>
            <a:ext cx="7324560" cy="284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1589040" y="5578560"/>
          <a:ext cx="6679800" cy="1361520"/>
        </p:xfrm>
        <a:graphic>
          <a:graphicData uri="http://schemas.openxmlformats.org/drawingml/2006/table">
            <a:tbl>
              <a:tblPr/>
              <a:tblGrid>
                <a:gridCol w="2226240"/>
                <a:gridCol w="2225880"/>
                <a:gridCol w="2227680"/>
              </a:tblGrid>
              <a:tr h="1361520"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299520"/>
            <a:ext cx="90648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x.: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Khmer UI"/>
              </a:rPr>
              <a:t>Event Announcement</a:t>
            </a: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o Audien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176688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-396720">
              <a:lnSpc>
                <a:spcPct val="101000"/>
              </a:lnSpc>
              <a:spcBef>
                <a:spcPts val="726"/>
              </a:spcBef>
              <a:buSzPct val="113122"/>
              <a:buBlip>
                <a:blip r:embed="rId2"/>
              </a:buBlip>
              <a:tabLst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needs to see y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Khmer UI"/>
              </a:rPr>
              <a:t>Event Announcement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01480" indent="-396720">
              <a:lnSpc>
                <a:spcPct val="101000"/>
              </a:lnSpc>
              <a:spcBef>
                <a:spcPts val="726"/>
              </a:spcBef>
              <a:buSzPct val="113122"/>
              <a:buBlip>
                <a:blip r:embed="rId3"/>
              </a:buBlip>
              <a:tabLst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ere are they most likely to see it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03280" indent="0">
              <a:lnSpc>
                <a:spcPct val="126000"/>
              </a:lnSpc>
              <a:spcBef>
                <a:spcPts val="726"/>
              </a:spcBef>
              <a:buNone/>
              <a:tabLst>
                <a:tab algn="l" pos="0"/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9" name=""/>
          <p:cNvSpPr/>
          <p:nvPr/>
        </p:nvSpPr>
        <p:spPr>
          <a:xfrm>
            <a:off x="1736640" y="5761080"/>
            <a:ext cx="1828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weets with @ &amp; #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59200" y="5761080"/>
            <a:ext cx="2286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 News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mb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64440" y="57610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igs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Reuse-Remix-Recycle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On average, email newsletters take 20 hours to creat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log posts and other “long form” content takes time to develop &amp; publish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et the biggest ROI by posting content on other channel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121360"/>
            <a:ext cx="1646280" cy="1646280"/>
          </a:xfrm>
          <a:prstGeom prst="rect">
            <a:avLst/>
          </a:prstGeom>
          <a:solidFill>
            <a:srgbClr val="ffcc99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4" idx="3"/>
            <a:endCxn id="126" idx="1"/>
          </p:cNvCxnSpPr>
          <p:nvPr/>
        </p:nvCxnSpPr>
        <p:spPr>
          <a:xfrm flipV="1">
            <a:off x="2560680" y="5222880"/>
            <a:ext cx="1921680" cy="7225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7" name=""/>
          <p:cNvCxnSpPr>
            <a:stCxn id="124" idx="3"/>
            <a:endCxn id="128" idx="1"/>
          </p:cNvCxnSpPr>
          <p:nvPr/>
        </p:nvCxnSpPr>
        <p:spPr>
          <a:xfrm>
            <a:off x="2560680" y="5943600"/>
            <a:ext cx="1921680" cy="7214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9" name=""/>
          <p:cNvCxnSpPr>
            <a:endCxn id="130" idx="1"/>
          </p:cNvCxnSpPr>
          <p:nvPr/>
        </p:nvCxnSpPr>
        <p:spPr>
          <a:xfrm flipV="1">
            <a:off x="6886080" y="4988880"/>
            <a:ext cx="353160" cy="230760"/>
          </a:xfrm>
          <a:prstGeom prst="bentConnector3">
            <a:avLst>
              <a:gd name="adj1" fmla="val 24285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1" name=""/>
          <p:cNvCxnSpPr>
            <a:endCxn id="132" idx="1"/>
          </p:cNvCxnSpPr>
          <p:nvPr/>
        </p:nvCxnSpPr>
        <p:spPr>
          <a:xfrm>
            <a:off x="5851440" y="5222880"/>
            <a:ext cx="2286720" cy="637200"/>
          </a:xfrm>
          <a:prstGeom prst="bentConnector3">
            <a:avLst>
              <a:gd name="adj1" fmla="val 46055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3" name=""/>
          <p:cNvCxnSpPr>
            <a:stCxn id="126" idx="3"/>
            <a:endCxn id="134" idx="1"/>
          </p:cNvCxnSpPr>
          <p:nvPr/>
        </p:nvCxnSpPr>
        <p:spPr>
          <a:xfrm>
            <a:off x="5600520" y="5222880"/>
            <a:ext cx="1167480" cy="1185120"/>
          </a:xfrm>
          <a:prstGeom prst="bentConnector3">
            <a:avLst>
              <a:gd name="adj1" fmla="val 49167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4479840" y="4664160"/>
            <a:ext cx="1121040" cy="1120680"/>
          </a:xfrm>
          <a:prstGeom prst="rect">
            <a:avLst/>
          </a:prstGeom>
          <a:solidFill>
            <a:srgbClr val="ffcc99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79840" y="6103800"/>
            <a:ext cx="1121040" cy="1121040"/>
          </a:xfrm>
          <a:prstGeom prst="rect">
            <a:avLst/>
          </a:prstGeom>
          <a:solidFill>
            <a:srgbClr val="ffcc99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7440" y="4632480"/>
            <a:ext cx="717480" cy="717480"/>
          </a:xfrm>
          <a:prstGeom prst="rect">
            <a:avLst/>
          </a:prstGeom>
          <a:solidFill>
            <a:srgbClr val="ffcc99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65840" y="6049800"/>
            <a:ext cx="717480" cy="717840"/>
          </a:xfrm>
          <a:prstGeom prst="rect">
            <a:avLst/>
          </a:prstGeom>
          <a:solidFill>
            <a:srgbClr val="ffcc99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re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37440" y="5500800"/>
            <a:ext cx="717480" cy="717480"/>
          </a:xfrm>
          <a:prstGeom prst="rect">
            <a:avLst/>
          </a:prstGeom>
          <a:solidFill>
            <a:srgbClr val="ffcc99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mbl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132680" y="1235160"/>
            <a:ext cx="2020680" cy="196524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  <p:sp>
        <p:nvSpPr>
          <p:cNvPr id="136" name=""/>
          <p:cNvSpPr/>
          <p:nvPr/>
        </p:nvSpPr>
        <p:spPr>
          <a:xfrm>
            <a:off x="2344680" y="1716120"/>
            <a:ext cx="5578560" cy="5029200"/>
          </a:xfrm>
          <a:prstGeom prst="irregularSeal2">
            <a:avLst/>
          </a:prstGeom>
          <a:solidFill>
            <a:srgbClr val="eb613d"/>
          </a:solidFill>
          <a:ln w="0">
            <a:noFill/>
          </a:ln>
          <a:effectLst>
            <a:outerShdw dist="129315" dir="2700000" blurRad="0" rotWithShape="0">
              <a:srgbClr val="c0c0c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Reuse-Remix-Recycle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689280" y="2328840"/>
            <a:ext cx="2587680" cy="3867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6080" y="1490760"/>
            <a:ext cx="2149560" cy="390528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954920" y="3273480"/>
            <a:ext cx="2011320" cy="74916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297320" y="6656400"/>
            <a:ext cx="1984320" cy="84132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2249640" y="1352520"/>
            <a:ext cx="1957320" cy="84132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457200" y="5549760"/>
            <a:ext cx="2203560" cy="149076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  <p:sp>
        <p:nvSpPr>
          <p:cNvPr id="144" name=""/>
          <p:cNvSpPr/>
          <p:nvPr/>
        </p:nvSpPr>
        <p:spPr>
          <a:xfrm>
            <a:off x="46080" y="4664160"/>
            <a:ext cx="2103480" cy="731880"/>
          </a:xfrm>
          <a:prstGeom prst="roundRect">
            <a:avLst>
              <a:gd name="adj" fmla="val 16667"/>
            </a:avLst>
          </a:prstGeom>
          <a:noFill/>
          <a:ln w="36720">
            <a:solidFill>
              <a:srgbClr val="ffcc99"/>
            </a:solidFill>
            <a:prstDash val="lgDashDot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40600" y="1681200"/>
            <a:ext cx="1463760" cy="1006560"/>
          </a:xfrm>
          <a:prstGeom prst="roundRect">
            <a:avLst>
              <a:gd name="adj" fmla="val 16667"/>
            </a:avLst>
          </a:prstGeom>
          <a:noFill/>
          <a:ln w="36720">
            <a:solidFill>
              <a:srgbClr val="ffcc99"/>
            </a:solidFill>
            <a:prstDash val="lgDashDot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7315200" y="4141800"/>
            <a:ext cx="2130480" cy="299088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  <p:cxnSp>
        <p:nvCxnSpPr>
          <p:cNvPr id="147" name=""/>
          <p:cNvCxnSpPr>
            <a:stCxn id="138" idx="3"/>
            <a:endCxn id="146" idx="1"/>
          </p:cNvCxnSpPr>
          <p:nvPr/>
        </p:nvCxnSpPr>
        <p:spPr>
          <a:xfrm>
            <a:off x="6276960" y="4262040"/>
            <a:ext cx="1040400" cy="13755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8" name=""/>
          <p:cNvCxnSpPr>
            <a:stCxn id="138" idx="0"/>
            <a:endCxn id="145" idx="1"/>
          </p:cNvCxnSpPr>
          <p:nvPr/>
        </p:nvCxnSpPr>
        <p:spPr>
          <a:xfrm flipV="1">
            <a:off x="4982760" y="2184120"/>
            <a:ext cx="2159640" cy="1447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9" name=""/>
          <p:cNvCxnSpPr>
            <a:stCxn id="138" idx="1"/>
            <a:endCxn id="143" idx="3"/>
          </p:cNvCxnSpPr>
          <p:nvPr/>
        </p:nvCxnSpPr>
        <p:spPr>
          <a:xfrm flipH="1">
            <a:off x="2660040" y="4262040"/>
            <a:ext cx="1027800" cy="20343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50" name=""/>
          <p:cNvCxnSpPr>
            <a:stCxn id="138" idx="2"/>
            <a:endCxn id="141" idx="0"/>
          </p:cNvCxnSpPr>
          <p:nvPr/>
        </p:nvCxnSpPr>
        <p:spPr>
          <a:xfrm>
            <a:off x="4983120" y="6195600"/>
            <a:ext cx="308880" cy="461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51" name=""/>
          <p:cNvCxnSpPr>
            <a:stCxn id="146" idx="3"/>
          </p:cNvCxnSpPr>
          <p:nvPr/>
        </p:nvCxnSpPr>
        <p:spPr>
          <a:xfrm flipV="1">
            <a:off x="9445320" y="4122000"/>
            <a:ext cx="181800" cy="15152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52" name=""/>
          <p:cNvCxnSpPr>
            <a:stCxn id="139" idx="3"/>
          </p:cNvCxnSpPr>
          <p:nvPr/>
        </p:nvCxnSpPr>
        <p:spPr>
          <a:xfrm flipV="1">
            <a:off x="2193840" y="2350440"/>
            <a:ext cx="705240" cy="1091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53" name=""/>
          <p:cNvCxnSpPr>
            <a:stCxn id="138" idx="1"/>
            <a:endCxn id="139" idx="3"/>
          </p:cNvCxnSpPr>
          <p:nvPr/>
        </p:nvCxnSpPr>
        <p:spPr>
          <a:xfrm flipH="1" flipV="1">
            <a:off x="2193480" y="3442680"/>
            <a:ext cx="1494720" cy="8197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onsistent Presence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572760" indent="-209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Not calling any group out, but we've all seen it..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95040" indent="-210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They tweeted everyday until this past April, are they still around?”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72760" indent="-209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e consistent source of information and people will start to rely on finding information by checking specific place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95040" indent="-210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I read every Enewsletter, that is how I know what to volunteer for.”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995040" indent="-210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Put your community members in the “drivers seat” to connecting with you.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23:25:24Z</dcterms:created>
  <dc:creator>Matthew Garcia</dc:creator>
  <dc:description>These training materials have been prepared by Aspiration.
 These materials are distributed under a Creative Commons license:  Attribution-ShareAlike</dc:description>
  <dc:language>en-US</dc:language>
  <cp:lastModifiedBy/>
  <dcterms:modified xsi:type="dcterms:W3CDTF">2014-07-22T20:24:16Z</dcterms:modified>
  <cp:revision>76</cp:revision>
  <dc:subject/>
  <dc:title>Aspiration Coordinating Online Communications</dc:title>
</cp:coreProperties>
</file>