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EC643-FCCD-49EA-B834-5F8B1736A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itle and overview of articles that link to 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 to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itle and overview of articles that link to 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 to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ersonal App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 Ask is pull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k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43000" y="695160"/>
            <a:ext cx="4554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43000" y="69516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320" y="1422360"/>
            <a:ext cx="9099360" cy="5423040"/>
            <a:chOff x="31320" y="1422360"/>
            <a:chExt cx="9099360" cy="5423040"/>
          </a:xfrm>
        </p:grpSpPr>
        <p:grpSp>
          <p:nvGrpSpPr>
            <p:cNvPr id="1" name=""/>
            <p:cNvGrpSpPr/>
            <p:nvPr/>
          </p:nvGrpSpPr>
          <p:grpSpPr>
            <a:xfrm>
              <a:off x="31320" y="1422360"/>
              <a:ext cx="9099360" cy="5423040"/>
              <a:chOff x="31320" y="1422360"/>
              <a:chExt cx="9099360" cy="54230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560"/>
                <a:ext cx="4455360" cy="3336840"/>
              </a:xfrm>
              <a:custGeom>
                <a:avLst/>
                <a:gdLst/>
                <a:ahLst/>
                <a:rect l="l" t="t" r="r" b="b"/>
                <a:pathLst>
                  <a:path w="12408" h="9302">
                    <a:moveTo>
                      <a:pt x="4186" y="374"/>
                    </a:moveTo>
                    <a:lnTo>
                      <a:pt x="2767" y="1929"/>
                    </a:lnTo>
                    <a:lnTo>
                      <a:pt x="290" y="2075"/>
                    </a:lnTo>
                    <a:lnTo>
                      <a:pt x="0" y="2763"/>
                    </a:lnTo>
                    <a:lnTo>
                      <a:pt x="1639" y="4524"/>
                    </a:lnTo>
                    <a:lnTo>
                      <a:pt x="2692" y="3977"/>
                    </a:lnTo>
                    <a:lnTo>
                      <a:pt x="4372" y="4782"/>
                    </a:lnTo>
                    <a:lnTo>
                      <a:pt x="4918" y="5902"/>
                    </a:lnTo>
                    <a:lnTo>
                      <a:pt x="4773" y="6393"/>
                    </a:lnTo>
                    <a:lnTo>
                      <a:pt x="4954" y="7313"/>
                    </a:lnTo>
                    <a:lnTo>
                      <a:pt x="5063" y="8811"/>
                    </a:lnTo>
                    <a:lnTo>
                      <a:pt x="6448" y="9301"/>
                    </a:lnTo>
                    <a:lnTo>
                      <a:pt x="7430" y="8926"/>
                    </a:lnTo>
                    <a:lnTo>
                      <a:pt x="7064" y="7834"/>
                    </a:lnTo>
                    <a:lnTo>
                      <a:pt x="8774" y="6855"/>
                    </a:lnTo>
                    <a:lnTo>
                      <a:pt x="10052" y="6797"/>
                    </a:lnTo>
                    <a:lnTo>
                      <a:pt x="10780" y="5990"/>
                    </a:lnTo>
                    <a:lnTo>
                      <a:pt x="10405" y="4413"/>
                    </a:lnTo>
                    <a:lnTo>
                      <a:pt x="11485" y="3937"/>
                    </a:lnTo>
                    <a:lnTo>
                      <a:pt x="12407" y="2000"/>
                    </a:lnTo>
                    <a:lnTo>
                      <a:pt x="1109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4520" y="1771560"/>
                <a:ext cx="6279120" cy="3743280"/>
              </a:xfrm>
              <a:custGeom>
                <a:avLst/>
                <a:gdLst/>
                <a:ahLst/>
                <a:rect l="l" t="t" r="r" b="b"/>
                <a:pathLst>
                  <a:path w="17482" h="10431">
                    <a:moveTo>
                      <a:pt x="6272" y="286"/>
                    </a:moveTo>
                    <a:lnTo>
                      <a:pt x="5059" y="1153"/>
                    </a:lnTo>
                    <a:lnTo>
                      <a:pt x="4116" y="950"/>
                    </a:lnTo>
                    <a:lnTo>
                      <a:pt x="2330" y="1382"/>
                    </a:lnTo>
                    <a:lnTo>
                      <a:pt x="766" y="1440"/>
                    </a:lnTo>
                    <a:lnTo>
                      <a:pt x="0" y="2767"/>
                    </a:lnTo>
                    <a:lnTo>
                      <a:pt x="400" y="3199"/>
                    </a:lnTo>
                    <a:lnTo>
                      <a:pt x="1017" y="2882"/>
                    </a:lnTo>
                    <a:lnTo>
                      <a:pt x="1894" y="3027"/>
                    </a:lnTo>
                    <a:lnTo>
                      <a:pt x="2220" y="3747"/>
                    </a:lnTo>
                    <a:lnTo>
                      <a:pt x="1529" y="4497"/>
                    </a:lnTo>
                    <a:lnTo>
                      <a:pt x="2330" y="5042"/>
                    </a:lnTo>
                    <a:lnTo>
                      <a:pt x="3204" y="4870"/>
                    </a:lnTo>
                    <a:lnTo>
                      <a:pt x="3971" y="5360"/>
                    </a:lnTo>
                    <a:lnTo>
                      <a:pt x="5535" y="5417"/>
                    </a:lnTo>
                    <a:lnTo>
                      <a:pt x="7100" y="6281"/>
                    </a:lnTo>
                    <a:lnTo>
                      <a:pt x="7466" y="7375"/>
                    </a:lnTo>
                    <a:lnTo>
                      <a:pt x="7135" y="9336"/>
                    </a:lnTo>
                    <a:lnTo>
                      <a:pt x="7466" y="9997"/>
                    </a:lnTo>
                    <a:lnTo>
                      <a:pt x="9397" y="9883"/>
                    </a:lnTo>
                    <a:lnTo>
                      <a:pt x="10088" y="10430"/>
                    </a:lnTo>
                    <a:lnTo>
                      <a:pt x="11432" y="9018"/>
                    </a:lnTo>
                    <a:lnTo>
                      <a:pt x="11182" y="8010"/>
                    </a:lnTo>
                    <a:lnTo>
                      <a:pt x="12420" y="7375"/>
                    </a:lnTo>
                    <a:lnTo>
                      <a:pt x="13292" y="7578"/>
                    </a:lnTo>
                    <a:lnTo>
                      <a:pt x="14456" y="7119"/>
                    </a:lnTo>
                    <a:lnTo>
                      <a:pt x="15006" y="5174"/>
                    </a:lnTo>
                    <a:lnTo>
                      <a:pt x="16056" y="4065"/>
                    </a:lnTo>
                    <a:lnTo>
                      <a:pt x="17481" y="3950"/>
                    </a:lnTo>
                    <a:lnTo>
                      <a:pt x="17225" y="3230"/>
                    </a:lnTo>
                    <a:lnTo>
                      <a:pt x="16171" y="2481"/>
                    </a:lnTo>
                    <a:lnTo>
                      <a:pt x="16823" y="924"/>
                    </a:lnTo>
                    <a:lnTo>
                      <a:pt x="15822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320" y="1697040"/>
                <a:ext cx="9080640" cy="4917960"/>
              </a:xfrm>
              <a:custGeom>
                <a:avLst/>
                <a:gdLst/>
                <a:ahLst/>
                <a:rect l="l" t="t" r="r" b="b"/>
                <a:pathLst>
                  <a:path w="25265" h="13694">
                    <a:moveTo>
                      <a:pt x="357" y="0"/>
                    </a:moveTo>
                    <a:lnTo>
                      <a:pt x="586" y="1444"/>
                    </a:lnTo>
                    <a:lnTo>
                      <a:pt x="0" y="2935"/>
                    </a:lnTo>
                    <a:lnTo>
                      <a:pt x="366" y="5380"/>
                    </a:lnTo>
                    <a:lnTo>
                      <a:pt x="1820" y="6677"/>
                    </a:lnTo>
                    <a:lnTo>
                      <a:pt x="3883" y="7492"/>
                    </a:lnTo>
                    <a:lnTo>
                      <a:pt x="6347" y="7275"/>
                    </a:lnTo>
                    <a:lnTo>
                      <a:pt x="7736" y="8550"/>
                    </a:lnTo>
                    <a:lnTo>
                      <a:pt x="7286" y="9368"/>
                    </a:lnTo>
                    <a:lnTo>
                      <a:pt x="5006" y="9439"/>
                    </a:lnTo>
                    <a:lnTo>
                      <a:pt x="4015" y="8905"/>
                    </a:lnTo>
                    <a:lnTo>
                      <a:pt x="3256" y="9439"/>
                    </a:lnTo>
                    <a:lnTo>
                      <a:pt x="4205" y="11123"/>
                    </a:lnTo>
                    <a:lnTo>
                      <a:pt x="4288" y="12802"/>
                    </a:lnTo>
                    <a:lnTo>
                      <a:pt x="6660" y="13693"/>
                    </a:lnTo>
                    <a:lnTo>
                      <a:pt x="7247" y="12877"/>
                    </a:lnTo>
                    <a:lnTo>
                      <a:pt x="9155" y="12327"/>
                    </a:lnTo>
                    <a:lnTo>
                      <a:pt x="11504" y="13053"/>
                    </a:lnTo>
                    <a:lnTo>
                      <a:pt x="14201" y="12394"/>
                    </a:lnTo>
                    <a:lnTo>
                      <a:pt x="15175" y="12877"/>
                    </a:lnTo>
                    <a:lnTo>
                      <a:pt x="17017" y="11670"/>
                    </a:lnTo>
                    <a:lnTo>
                      <a:pt x="18181" y="10184"/>
                    </a:lnTo>
                    <a:lnTo>
                      <a:pt x="19257" y="10215"/>
                    </a:lnTo>
                    <a:lnTo>
                      <a:pt x="20073" y="10775"/>
                    </a:lnTo>
                    <a:lnTo>
                      <a:pt x="22105" y="9439"/>
                    </a:lnTo>
                    <a:lnTo>
                      <a:pt x="23818" y="9628"/>
                    </a:lnTo>
                    <a:lnTo>
                      <a:pt x="25264" y="9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400" y="1817640"/>
                <a:ext cx="8732880" cy="4367160"/>
              </a:xfrm>
              <a:custGeom>
                <a:avLst/>
                <a:gdLst/>
                <a:ahLst/>
                <a:rect l="l" t="t" r="r" b="b"/>
                <a:pathLst>
                  <a:path w="24298" h="12164">
                    <a:moveTo>
                      <a:pt x="1057" y="0"/>
                    </a:moveTo>
                    <a:lnTo>
                      <a:pt x="0" y="1479"/>
                    </a:lnTo>
                    <a:lnTo>
                      <a:pt x="361" y="3618"/>
                    </a:lnTo>
                    <a:lnTo>
                      <a:pt x="1070" y="3848"/>
                    </a:lnTo>
                    <a:lnTo>
                      <a:pt x="2084" y="4789"/>
                    </a:lnTo>
                    <a:lnTo>
                      <a:pt x="2454" y="6351"/>
                    </a:lnTo>
                    <a:lnTo>
                      <a:pt x="3698" y="6605"/>
                    </a:lnTo>
                    <a:lnTo>
                      <a:pt x="5544" y="5945"/>
                    </a:lnTo>
                    <a:lnTo>
                      <a:pt x="5760" y="6579"/>
                    </a:lnTo>
                    <a:lnTo>
                      <a:pt x="7144" y="6667"/>
                    </a:lnTo>
                    <a:lnTo>
                      <a:pt x="8208" y="8219"/>
                    </a:lnTo>
                    <a:lnTo>
                      <a:pt x="7351" y="9545"/>
                    </a:lnTo>
                    <a:lnTo>
                      <a:pt x="5765" y="9770"/>
                    </a:lnTo>
                    <a:lnTo>
                      <a:pt x="4371" y="9571"/>
                    </a:lnTo>
                    <a:lnTo>
                      <a:pt x="3979" y="9889"/>
                    </a:lnTo>
                    <a:lnTo>
                      <a:pt x="4442" y="10643"/>
                    </a:lnTo>
                    <a:lnTo>
                      <a:pt x="4371" y="11185"/>
                    </a:lnTo>
                    <a:lnTo>
                      <a:pt x="5011" y="12163"/>
                    </a:lnTo>
                    <a:lnTo>
                      <a:pt x="7321" y="11560"/>
                    </a:lnTo>
                    <a:lnTo>
                      <a:pt x="7603" y="10983"/>
                    </a:lnTo>
                    <a:lnTo>
                      <a:pt x="8353" y="11243"/>
                    </a:lnTo>
                    <a:lnTo>
                      <a:pt x="10305" y="10789"/>
                    </a:lnTo>
                    <a:lnTo>
                      <a:pt x="10768" y="11962"/>
                    </a:lnTo>
                    <a:lnTo>
                      <a:pt x="12650" y="11199"/>
                    </a:lnTo>
                    <a:lnTo>
                      <a:pt x="14387" y="11419"/>
                    </a:lnTo>
                    <a:lnTo>
                      <a:pt x="15524" y="10696"/>
                    </a:lnTo>
                    <a:lnTo>
                      <a:pt x="15841" y="9170"/>
                    </a:lnTo>
                    <a:lnTo>
                      <a:pt x="17689" y="9196"/>
                    </a:lnTo>
                    <a:lnTo>
                      <a:pt x="17940" y="8478"/>
                    </a:lnTo>
                    <a:lnTo>
                      <a:pt x="18686" y="8508"/>
                    </a:lnTo>
                    <a:lnTo>
                      <a:pt x="19681" y="9227"/>
                    </a:lnTo>
                    <a:lnTo>
                      <a:pt x="21316" y="7995"/>
                    </a:lnTo>
                    <a:lnTo>
                      <a:pt x="23031" y="7867"/>
                    </a:lnTo>
                    <a:lnTo>
                      <a:pt x="23657" y="6923"/>
                    </a:lnTo>
                    <a:lnTo>
                      <a:pt x="24297" y="69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75200" y="1562040"/>
                <a:ext cx="1244520" cy="1876320"/>
              </a:xfrm>
              <a:custGeom>
                <a:avLst/>
                <a:gdLst/>
                <a:ahLst/>
                <a:rect l="l" t="t" r="r" b="b"/>
                <a:pathLst>
                  <a:path w="3487" h="5242">
                    <a:moveTo>
                      <a:pt x="613" y="0"/>
                    </a:moveTo>
                    <a:lnTo>
                      <a:pt x="925" y="1026"/>
                    </a:lnTo>
                    <a:lnTo>
                      <a:pt x="701" y="2832"/>
                    </a:lnTo>
                    <a:lnTo>
                      <a:pt x="2003" y="3397"/>
                    </a:lnTo>
                    <a:lnTo>
                      <a:pt x="2669" y="4610"/>
                    </a:lnTo>
                    <a:lnTo>
                      <a:pt x="3486" y="5241"/>
                    </a:lnTo>
                    <a:lnTo>
                      <a:pt x="2384" y="4896"/>
                    </a:lnTo>
                    <a:lnTo>
                      <a:pt x="1601" y="3891"/>
                    </a:lnTo>
                    <a:lnTo>
                      <a:pt x="613" y="3754"/>
                    </a:lnTo>
                    <a:lnTo>
                      <a:pt x="0" y="2197"/>
                    </a:lnTo>
                    <a:lnTo>
                      <a:pt x="211" y="92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04040" y="1422360"/>
                <a:ext cx="909360" cy="1763640"/>
              </a:xfrm>
              <a:custGeom>
                <a:avLst/>
                <a:gdLst/>
                <a:ahLst/>
                <a:rect l="l" t="t" r="r" b="b"/>
                <a:pathLst>
                  <a:path w="2557" h="4929">
                    <a:moveTo>
                      <a:pt x="0" y="0"/>
                    </a:moveTo>
                    <a:lnTo>
                      <a:pt x="564" y="1446"/>
                    </a:lnTo>
                    <a:lnTo>
                      <a:pt x="39" y="2906"/>
                    </a:lnTo>
                    <a:lnTo>
                      <a:pt x="176" y="3366"/>
                    </a:lnTo>
                    <a:lnTo>
                      <a:pt x="1032" y="3259"/>
                    </a:lnTo>
                    <a:lnTo>
                      <a:pt x="1517" y="4654"/>
                    </a:lnTo>
                    <a:lnTo>
                      <a:pt x="2556" y="4928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0000" y="1536840"/>
                <a:ext cx="3910680" cy="3789360"/>
              </a:xfrm>
              <a:custGeom>
                <a:avLst/>
                <a:gdLst/>
                <a:ahLst/>
                <a:rect l="l" t="t" r="r" b="b"/>
                <a:pathLst>
                  <a:path w="10895" h="10559">
                    <a:moveTo>
                      <a:pt x="4928" y="0"/>
                    </a:moveTo>
                    <a:lnTo>
                      <a:pt x="5197" y="991"/>
                    </a:lnTo>
                    <a:lnTo>
                      <a:pt x="6141" y="1493"/>
                    </a:lnTo>
                    <a:lnTo>
                      <a:pt x="6189" y="2413"/>
                    </a:lnTo>
                    <a:lnTo>
                      <a:pt x="5916" y="3225"/>
                    </a:lnTo>
                    <a:lnTo>
                      <a:pt x="6321" y="4076"/>
                    </a:lnTo>
                    <a:lnTo>
                      <a:pt x="6414" y="4887"/>
                    </a:lnTo>
                    <a:lnTo>
                      <a:pt x="5779" y="5033"/>
                    </a:lnTo>
                    <a:lnTo>
                      <a:pt x="4081" y="6098"/>
                    </a:lnTo>
                    <a:lnTo>
                      <a:pt x="4298" y="6415"/>
                    </a:lnTo>
                    <a:lnTo>
                      <a:pt x="4214" y="7156"/>
                    </a:lnTo>
                    <a:lnTo>
                      <a:pt x="3445" y="8006"/>
                    </a:lnTo>
                    <a:lnTo>
                      <a:pt x="2375" y="8716"/>
                    </a:lnTo>
                    <a:lnTo>
                      <a:pt x="669" y="8928"/>
                    </a:lnTo>
                    <a:lnTo>
                      <a:pt x="82" y="9918"/>
                    </a:lnTo>
                    <a:lnTo>
                      <a:pt x="0" y="10558"/>
                    </a:lnTo>
                    <a:lnTo>
                      <a:pt x="938" y="9601"/>
                    </a:lnTo>
                    <a:lnTo>
                      <a:pt x="2772" y="9208"/>
                    </a:lnTo>
                    <a:lnTo>
                      <a:pt x="3940" y="8399"/>
                    </a:lnTo>
                    <a:lnTo>
                      <a:pt x="5422" y="8751"/>
                    </a:lnTo>
                    <a:lnTo>
                      <a:pt x="7354" y="8399"/>
                    </a:lnTo>
                    <a:lnTo>
                      <a:pt x="8742" y="7689"/>
                    </a:lnTo>
                    <a:lnTo>
                      <a:pt x="8879" y="7050"/>
                    </a:lnTo>
                    <a:lnTo>
                      <a:pt x="9861" y="6592"/>
                    </a:lnTo>
                    <a:lnTo>
                      <a:pt x="10400" y="6839"/>
                    </a:lnTo>
                    <a:lnTo>
                      <a:pt x="10894" y="65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1920" y="1693800"/>
                <a:ext cx="2209320" cy="2131920"/>
              </a:xfrm>
              <a:custGeom>
                <a:avLst/>
                <a:gdLst/>
                <a:ahLst/>
                <a:rect l="l" t="t" r="r" b="b"/>
                <a:pathLst>
                  <a:path w="6168" h="5951">
                    <a:moveTo>
                      <a:pt x="2732" y="683"/>
                    </a:moveTo>
                    <a:lnTo>
                      <a:pt x="1856" y="683"/>
                    </a:lnTo>
                    <a:lnTo>
                      <a:pt x="903" y="2236"/>
                    </a:lnTo>
                    <a:lnTo>
                      <a:pt x="0" y="2968"/>
                    </a:lnTo>
                    <a:lnTo>
                      <a:pt x="2147" y="3453"/>
                    </a:lnTo>
                    <a:lnTo>
                      <a:pt x="1873" y="4452"/>
                    </a:lnTo>
                    <a:lnTo>
                      <a:pt x="2719" y="4791"/>
                    </a:lnTo>
                    <a:lnTo>
                      <a:pt x="2195" y="5950"/>
                    </a:lnTo>
                    <a:lnTo>
                      <a:pt x="4235" y="4567"/>
                    </a:lnTo>
                    <a:lnTo>
                      <a:pt x="4081" y="3422"/>
                    </a:lnTo>
                    <a:lnTo>
                      <a:pt x="5206" y="3303"/>
                    </a:lnTo>
                    <a:lnTo>
                      <a:pt x="6167" y="2650"/>
                    </a:lnTo>
                    <a:lnTo>
                      <a:pt x="5796" y="1832"/>
                    </a:lnTo>
                    <a:lnTo>
                      <a:pt x="5911" y="864"/>
                    </a:lnTo>
                    <a:lnTo>
                      <a:pt x="5162" y="723"/>
                    </a:lnTo>
                    <a:lnTo>
                      <a:pt x="4090" y="0"/>
                    </a:lnTo>
                    <a:lnTo>
                      <a:pt x="2732" y="683"/>
                    </a:lnTo>
                    <a:lnTo>
                      <a:pt x="2732" y="683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0240" y="3224160"/>
                <a:ext cx="1982520" cy="1274760"/>
              </a:xfrm>
              <a:custGeom>
                <a:avLst/>
                <a:gdLst/>
                <a:ahLst/>
                <a:rect l="l" t="t" r="r" b="b"/>
                <a:pathLst>
                  <a:path w="5538" h="3571">
                    <a:moveTo>
                      <a:pt x="3169" y="805"/>
                    </a:moveTo>
                    <a:lnTo>
                      <a:pt x="3350" y="145"/>
                    </a:lnTo>
                    <a:lnTo>
                      <a:pt x="3897" y="0"/>
                    </a:lnTo>
                    <a:lnTo>
                      <a:pt x="4334" y="344"/>
                    </a:lnTo>
                    <a:lnTo>
                      <a:pt x="4770" y="1091"/>
                    </a:lnTo>
                    <a:lnTo>
                      <a:pt x="5537" y="1008"/>
                    </a:lnTo>
                    <a:lnTo>
                      <a:pt x="5501" y="1581"/>
                    </a:lnTo>
                    <a:lnTo>
                      <a:pt x="4479" y="1899"/>
                    </a:lnTo>
                    <a:lnTo>
                      <a:pt x="3875" y="1837"/>
                    </a:lnTo>
                    <a:lnTo>
                      <a:pt x="3169" y="2119"/>
                    </a:lnTo>
                    <a:lnTo>
                      <a:pt x="2605" y="2789"/>
                    </a:lnTo>
                    <a:lnTo>
                      <a:pt x="1864" y="2366"/>
                    </a:lnTo>
                    <a:lnTo>
                      <a:pt x="1127" y="3570"/>
                    </a:lnTo>
                    <a:lnTo>
                      <a:pt x="290" y="3367"/>
                    </a:lnTo>
                    <a:lnTo>
                      <a:pt x="0" y="2648"/>
                    </a:lnTo>
                    <a:lnTo>
                      <a:pt x="691" y="2128"/>
                    </a:lnTo>
                    <a:lnTo>
                      <a:pt x="1092" y="1237"/>
                    </a:lnTo>
                    <a:lnTo>
                      <a:pt x="1930" y="659"/>
                    </a:lnTo>
                    <a:lnTo>
                      <a:pt x="3169" y="831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1320" y="5514840"/>
                <a:ext cx="4507920" cy="1239840"/>
              </a:xfrm>
              <a:custGeom>
                <a:avLst/>
                <a:gdLst/>
                <a:ahLst/>
                <a:rect l="l" t="t" r="r" b="b"/>
                <a:pathLst>
                  <a:path w="12553" h="3474">
                    <a:moveTo>
                      <a:pt x="12507" y="70"/>
                    </a:moveTo>
                    <a:lnTo>
                      <a:pt x="10986" y="0"/>
                    </a:lnTo>
                    <a:lnTo>
                      <a:pt x="10039" y="357"/>
                    </a:lnTo>
                    <a:lnTo>
                      <a:pt x="8531" y="194"/>
                    </a:lnTo>
                    <a:lnTo>
                      <a:pt x="7664" y="1561"/>
                    </a:lnTo>
                    <a:lnTo>
                      <a:pt x="7051" y="935"/>
                    </a:lnTo>
                    <a:lnTo>
                      <a:pt x="5957" y="1358"/>
                    </a:lnTo>
                    <a:lnTo>
                      <a:pt x="6367" y="2269"/>
                    </a:lnTo>
                    <a:lnTo>
                      <a:pt x="4722" y="1817"/>
                    </a:lnTo>
                    <a:lnTo>
                      <a:pt x="3912" y="2380"/>
                    </a:lnTo>
                    <a:lnTo>
                      <a:pt x="0" y="2909"/>
                    </a:lnTo>
                    <a:lnTo>
                      <a:pt x="1268" y="3473"/>
                    </a:lnTo>
                    <a:lnTo>
                      <a:pt x="4582" y="2979"/>
                    </a:lnTo>
                    <a:lnTo>
                      <a:pt x="5604" y="3297"/>
                    </a:lnTo>
                    <a:lnTo>
                      <a:pt x="9237" y="3046"/>
                    </a:lnTo>
                    <a:lnTo>
                      <a:pt x="10224" y="3297"/>
                    </a:lnTo>
                    <a:lnTo>
                      <a:pt x="10824" y="2627"/>
                    </a:lnTo>
                    <a:lnTo>
                      <a:pt x="11952" y="3156"/>
                    </a:lnTo>
                    <a:lnTo>
                      <a:pt x="11969" y="1495"/>
                    </a:lnTo>
                    <a:lnTo>
                      <a:pt x="12552" y="113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2440" y="1463760"/>
                <a:ext cx="496800" cy="1344600"/>
              </a:xfrm>
              <a:custGeom>
                <a:avLst/>
                <a:gdLst/>
                <a:ahLst/>
                <a:rect l="l" t="t" r="r" b="b"/>
                <a:pathLst>
                  <a:path w="1411" h="3765">
                    <a:moveTo>
                      <a:pt x="0" y="0"/>
                    </a:moveTo>
                    <a:lnTo>
                      <a:pt x="467" y="1379"/>
                    </a:lnTo>
                    <a:lnTo>
                      <a:pt x="467" y="2793"/>
                    </a:lnTo>
                    <a:lnTo>
                      <a:pt x="1184" y="3764"/>
                    </a:lnTo>
                    <a:lnTo>
                      <a:pt x="1229" y="2542"/>
                    </a:lnTo>
                    <a:lnTo>
                      <a:pt x="1052" y="1763"/>
                    </a:lnTo>
                    <a:lnTo>
                      <a:pt x="1410" y="1057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56280" y="5661000"/>
                <a:ext cx="1014120" cy="612720"/>
              </a:xfrm>
              <a:custGeom>
                <a:avLst/>
                <a:gdLst/>
                <a:ahLst/>
                <a:rect l="l" t="t" r="r" b="b"/>
                <a:pathLst>
                  <a:path w="2848" h="1733">
                    <a:moveTo>
                      <a:pt x="2220" y="0"/>
                    </a:moveTo>
                    <a:lnTo>
                      <a:pt x="1409" y="269"/>
                    </a:lnTo>
                    <a:lnTo>
                      <a:pt x="1047" y="481"/>
                    </a:lnTo>
                    <a:lnTo>
                      <a:pt x="633" y="955"/>
                    </a:lnTo>
                    <a:lnTo>
                      <a:pt x="0" y="1732"/>
                    </a:lnTo>
                    <a:lnTo>
                      <a:pt x="1586" y="1164"/>
                    </a:lnTo>
                    <a:lnTo>
                      <a:pt x="1904" y="805"/>
                    </a:lnTo>
                    <a:lnTo>
                      <a:pt x="2847" y="628"/>
                    </a:lnTo>
                    <a:lnTo>
                      <a:pt x="2220" y="0"/>
                    </a:lnTo>
                    <a:lnTo>
                      <a:pt x="2220" y="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040" y="3808440"/>
                <a:ext cx="4330080" cy="3036960"/>
              </a:xfrm>
              <a:custGeom>
                <a:avLst/>
                <a:gdLst/>
                <a:ahLst/>
                <a:rect l="l" t="t" r="r" b="b"/>
                <a:pathLst>
                  <a:path w="12060" h="8465">
                    <a:moveTo>
                      <a:pt x="0" y="0"/>
                    </a:moveTo>
                    <a:lnTo>
                      <a:pt x="422" y="1480"/>
                    </a:lnTo>
                    <a:lnTo>
                      <a:pt x="1691" y="1692"/>
                    </a:lnTo>
                    <a:lnTo>
                      <a:pt x="2538" y="3172"/>
                    </a:lnTo>
                    <a:lnTo>
                      <a:pt x="2326" y="4231"/>
                    </a:lnTo>
                    <a:lnTo>
                      <a:pt x="2961" y="4867"/>
                    </a:lnTo>
                    <a:lnTo>
                      <a:pt x="2538" y="6137"/>
                    </a:lnTo>
                    <a:lnTo>
                      <a:pt x="2749" y="7193"/>
                    </a:lnTo>
                    <a:lnTo>
                      <a:pt x="6558" y="8252"/>
                    </a:lnTo>
                    <a:lnTo>
                      <a:pt x="7404" y="7617"/>
                    </a:lnTo>
                    <a:lnTo>
                      <a:pt x="9731" y="7617"/>
                    </a:lnTo>
                    <a:lnTo>
                      <a:pt x="10154" y="7193"/>
                    </a:lnTo>
                    <a:lnTo>
                      <a:pt x="12059" y="8252"/>
                    </a:lnTo>
                    <a:lnTo>
                      <a:pt x="11635" y="8464"/>
                    </a:lnTo>
                    <a:lnTo>
                      <a:pt x="10154" y="8040"/>
                    </a:lnTo>
                    <a:lnTo>
                      <a:pt x="9519" y="8252"/>
                    </a:lnTo>
                    <a:lnTo>
                      <a:pt x="7193" y="8464"/>
                    </a:lnTo>
                    <a:lnTo>
                      <a:pt x="6346" y="8464"/>
                    </a:lnTo>
                    <a:lnTo>
                      <a:pt x="2114" y="8040"/>
                    </a:lnTo>
                    <a:lnTo>
                      <a:pt x="845" y="8252"/>
                    </a:lnTo>
                    <a:lnTo>
                      <a:pt x="422" y="7405"/>
                    </a:lnTo>
                    <a:lnTo>
                      <a:pt x="1269" y="6349"/>
                    </a:lnTo>
                    <a:lnTo>
                      <a:pt x="1479" y="4867"/>
                    </a:lnTo>
                    <a:lnTo>
                      <a:pt x="634" y="3807"/>
                    </a:lnTo>
                    <a:lnTo>
                      <a:pt x="1057" y="2751"/>
                    </a:lnTo>
                    <a:lnTo>
                      <a:pt x="210" y="232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4200" y="3692160"/>
              <a:ext cx="2150640" cy="2598480"/>
              <a:chOff x="34200" y="3692160"/>
              <a:chExt cx="2150640" cy="25984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20600" y="611208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97560" y="6107040"/>
                <a:ext cx="107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53640" y="6099120"/>
                <a:ext cx="107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71160" y="6133320"/>
                <a:ext cx="997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335160" y="6141960"/>
                <a:ext cx="982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62800" y="613980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218880" y="6138000"/>
                <a:ext cx="997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615960" y="6112440"/>
                <a:ext cx="997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71320" y="611784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513720" y="6119640"/>
                <a:ext cx="982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49280" y="613224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49240" y="60480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84440" y="605592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38720" y="60768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95880" y="608292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780000">
                <a:off x="1062360" y="5942880"/>
                <a:ext cx="900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17360" y="5972400"/>
                <a:ext cx="88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9480" y="596916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23400" y="6007320"/>
                <a:ext cx="918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70080" y="582012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7960" y="5825880"/>
                <a:ext cx="903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9800" y="587088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780000">
                <a:off x="1143720" y="589932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82120" y="5648400"/>
                <a:ext cx="964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43600" y="567972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5640" y="573156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7840" y="57582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60000">
                <a:off x="1625400" y="548496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16040" y="550728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68520" y="555588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590800"/>
                <a:ext cx="9648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0040" y="5301360"/>
                <a:ext cx="10872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0960" y="533916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38080" y="537732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703160" y="541224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48600" y="5082480"/>
                <a:ext cx="118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34560" y="5137920"/>
                <a:ext cx="115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3400" y="5177880"/>
                <a:ext cx="113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799280" y="5206320"/>
                <a:ext cx="1072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00800" y="4927680"/>
                <a:ext cx="113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85320" y="4946760"/>
                <a:ext cx="113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85320" y="4986360"/>
                <a:ext cx="116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1720" y="4997160"/>
                <a:ext cx="113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15200" y="470880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14840" y="4748400"/>
                <a:ext cx="12456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14840" y="478620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13760" y="4842000"/>
                <a:ext cx="118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08720" y="451584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11960" y="454752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16640" y="458424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19880" y="464364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57960" y="4353840"/>
                <a:ext cx="12168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56520" y="4376160"/>
                <a:ext cx="1213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80000">
                <a:off x="1887120" y="441000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80000">
                <a:off x="1902600" y="444492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0960" y="4195440"/>
                <a:ext cx="12312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58600" y="420840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00000">
                <a:off x="1802880" y="4240080"/>
                <a:ext cx="1213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06120" y="427644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22520" y="4046760"/>
                <a:ext cx="1216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57080" y="4083480"/>
                <a:ext cx="1231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81200" y="4118040"/>
                <a:ext cx="124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706400" y="4121280"/>
                <a:ext cx="124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7960" y="4069440"/>
                <a:ext cx="267480" cy="227880"/>
              </a:xfrm>
              <a:custGeom>
                <a:avLst/>
                <a:gdLst/>
                <a:ahLst/>
                <a:rect l="l" t="t" r="r" b="b"/>
                <a:pathLst>
                  <a:path w="797" h="671">
                    <a:moveTo>
                      <a:pt x="0" y="639"/>
                    </a:moveTo>
                    <a:lnTo>
                      <a:pt x="121" y="652"/>
                    </a:lnTo>
                    <a:lnTo>
                      <a:pt x="280" y="204"/>
                    </a:lnTo>
                    <a:lnTo>
                      <a:pt x="415" y="670"/>
                    </a:lnTo>
                    <a:lnTo>
                      <a:pt x="570" y="670"/>
                    </a:lnTo>
                    <a:lnTo>
                      <a:pt x="796" y="39"/>
                    </a:lnTo>
                    <a:lnTo>
                      <a:pt x="654" y="44"/>
                    </a:lnTo>
                    <a:lnTo>
                      <a:pt x="495" y="497"/>
                    </a:lnTo>
                    <a:lnTo>
                      <a:pt x="346" y="0"/>
                    </a:lnTo>
                    <a:lnTo>
                      <a:pt x="210" y="0"/>
                    </a:lnTo>
                    <a:lnTo>
                      <a:pt x="0" y="639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293400" y="4942800"/>
                <a:ext cx="1906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38880" y="4960800"/>
                <a:ext cx="1592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00000">
                <a:off x="1438920" y="3940920"/>
                <a:ext cx="1188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00000">
                <a:off x="1478160" y="3994920"/>
                <a:ext cx="115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09120" y="3977640"/>
                <a:ext cx="1234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1880" y="3988440"/>
                <a:ext cx="124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52440" y="386172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3480" y="387432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9840" y="3904200"/>
                <a:ext cx="115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8360" y="3944880"/>
                <a:ext cx="1173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20000">
                <a:off x="1037160" y="3820680"/>
                <a:ext cx="1094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100160" y="3844440"/>
                <a:ext cx="1094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46240" y="385380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75400" y="3877920"/>
                <a:ext cx="107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14320" y="3817440"/>
                <a:ext cx="993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55720" y="383148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904320" y="3826800"/>
                <a:ext cx="1090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980000">
                <a:off x="968400" y="3845160"/>
                <a:ext cx="1076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77440" y="3881160"/>
                <a:ext cx="982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00000">
                <a:off x="620280" y="385164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99120" y="3873600"/>
                <a:ext cx="982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26840" y="3826800"/>
                <a:ext cx="997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53160" y="39402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416160" y="392256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47840" y="39114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80960" y="3886200"/>
                <a:ext cx="97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59040" y="4077720"/>
                <a:ext cx="88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29960" y="404784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820000">
                <a:off x="188280" y="40212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820000">
                <a:off x="231120" y="400536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78640" y="3965400"/>
                <a:ext cx="88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080" y="5326560"/>
                <a:ext cx="1087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21520" y="5491440"/>
                <a:ext cx="365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86040" y="4430520"/>
                <a:ext cx="3654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34000" y="4547520"/>
                <a:ext cx="4838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40000">
                <a:off x="356400" y="6183720"/>
                <a:ext cx="2073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96480" y="6182640"/>
                <a:ext cx="2149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93280" y="6151320"/>
                <a:ext cx="196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42040" y="6074640"/>
                <a:ext cx="1947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72440" y="5964480"/>
                <a:ext cx="1929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2400" y="5826240"/>
                <a:ext cx="196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91120" y="5639040"/>
                <a:ext cx="196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15840" y="3987000"/>
                <a:ext cx="196200" cy="792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56320" y="3920760"/>
                <a:ext cx="196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42680" y="3801240"/>
                <a:ext cx="2070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54720" y="3795480"/>
                <a:ext cx="223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91960" y="3800520"/>
                <a:ext cx="2325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95360" y="3867120"/>
                <a:ext cx="2502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4200" y="3972600"/>
                <a:ext cx="2480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17200" y="4116600"/>
                <a:ext cx="25596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31320" y="4275000"/>
                <a:ext cx="2466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89640" y="4455720"/>
                <a:ext cx="2466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40760" y="4653360"/>
                <a:ext cx="24624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06920" y="4864320"/>
                <a:ext cx="24660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98200" y="5260320"/>
                <a:ext cx="2224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60000">
                <a:off x="1663560" y="5473800"/>
                <a:ext cx="20988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4240" y="4965840"/>
                <a:ext cx="304920" cy="177120"/>
              </a:xfrm>
              <a:custGeom>
                <a:avLst/>
                <a:gdLst/>
                <a:ahLst/>
                <a:rect l="l" t="t" r="r" b="b"/>
                <a:pathLst>
                  <a:path w="903" h="534">
                    <a:moveTo>
                      <a:pt x="743" y="533"/>
                    </a:moveTo>
                    <a:lnTo>
                      <a:pt x="902" y="54"/>
                    </a:lnTo>
                    <a:lnTo>
                      <a:pt x="185" y="0"/>
                    </a:lnTo>
                    <a:lnTo>
                      <a:pt x="0" y="480"/>
                    </a:lnTo>
                    <a:lnTo>
                      <a:pt x="132" y="506"/>
                    </a:lnTo>
                    <a:lnTo>
                      <a:pt x="264" y="133"/>
                    </a:lnTo>
                    <a:lnTo>
                      <a:pt x="449" y="160"/>
                    </a:lnTo>
                    <a:lnTo>
                      <a:pt x="343" y="480"/>
                    </a:lnTo>
                    <a:lnTo>
                      <a:pt x="449" y="480"/>
                    </a:lnTo>
                    <a:lnTo>
                      <a:pt x="583" y="160"/>
                    </a:lnTo>
                    <a:lnTo>
                      <a:pt x="715" y="160"/>
                    </a:lnTo>
                    <a:lnTo>
                      <a:pt x="609" y="506"/>
                    </a:lnTo>
                    <a:lnTo>
                      <a:pt x="743" y="533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080" y="4319280"/>
                <a:ext cx="129600" cy="112680"/>
              </a:xfrm>
              <a:custGeom>
                <a:avLst/>
                <a:gdLst/>
                <a:ahLst/>
                <a:rect l="l" t="t" r="r" b="b"/>
                <a:pathLst>
                  <a:path w="400" h="349">
                    <a:moveTo>
                      <a:pt x="294" y="160"/>
                    </a:moveTo>
                    <a:lnTo>
                      <a:pt x="294" y="160"/>
                    </a:lnTo>
                    <a:lnTo>
                      <a:pt x="79" y="107"/>
                    </a:lnTo>
                    <a:lnTo>
                      <a:pt x="0" y="133"/>
                    </a:lnTo>
                    <a:lnTo>
                      <a:pt x="159" y="348"/>
                    </a:lnTo>
                    <a:lnTo>
                      <a:pt x="215" y="321"/>
                    </a:lnTo>
                    <a:lnTo>
                      <a:pt x="106" y="160"/>
                    </a:lnTo>
                    <a:lnTo>
                      <a:pt x="106" y="160"/>
                    </a:lnTo>
                    <a:lnTo>
                      <a:pt x="321" y="241"/>
                    </a:lnTo>
                    <a:lnTo>
                      <a:pt x="399" y="188"/>
                    </a:lnTo>
                    <a:lnTo>
                      <a:pt x="241" y="0"/>
                    </a:lnTo>
                    <a:lnTo>
                      <a:pt x="186" y="26"/>
                    </a:lnTo>
                    <a:lnTo>
                      <a:pt x="294" y="160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3880" y="4206960"/>
                <a:ext cx="148320" cy="129960"/>
              </a:xfrm>
              <a:custGeom>
                <a:avLst/>
                <a:gdLst/>
                <a:ahLst/>
                <a:rect l="l" t="t" r="r" b="b"/>
                <a:pathLst>
                  <a:path w="449" h="397">
                    <a:moveTo>
                      <a:pt x="238" y="396"/>
                    </a:moveTo>
                    <a:lnTo>
                      <a:pt x="288" y="368"/>
                    </a:lnTo>
                    <a:lnTo>
                      <a:pt x="210" y="155"/>
                    </a:lnTo>
                    <a:lnTo>
                      <a:pt x="395" y="288"/>
                    </a:lnTo>
                    <a:lnTo>
                      <a:pt x="448" y="262"/>
                    </a:lnTo>
                    <a:lnTo>
                      <a:pt x="368" y="0"/>
                    </a:lnTo>
                    <a:lnTo>
                      <a:pt x="315" y="54"/>
                    </a:lnTo>
                    <a:lnTo>
                      <a:pt x="368" y="182"/>
                    </a:lnTo>
                    <a:lnTo>
                      <a:pt x="210" y="102"/>
                    </a:lnTo>
                    <a:lnTo>
                      <a:pt x="157" y="129"/>
                    </a:lnTo>
                    <a:lnTo>
                      <a:pt x="197" y="302"/>
                    </a:lnTo>
                    <a:lnTo>
                      <a:pt x="77" y="182"/>
                    </a:lnTo>
                    <a:lnTo>
                      <a:pt x="0" y="235"/>
                    </a:lnTo>
                    <a:lnTo>
                      <a:pt x="238" y="396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5320" y="5540400"/>
                <a:ext cx="120240" cy="114120"/>
              </a:xfrm>
              <a:custGeom>
                <a:avLst/>
                <a:gdLst/>
                <a:ahLst/>
                <a:rect l="l" t="t" r="r" b="b"/>
                <a:pathLst>
                  <a:path w="369" h="349">
                    <a:moveTo>
                      <a:pt x="158" y="348"/>
                    </a:moveTo>
                    <a:lnTo>
                      <a:pt x="368" y="215"/>
                    </a:lnTo>
                    <a:lnTo>
                      <a:pt x="239" y="0"/>
                    </a:lnTo>
                    <a:lnTo>
                      <a:pt x="0" y="132"/>
                    </a:lnTo>
                    <a:lnTo>
                      <a:pt x="26" y="159"/>
                    </a:lnTo>
                    <a:lnTo>
                      <a:pt x="186" y="79"/>
                    </a:lnTo>
                    <a:lnTo>
                      <a:pt x="239" y="132"/>
                    </a:lnTo>
                    <a:lnTo>
                      <a:pt x="105" y="215"/>
                    </a:lnTo>
                    <a:lnTo>
                      <a:pt x="131" y="241"/>
                    </a:lnTo>
                    <a:lnTo>
                      <a:pt x="266" y="159"/>
                    </a:lnTo>
                    <a:lnTo>
                      <a:pt x="292" y="215"/>
                    </a:lnTo>
                    <a:lnTo>
                      <a:pt x="131" y="294"/>
                    </a:lnTo>
                    <a:lnTo>
                      <a:pt x="158" y="348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80320" y="4414680"/>
                <a:ext cx="126360" cy="104400"/>
              </a:xfrm>
              <a:custGeom>
                <a:avLst/>
                <a:gdLst/>
                <a:ahLst/>
                <a:rect l="l" t="t" r="r" b="b"/>
                <a:pathLst>
                  <a:path w="402" h="322">
                    <a:moveTo>
                      <a:pt x="401" y="133"/>
                    </a:moveTo>
                    <a:lnTo>
                      <a:pt x="293" y="0"/>
                    </a:lnTo>
                    <a:lnTo>
                      <a:pt x="0" y="160"/>
                    </a:lnTo>
                    <a:lnTo>
                      <a:pt x="106" y="321"/>
                    </a:lnTo>
                    <a:lnTo>
                      <a:pt x="159" y="294"/>
                    </a:lnTo>
                    <a:lnTo>
                      <a:pt x="79" y="187"/>
                    </a:lnTo>
                    <a:lnTo>
                      <a:pt x="159" y="133"/>
                    </a:lnTo>
                    <a:lnTo>
                      <a:pt x="240" y="241"/>
                    </a:lnTo>
                    <a:lnTo>
                      <a:pt x="267" y="214"/>
                    </a:lnTo>
                    <a:lnTo>
                      <a:pt x="214" y="106"/>
                    </a:lnTo>
                    <a:lnTo>
                      <a:pt x="267" y="53"/>
                    </a:lnTo>
                    <a:lnTo>
                      <a:pt x="347" y="187"/>
                    </a:lnTo>
                    <a:lnTo>
                      <a:pt x="401" y="133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16960" y="4309920"/>
                <a:ext cx="129240" cy="122040"/>
              </a:xfrm>
              <a:custGeom>
                <a:avLst/>
                <a:gdLst/>
                <a:ahLst/>
                <a:rect l="l" t="t" r="r" b="b"/>
                <a:pathLst>
                  <a:path w="401" h="375">
                    <a:moveTo>
                      <a:pt x="186" y="268"/>
                    </a:moveTo>
                    <a:lnTo>
                      <a:pt x="186" y="268"/>
                    </a:lnTo>
                    <a:lnTo>
                      <a:pt x="320" y="53"/>
                    </a:lnTo>
                    <a:lnTo>
                      <a:pt x="293" y="0"/>
                    </a:lnTo>
                    <a:lnTo>
                      <a:pt x="0" y="187"/>
                    </a:lnTo>
                    <a:lnTo>
                      <a:pt x="26" y="24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80" y="321"/>
                    </a:lnTo>
                    <a:lnTo>
                      <a:pt x="107" y="374"/>
                    </a:lnTo>
                    <a:lnTo>
                      <a:pt x="400" y="187"/>
                    </a:lnTo>
                    <a:lnTo>
                      <a:pt x="373" y="134"/>
                    </a:lnTo>
                    <a:lnTo>
                      <a:pt x="186" y="268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000" y="6061680"/>
                <a:ext cx="360" cy="756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7" y="0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000" y="4056480"/>
                <a:ext cx="36360" cy="66600"/>
              </a:xfrm>
              <a:custGeom>
                <a:avLst/>
                <a:gdLst/>
                <a:ahLst/>
                <a:rect l="l" t="t" r="r" b="b"/>
                <a:pathLst>
                  <a:path w="133" h="217">
                    <a:moveTo>
                      <a:pt x="78" y="216"/>
                    </a:moveTo>
                    <a:lnTo>
                      <a:pt x="78" y="216"/>
                    </a:lnTo>
                    <a:lnTo>
                      <a:pt x="132" y="189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78" y="216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000" y="6072840"/>
                <a:ext cx="47160" cy="95040"/>
              </a:xfrm>
              <a:custGeom>
                <a:avLst/>
                <a:gdLst/>
                <a:ahLst/>
                <a:rect l="l" t="t" r="r" b="b"/>
                <a:pathLst>
                  <a:path w="163" h="296">
                    <a:moveTo>
                      <a:pt x="162" y="0"/>
                    </a:moveTo>
                    <a:lnTo>
                      <a:pt x="107" y="0"/>
                    </a:lnTo>
                    <a:lnTo>
                      <a:pt x="107" y="0"/>
                    </a:lnTo>
                    <a:lnTo>
                      <a:pt x="0" y="162"/>
                    </a:lnTo>
                    <a:lnTo>
                      <a:pt x="0" y="295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79200" y="5045040"/>
                <a:ext cx="2383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500400" y="3819600"/>
                <a:ext cx="202320" cy="7560"/>
              </a:xfrm>
              <a:prstGeom prst="roundRect">
                <a:avLst>
                  <a:gd name="adj" fmla="val 8333"/>
                </a:avLst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8680" y="5653080"/>
                <a:ext cx="214560" cy="229680"/>
              </a:xfrm>
              <a:custGeom>
                <a:avLst/>
                <a:gdLst/>
                <a:ahLst/>
                <a:rect l="l" t="t" r="r" b="b"/>
                <a:pathLst>
                  <a:path w="640" h="684">
                    <a:moveTo>
                      <a:pt x="0" y="452"/>
                    </a:moveTo>
                    <a:cubicBezTo>
                      <a:pt x="26" y="621"/>
                      <a:pt x="111" y="683"/>
                      <a:pt x="261" y="683"/>
                    </a:cubicBezTo>
                    <a:cubicBezTo>
                      <a:pt x="492" y="674"/>
                      <a:pt x="470" y="576"/>
                      <a:pt x="518" y="531"/>
                    </a:cubicBezTo>
                    <a:cubicBezTo>
                      <a:pt x="527" y="270"/>
                      <a:pt x="373" y="372"/>
                      <a:pt x="274" y="243"/>
                    </a:cubicBezTo>
                    <a:cubicBezTo>
                      <a:pt x="261" y="185"/>
                      <a:pt x="346" y="48"/>
                      <a:pt x="461" y="150"/>
                    </a:cubicBezTo>
                    <a:cubicBezTo>
                      <a:pt x="479" y="181"/>
                      <a:pt x="492" y="225"/>
                      <a:pt x="518" y="234"/>
                    </a:cubicBezTo>
                    <a:cubicBezTo>
                      <a:pt x="544" y="243"/>
                      <a:pt x="639" y="243"/>
                      <a:pt x="625" y="207"/>
                    </a:cubicBezTo>
                    <a:cubicBezTo>
                      <a:pt x="611" y="171"/>
                      <a:pt x="558" y="22"/>
                      <a:pt x="430" y="8"/>
                    </a:cubicBezTo>
                    <a:cubicBezTo>
                      <a:pt x="342" y="0"/>
                      <a:pt x="213" y="0"/>
                      <a:pt x="160" y="145"/>
                    </a:cubicBezTo>
                    <a:cubicBezTo>
                      <a:pt x="66" y="394"/>
                      <a:pt x="368" y="350"/>
                      <a:pt x="399" y="474"/>
                    </a:cubicBezTo>
                    <a:cubicBezTo>
                      <a:pt x="426" y="576"/>
                      <a:pt x="151" y="652"/>
                      <a:pt x="124" y="447"/>
                    </a:cubicBezTo>
                    <a:cubicBezTo>
                      <a:pt x="53" y="461"/>
                      <a:pt x="66" y="434"/>
                      <a:pt x="0" y="452"/>
                    </a:cubicBez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85320" y="5605560"/>
                <a:ext cx="99360" cy="122040"/>
              </a:xfrm>
              <a:custGeom>
                <a:avLst/>
                <a:gdLst/>
                <a:ahLst/>
                <a:rect l="l" t="t" r="r" b="b"/>
                <a:pathLst>
                  <a:path w="313" h="371">
                    <a:moveTo>
                      <a:pt x="82" y="328"/>
                    </a:moveTo>
                    <a:cubicBezTo>
                      <a:pt x="145" y="370"/>
                      <a:pt x="194" y="359"/>
                      <a:pt x="242" y="306"/>
                    </a:cubicBezTo>
                    <a:cubicBezTo>
                      <a:pt x="312" y="223"/>
                      <a:pt x="272" y="201"/>
                      <a:pt x="273" y="169"/>
                    </a:cubicBezTo>
                    <a:cubicBezTo>
                      <a:pt x="161" y="78"/>
                      <a:pt x="174" y="172"/>
                      <a:pt x="99" y="167"/>
                    </a:cubicBezTo>
                    <a:cubicBezTo>
                      <a:pt x="77" y="154"/>
                      <a:pt x="58" y="83"/>
                      <a:pt x="128" y="74"/>
                    </a:cubicBezTo>
                    <a:cubicBezTo>
                      <a:pt x="144" y="78"/>
                      <a:pt x="165" y="86"/>
                      <a:pt x="175" y="79"/>
                    </a:cubicBezTo>
                    <a:cubicBezTo>
                      <a:pt x="185" y="72"/>
                      <a:pt x="216" y="40"/>
                      <a:pt x="200" y="35"/>
                    </a:cubicBezTo>
                    <a:cubicBezTo>
                      <a:pt x="184" y="30"/>
                      <a:pt x="117" y="0"/>
                      <a:pt x="71" y="42"/>
                    </a:cubicBezTo>
                    <a:cubicBezTo>
                      <a:pt x="40" y="71"/>
                      <a:pt x="0" y="115"/>
                      <a:pt x="31" y="178"/>
                    </a:cubicBezTo>
                    <a:cubicBezTo>
                      <a:pt x="84" y="287"/>
                      <a:pt x="165" y="167"/>
                      <a:pt x="216" y="195"/>
                    </a:cubicBezTo>
                    <a:cubicBezTo>
                      <a:pt x="258" y="217"/>
                      <a:pt x="196" y="335"/>
                      <a:pt x="119" y="283"/>
                    </a:cubicBezTo>
                    <a:cubicBezTo>
                      <a:pt x="101" y="311"/>
                      <a:pt x="97" y="299"/>
                      <a:pt x="82" y="328"/>
                    </a:cubicBez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5920" y="3974400"/>
                <a:ext cx="531000" cy="1981440"/>
              </a:xfrm>
              <a:custGeom>
                <a:avLst/>
                <a:gdLst/>
                <a:ahLst/>
                <a:rect l="l" t="t" r="r" b="b"/>
                <a:pathLst>
                  <a:path w="1537" h="5630">
                    <a:moveTo>
                      <a:pt x="0" y="0"/>
                    </a:moveTo>
                    <a:lnTo>
                      <a:pt x="1266" y="2576"/>
                    </a:lnTo>
                    <a:lnTo>
                      <a:pt x="1536" y="5629"/>
                    </a:lnTo>
                    <a:lnTo>
                      <a:pt x="239" y="299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53600" y="4836960"/>
                <a:ext cx="331920" cy="25812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5943600" y="6172200"/>
            <a:ext cx="2895480" cy="476280"/>
          </a:xfrm>
          <a:prstGeom prst="roundRect">
            <a:avLst>
              <a:gd name="adj" fmla="val 33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896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01680" y="1600200"/>
            <a:ext cx="85089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12120" indent="-312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17520" y="6305400"/>
            <a:ext cx="273348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943600" y="6172200"/>
            <a:ext cx="2895480" cy="476280"/>
          </a:xfrm>
          <a:prstGeom prst="roundRect">
            <a:avLst>
              <a:gd name="adj" fmla="val 33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83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01680" y="1600200"/>
            <a:ext cx="85183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15360" indent="-31536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 flipH="1" flipV="1" rot="5400000">
            <a:off x="4809960" y="2564640"/>
            <a:ext cx="8226360" cy="5364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0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9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9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9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9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Newslet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e Art of the Ask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e Specific with Your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85800" y="2378160"/>
            <a:ext cx="1768320" cy="1279440"/>
          </a:xfrm>
          <a:prstGeom prst="rightArrowCallout">
            <a:avLst>
              <a:gd name="adj1" fmla="val 25002"/>
              <a:gd name="adj2" fmla="val 25000"/>
              <a:gd name="adj3" fmla="val 2303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Keep it Creativ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969920" y="1455840"/>
            <a:ext cx="5183280" cy="397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432080" y="1463760"/>
            <a:ext cx="1768320" cy="1279440"/>
          </a:xfrm>
          <a:prstGeom prst="rightArrowCallout">
            <a:avLst>
              <a:gd name="adj1" fmla="val 25002"/>
              <a:gd name="adj2" fmla="val 25000"/>
              <a:gd name="adj3" fmla="val 2303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25320" y="1455840"/>
            <a:ext cx="3510000" cy="3978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043600" y="1455840"/>
            <a:ext cx="3403440" cy="397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394240" y="4892760"/>
            <a:ext cx="1371600" cy="1325520"/>
          </a:xfrm>
          <a:prstGeom prst="upArrowCallout">
            <a:avLst>
              <a:gd name="adj1" fmla="val 25871"/>
              <a:gd name="adj2" fmla="val 25869"/>
              <a:gd name="adj3" fmla="val 16667"/>
              <a:gd name="adj4" fmla="val 6666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uri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e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45768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457680" cy="6091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543800" y="1295280"/>
            <a:ext cx="1447920" cy="1173240"/>
          </a:xfrm>
          <a:prstGeom prst="leftArrowCallout">
            <a:avLst>
              <a:gd name="adj1" fmla="val 25002"/>
              <a:gd name="adj2" fmla="val 25000"/>
              <a:gd name="adj3" fmla="val 2056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80" y="2743200"/>
            <a:ext cx="1768320" cy="1279440"/>
          </a:xfrm>
          <a:prstGeom prst="rightArrowCallout">
            <a:avLst>
              <a:gd name="adj1" fmla="val 25002"/>
              <a:gd name="adj2" fmla="val 25000"/>
              <a:gd name="adj3" fmla="val 2303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520" y="5029200"/>
            <a:ext cx="1646280" cy="1096920"/>
          </a:xfrm>
          <a:prstGeom prst="rightArrowCallout">
            <a:avLst>
              <a:gd name="adj1" fmla="val 25002"/>
              <a:gd name="adj2" fmla="val 25000"/>
              <a:gd name="adj3" fmla="val 25014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Brainstorm: The Art of the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are your “Asks”? How can people get involved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how you want your supporters to easily plug into what you are do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uild Your Lis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odel as “friend asking frien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BIG and Small Ask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Brainstorm: The Art of the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9680" y="1455480"/>
            <a:ext cx="85186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22360" indent="-2034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xample Ask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ll your Facebook friends about the Gala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wnload the new curriculum for your classroo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onate to the student fund to bring restorative justice to our schoo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mit poetry for the annual youth contes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elp pass our flyers for the upcoming campaig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94240" indent="-2034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ign the petition for the city council meet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01680" y="1573200"/>
            <a:ext cx="851832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419880" cy="54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News Archiv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00360" y="1455840"/>
            <a:ext cx="37195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031840" y="1371600"/>
            <a:ext cx="482616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ppreciate Your Peo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955880" y="1455840"/>
            <a:ext cx="52099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gic Subject Lines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68440" y="1455840"/>
            <a:ext cx="798516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atch “The Fold”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6294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61344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Imag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e careful with how you use imag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ny of your subscribers will not load imag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rcRect l="10019" t="0" r="0" b="10027"/>
          <a:stretch/>
        </p:blipFill>
        <p:spPr>
          <a:xfrm>
            <a:off x="4343400" y="1979640"/>
            <a:ext cx="439884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28012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755800" y="1285920"/>
            <a:ext cx="3200400" cy="5486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828800" y="573120"/>
            <a:ext cx="5683320" cy="53704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990720"/>
            <a:ext cx="1523880" cy="761760"/>
          </a:xfrm>
          <a:prstGeom prst="rightArrowCallout">
            <a:avLst>
              <a:gd name="adj1" fmla="val 25002"/>
              <a:gd name="adj2" fmla="val 25000"/>
              <a:gd name="adj3" fmla="val 3334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4876920"/>
            <a:ext cx="1523880" cy="761760"/>
          </a:xfrm>
          <a:prstGeom prst="rightArrowCallout">
            <a:avLst>
              <a:gd name="adj1" fmla="val 25002"/>
              <a:gd name="adj2" fmla="val 25000"/>
              <a:gd name="adj3" fmla="val 33341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5683320" cy="5370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886200" y="1981080"/>
            <a:ext cx="1523880" cy="762120"/>
          </a:xfrm>
          <a:prstGeom prst="rightArrowCallout">
            <a:avLst>
              <a:gd name="adj1" fmla="val 25002"/>
              <a:gd name="adj2" fmla="val 25000"/>
              <a:gd name="adj3" fmla="val 33325"/>
              <a:gd name="adj4" fmla="val 68648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y Would Anyone Read That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now the Art of the “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are you engaging your community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eep it friendly and person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a table of cont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ull out asks and heade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heck your imag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oday's Agenda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effective email newsletter composi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the art of the “ask” in email newslett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do you get folks engage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st importantly, answer your qu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5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Clea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now what you want your user to learn and d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Tone Casual and Person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odel as friend talking with a frien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ject line is critic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ation should be easily acce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now The Art of “The 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276200"/>
            <a:ext cx="41576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rocess, Process, Proces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tent Cur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ontent Cre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emplate Selec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dd Conten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mages (Select/Resize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43040" y="2031480"/>
            <a:ext cx="415764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Testing, Testing, Test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(Premailer/Browser/EmailClients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Revis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Edits from Tea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Text Vers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6192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8186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Test Schedule Sen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272520"/>
            <a:ext cx="85280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essage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804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01000"/>
              </a:lnSpc>
              <a:spcBef>
                <a:spcPts val="799"/>
              </a:spcBef>
              <a:buClr>
                <a:srgbClr val="336699"/>
              </a:buClr>
              <a:buSzPct val="80000"/>
              <a:buFont typeface="Arial"/>
              <a:buChar char="►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wslet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687240" indent="-230040">
              <a:lnSpc>
                <a:spcPct val="109000"/>
              </a:lnSpc>
              <a:spcBef>
                <a:spcPts val="700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eep it well-section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143000" indent="-228600">
              <a:lnSpc>
                <a:spcPct val="121000"/>
              </a:lnSpc>
              <a:spcBef>
                <a:spcPts val="601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lways include a table of content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687240" indent="-230040">
              <a:lnSpc>
                <a:spcPct val="109000"/>
              </a:lnSpc>
              <a:spcBef>
                <a:spcPts val="700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mploy short introduction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143000" indent="-228600">
              <a:lnSpc>
                <a:spcPct val="109000"/>
              </a:lnSpc>
              <a:spcBef>
                <a:spcPts val="601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ith links to full articl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687240" indent="-230040">
              <a:lnSpc>
                <a:spcPct val="109000"/>
              </a:lnSpc>
              <a:spcBef>
                <a:spcPts val="700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intain regular delivery schedu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143000" indent="-228600">
              <a:lnSpc>
                <a:spcPct val="121000"/>
              </a:lnSpc>
              <a:spcBef>
                <a:spcPts val="601"/>
              </a:spcBef>
              <a:buClr>
                <a:srgbClr val="90abc0"/>
              </a:buClr>
              <a:buFont typeface="Wingdings" charset="2"/>
              <a:buChar char=""/>
              <a:tabLst>
                <a:tab algn="l" pos="287280"/>
                <a:tab algn="l" pos="399960"/>
                <a:tab algn="l" pos="857160"/>
                <a:tab algn="l" pos="1314360"/>
                <a:tab algn="l" pos="1771560"/>
                <a:tab algn="l" pos="2228760"/>
                <a:tab algn="l" pos="2685960"/>
                <a:tab algn="l" pos="3143160"/>
                <a:tab algn="l" pos="3600360"/>
                <a:tab algn="l" pos="4057560"/>
                <a:tab algn="l" pos="4514760"/>
                <a:tab algn="l" pos="4971960"/>
                <a:tab algn="l" pos="5429160"/>
                <a:tab algn="l" pos="5886360"/>
                <a:tab algn="l" pos="6343560"/>
                <a:tab algn="l" pos="6800760"/>
                <a:tab algn="l" pos="7257960"/>
                <a:tab algn="l" pos="7715160"/>
                <a:tab algn="l" pos="8172360"/>
                <a:tab algn="l" pos="8629560"/>
                <a:tab algn="l" pos="9086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reate expectations on the part of recipient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Get Their Digi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01680" y="1631880"/>
            <a:ext cx="851832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9" name=""/>
          <p:cNvSpPr/>
          <p:nvPr/>
        </p:nvSpPr>
        <p:spPr>
          <a:xfrm>
            <a:off x="347760" y="1463760"/>
            <a:ext cx="85215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1160" indent="-28116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28116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116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28116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y would anyone read that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560680" y="2103480"/>
            <a:ext cx="411012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reate the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354040" y="1455840"/>
            <a:ext cx="4413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119320" y="1371600"/>
            <a:ext cx="5424480" cy="4889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315200" y="3627360"/>
            <a:ext cx="1447920" cy="1173240"/>
          </a:xfrm>
          <a:prstGeom prst="leftArrowCallout">
            <a:avLst>
              <a:gd name="adj1" fmla="val 25002"/>
              <a:gd name="adj2" fmla="val 25000"/>
              <a:gd name="adj3" fmla="val 2056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3521160"/>
            <a:ext cx="1768320" cy="1279440"/>
          </a:xfrm>
          <a:prstGeom prst="rightArrowCallout">
            <a:avLst>
              <a:gd name="adj1" fmla="val 25002"/>
              <a:gd name="adj2" fmla="val 25000"/>
              <a:gd name="adj3" fmla="val 2303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7:49:42Z</dcterms:created>
  <dc:creator>Misty </dc:creator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4T19:06:38Z</dcterms:modified>
  <cp:revision>5</cp:revision>
  <dc:subject/>
  <dc:title>Aspiration Email Newsletter Asks</dc:title>
</cp:coreProperties>
</file>