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4BD18-2C90-40A2-A92E-8DCBCF9C74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95160"/>
            <a:ext cx="4541760" cy="342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rganizational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inks to Parts of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orward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eader is too large and pushes the ask and main content below the f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 sidebar pulls out the ask and highlights it with a graphic and tex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idebar focuses attention on the ask to view the add and to don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Uses large image to grab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2540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5400"/>
                <a:tab algn="l" pos="1182600"/>
                <a:tab algn="l" pos="1639800"/>
                <a:tab algn="l" pos="2097000"/>
                <a:tab algn="l" pos="2554200"/>
                <a:tab algn="l" pos="3011400"/>
                <a:tab algn="l" pos="3468600"/>
                <a:tab algn="l" pos="3925800"/>
                <a:tab algn="l" pos="4383000"/>
                <a:tab algn="l" pos="4840200"/>
                <a:tab algn="l" pos="5297400"/>
                <a:tab algn="l" pos="5754600"/>
                <a:tab algn="l" pos="6211800"/>
                <a:tab algn="l" pos="6669000"/>
                <a:tab algn="l" pos="7126200"/>
                <a:tab algn="l" pos="7583400"/>
                <a:tab algn="l" pos="8040600"/>
                <a:tab algn="l" pos="8497800"/>
                <a:tab algn="l" pos="8955000"/>
                <a:tab algn="l" pos="9412200"/>
                <a:tab algn="l" pos="98694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o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5400"/>
                <a:tab algn="l" pos="1182600"/>
                <a:tab algn="l" pos="1639800"/>
                <a:tab algn="l" pos="2097000"/>
                <a:tab algn="l" pos="2554200"/>
                <a:tab algn="l" pos="3011400"/>
                <a:tab algn="l" pos="3468600"/>
                <a:tab algn="l" pos="3925800"/>
                <a:tab algn="l" pos="4383000"/>
                <a:tab algn="l" pos="4840200"/>
                <a:tab algn="l" pos="5297400"/>
                <a:tab algn="l" pos="5754600"/>
                <a:tab algn="l" pos="6211800"/>
                <a:tab algn="l" pos="6669000"/>
                <a:tab algn="l" pos="7126200"/>
                <a:tab algn="l" pos="7583400"/>
                <a:tab algn="l" pos="8040600"/>
                <a:tab algn="l" pos="8497800"/>
                <a:tab algn="l" pos="8955000"/>
                <a:tab algn="l" pos="9412200"/>
                <a:tab algn="l" pos="98694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be/Unsub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5400"/>
                <a:tab algn="l" pos="1182600"/>
                <a:tab algn="l" pos="1639800"/>
                <a:tab algn="l" pos="2097000"/>
                <a:tab algn="l" pos="2554200"/>
                <a:tab algn="l" pos="3011400"/>
                <a:tab algn="l" pos="3468600"/>
                <a:tab algn="l" pos="3925800"/>
                <a:tab algn="l" pos="4383000"/>
                <a:tab algn="l" pos="4840200"/>
                <a:tab algn="l" pos="5297400"/>
                <a:tab algn="l" pos="5754600"/>
                <a:tab algn="l" pos="6211800"/>
                <a:tab algn="l" pos="6669000"/>
                <a:tab algn="l" pos="7126200"/>
                <a:tab algn="l" pos="7583400"/>
                <a:tab algn="l" pos="8040600"/>
                <a:tab algn="l" pos="8497800"/>
                <a:tab algn="l" pos="8955000"/>
                <a:tab algn="l" pos="9412200"/>
                <a:tab algn="l" pos="98694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Updat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5400"/>
                <a:tab algn="l" pos="1182600"/>
                <a:tab algn="l" pos="1639800"/>
                <a:tab algn="l" pos="2097000"/>
                <a:tab algn="l" pos="2554200"/>
                <a:tab algn="l" pos="3011400"/>
                <a:tab algn="l" pos="3468600"/>
                <a:tab algn="l" pos="3925800"/>
                <a:tab algn="l" pos="4383000"/>
                <a:tab algn="l" pos="4840200"/>
                <a:tab algn="l" pos="5297400"/>
                <a:tab algn="l" pos="5754600"/>
                <a:tab algn="l" pos="6211800"/>
                <a:tab algn="l" pos="6669000"/>
                <a:tab algn="l" pos="7126200"/>
                <a:tab algn="l" pos="7583400"/>
                <a:tab algn="l" pos="8040600"/>
                <a:tab algn="l" pos="8497800"/>
                <a:tab algn="l" pos="8955000"/>
                <a:tab algn="l" pos="9412200"/>
                <a:tab algn="l" pos="98694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ddress and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Unsub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ivac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95160"/>
            <a:ext cx="4541760" cy="342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ersonal App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 Ask is pull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sk is rep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sk is pulled out in a visual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mail sets a goal and a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itle and overview of articles that link to a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ink to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673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itle and overview of articles that link to a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ink to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95160"/>
            <a:ext cx="4546440" cy="34261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5436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43560" cy="34228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594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8000"/>
          </a:bodyPr>
          <a:p>
            <a:pPr marL="23328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4809960" y="2564640"/>
            <a:ext cx="8226360" cy="5364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6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Newsletter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00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Best Practices for Composition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792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78000" y="1455840"/>
            <a:ext cx="4765680" cy="397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position Best Practic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41320" y="1455840"/>
            <a:ext cx="5573880" cy="4653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40520" y="2712960"/>
            <a:ext cx="1828800" cy="1219320"/>
          </a:xfrm>
          <a:prstGeom prst="leftArrowCallout">
            <a:avLst>
              <a:gd name="adj1" fmla="val 25002"/>
              <a:gd name="adj2" fmla="val 25000"/>
              <a:gd name="adj3" fmla="val 24998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ys to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ake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360" y="4754520"/>
            <a:ext cx="1905120" cy="1066680"/>
          </a:xfrm>
          <a:prstGeom prst="rightArrowCallout">
            <a:avLst>
              <a:gd name="adj1" fmla="val 25002"/>
              <a:gd name="adj2" fmla="val 25000"/>
              <a:gd name="adj3" fmla="val 29767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e Ask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 the tex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40520" y="5227560"/>
            <a:ext cx="1905120" cy="533520"/>
          </a:xfrm>
          <a:prstGeom prst="leftArrowCallout">
            <a:avLst>
              <a:gd name="adj1" fmla="val 25002"/>
              <a:gd name="adj2" fmla="val 25000"/>
              <a:gd name="adj3" fmla="val 59514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5320" y="1455840"/>
            <a:ext cx="3510000" cy="397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043600" y="1455840"/>
            <a:ext cx="3403440" cy="397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410080" y="4983120"/>
            <a:ext cx="1371600" cy="1143000"/>
          </a:xfrm>
          <a:prstGeom prst="upArrowCallout">
            <a:avLst>
              <a:gd name="adj1" fmla="val 30003"/>
              <a:gd name="adj2" fmla="val 30000"/>
              <a:gd name="adj3" fmla="val 16667"/>
              <a:gd name="adj4" fmla="val 6666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NOT Best Practi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Templat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ll sent messages should be based on reusable email templat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emplates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reamline and standardize communication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nvey organizational identit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nifest best practices for email communic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rovide hooks for recipients to manage profi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crease deliverabilit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Template Element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ssage Head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clude organizational logo and tag line in the header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Have it link to your website.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n’t make the header too tall or it will push down “the fold”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Don't make it harder to view important conten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469120" cy="1398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057400" y="2666880"/>
            <a:ext cx="5945040" cy="1236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981080" y="4572000"/>
            <a:ext cx="5316480" cy="1101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5181480"/>
            <a:ext cx="2057400" cy="762120"/>
          </a:xfrm>
          <a:prstGeom prst="rightArrowCallout">
            <a:avLst>
              <a:gd name="adj1" fmla="val 25002"/>
              <a:gd name="adj2" fmla="val 25000"/>
              <a:gd name="adj3" fmla="val 44993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st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ac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438280"/>
            <a:ext cx="1676160" cy="762120"/>
          </a:xfrm>
          <a:prstGeom prst="rightArrowCallout">
            <a:avLst>
              <a:gd name="adj1" fmla="val 25002"/>
              <a:gd name="adj2" fmla="val 25000"/>
              <a:gd name="adj3" fmla="val 36656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990720"/>
            <a:ext cx="1676160" cy="761760"/>
          </a:xfrm>
          <a:prstGeom prst="rightArrowCallout">
            <a:avLst>
              <a:gd name="adj1" fmla="val 25002"/>
              <a:gd name="adj2" fmla="val 25000"/>
              <a:gd name="adj3" fmla="val 36673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mpa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1371600"/>
            <a:ext cx="1447560" cy="609480"/>
          </a:xfrm>
          <a:prstGeom prst="leftArrowCallout">
            <a:avLst>
              <a:gd name="adj1" fmla="val 25002"/>
              <a:gd name="adj2" fmla="val 25000"/>
              <a:gd name="adj3" fmla="val 39585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3657600"/>
            <a:ext cx="1447920" cy="609480"/>
          </a:xfrm>
          <a:prstGeom prst="leftArrowCallout">
            <a:avLst>
              <a:gd name="adj1" fmla="val 25002"/>
              <a:gd name="adj2" fmla="val 25000"/>
              <a:gd name="adj3" fmla="val 39594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5257800"/>
            <a:ext cx="1600200" cy="609480"/>
          </a:xfrm>
          <a:prstGeom prst="leftArrowCallout">
            <a:avLst>
              <a:gd name="adj1" fmla="val 25002"/>
              <a:gd name="adj2" fmla="val 25000"/>
              <a:gd name="adj3" fmla="val 43759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304920"/>
            <a:ext cx="8526240" cy="7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xample: The “Fold”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2057400"/>
            <a:ext cx="1523880" cy="1676520"/>
          </a:xfrm>
          <a:prstGeom prst="rightArrowCallout">
            <a:avLst>
              <a:gd name="adj1" fmla="val 27507"/>
              <a:gd name="adj2" fmla="val 27504"/>
              <a:gd name="adj3" fmla="val 16667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 Bi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sh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7400" y="1573200"/>
            <a:ext cx="66294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Template Element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lumns and Sideba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Best used to pull out “the ask” and main message to a flashy and easy to read area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clude an image and a button for folks to click on that are related to the as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m up the goal of the ask or message of the email in one sentence below the imag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904080" cy="5639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934320" y="1371600"/>
            <a:ext cx="1447560" cy="609480"/>
          </a:xfrm>
          <a:prstGeom prst="leftArrowCallout">
            <a:avLst>
              <a:gd name="adj1" fmla="val 25002"/>
              <a:gd name="adj2" fmla="val 25000"/>
              <a:gd name="adj3" fmla="val 39585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600200" cy="609480"/>
          </a:xfrm>
          <a:prstGeom prst="leftArrowCallout">
            <a:avLst>
              <a:gd name="adj1" fmla="val 25002"/>
              <a:gd name="adj2" fmla="val 25000"/>
              <a:gd name="adj3" fmla="val 43759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514600"/>
            <a:ext cx="2133720" cy="762120"/>
          </a:xfrm>
          <a:prstGeom prst="rightArrowCallout">
            <a:avLst>
              <a:gd name="adj1" fmla="val 25002"/>
              <a:gd name="adj2" fmla="val 25000"/>
              <a:gd name="adj3" fmla="val 46662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or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0"/>
            <a:ext cx="67816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74600" y="228600"/>
            <a:ext cx="6774120" cy="5869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81280" y="762120"/>
            <a:ext cx="2133720" cy="761760"/>
          </a:xfrm>
          <a:prstGeom prst="rightArrowCallout">
            <a:avLst>
              <a:gd name="adj1" fmla="val 25002"/>
              <a:gd name="adj2" fmla="val 25000"/>
              <a:gd name="adj3" fmla="val 46684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4572000"/>
            <a:ext cx="2133720" cy="1066680"/>
          </a:xfrm>
          <a:prstGeom prst="rightArrowCallout">
            <a:avLst>
              <a:gd name="adj1" fmla="val 25002"/>
              <a:gd name="adj2" fmla="val 25000"/>
              <a:gd name="adj3" fmla="val 33339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ag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1981080"/>
            <a:ext cx="2133720" cy="762120"/>
          </a:xfrm>
          <a:prstGeom prst="rightArrowCallout">
            <a:avLst>
              <a:gd name="adj1" fmla="val 25002"/>
              <a:gd name="adj2" fmla="val 25000"/>
              <a:gd name="adj3" fmla="val 46662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essage Element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Include “Spread the Word” functionality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ell a friend” lin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hare on Social Media link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Forward this email” lin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rmation on how to subscribe, if you were not the recipien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The easiest way to grow your list and spread your message is to have you supporters forward your emails to their friends.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Template Element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ssage Foot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Place all information about how to subscribe, unsubscribe, or manage your profile in the footer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Other information related to the sending and receiving of the email are best placed her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Place organizational contact information or links that do not show up in the header or sidebar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Include the email address of the recipien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Make sure you're in compliance with CAN-SPAM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xample: Footer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305560" cy="2209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24280" y="2362320"/>
            <a:ext cx="2514600" cy="609480"/>
          </a:xfrm>
          <a:prstGeom prst="leftArrowCallout">
            <a:avLst>
              <a:gd name="adj1" fmla="val 25002"/>
              <a:gd name="adj2" fmla="val 25000"/>
              <a:gd name="adj3" fmla="val 68764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nate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3352680"/>
            <a:ext cx="2514600" cy="609840"/>
          </a:xfrm>
          <a:prstGeom prst="leftArrowCallout">
            <a:avLst>
              <a:gd name="adj1" fmla="val 25002"/>
              <a:gd name="adj2" fmla="val 25000"/>
              <a:gd name="adj3" fmla="val 68723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b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xample: Footer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991720" cy="360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600200" y="1752480"/>
            <a:ext cx="2133720" cy="762120"/>
          </a:xfrm>
          <a:prstGeom prst="rightArrowCallout">
            <a:avLst>
              <a:gd name="adj1" fmla="val 25002"/>
              <a:gd name="adj2" fmla="val 25000"/>
              <a:gd name="adj3" fmla="val 46662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191120"/>
            <a:ext cx="2133720" cy="761760"/>
          </a:xfrm>
          <a:prstGeom prst="rightArrowCallout">
            <a:avLst>
              <a:gd name="adj1" fmla="val 25002"/>
              <a:gd name="adj2" fmla="val 25000"/>
              <a:gd name="adj3" fmla="val 46684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essage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e different templates and message styles for different purposes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Fundrais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ewsletter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Live Even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ction Aler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essage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undrais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your ask often and earl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evelop goals and give updates as you work to achieve those goal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mmunicate how $$ will translate into resul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and emphasize a sense of communit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21200" indent="-21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If everyone gives $5 we can...”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ersonalize tone: must be from “someone”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990720"/>
            <a:ext cx="1523880" cy="761760"/>
          </a:xfrm>
          <a:prstGeom prst="rightArrowCallout">
            <a:avLst>
              <a:gd name="adj1" fmla="val 25002"/>
              <a:gd name="adj2" fmla="val 25000"/>
              <a:gd name="adj3" fmla="val 33341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876920"/>
            <a:ext cx="1523880" cy="761760"/>
          </a:xfrm>
          <a:prstGeom prst="rightArrowCallout">
            <a:avLst>
              <a:gd name="adj1" fmla="val 25002"/>
              <a:gd name="adj2" fmla="val 25000"/>
              <a:gd name="adj3" fmla="val 33341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5683320" cy="5370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86200" y="1981080"/>
            <a:ext cx="1523880" cy="762120"/>
          </a:xfrm>
          <a:prstGeom prst="rightArrowCallout">
            <a:avLst>
              <a:gd name="adj1" fmla="val 25002"/>
              <a:gd name="adj2" fmla="val 25000"/>
              <a:gd name="adj3" fmla="val 33325"/>
              <a:gd name="adj4" fmla="val 68648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906560" y="184320"/>
            <a:ext cx="5308560" cy="6033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46040" y="3659040"/>
            <a:ext cx="1523880" cy="990720"/>
          </a:xfrm>
          <a:prstGeom prst="rightArrowCallout">
            <a:avLst>
              <a:gd name="adj1" fmla="val 25002"/>
              <a:gd name="adj2" fmla="val 25000"/>
              <a:gd name="adj3" fmla="val 25636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s 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oal 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6040" y="2973240"/>
            <a:ext cx="1523880" cy="609840"/>
          </a:xfrm>
          <a:prstGeom prst="rightArrowCallout">
            <a:avLst>
              <a:gd name="adj1" fmla="val 25002"/>
              <a:gd name="adj2" fmla="val 25000"/>
              <a:gd name="adj3" fmla="val 41647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utton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essage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ewslett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eep it well-formatted and well-section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lways include a table of content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mploy short introduction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ith links to full articl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intain regular delivery schedu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reate expectations on the part of recipient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419880" cy="5421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10280" y="685800"/>
            <a:ext cx="1905120" cy="762120"/>
          </a:xfrm>
          <a:prstGeom prst="leftArrowCallout">
            <a:avLst>
              <a:gd name="adj1" fmla="val 35003"/>
              <a:gd name="adj2" fmla="val 25000"/>
              <a:gd name="adj3" fmla="val 64577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2920" y="1676520"/>
            <a:ext cx="1828800" cy="703080"/>
          </a:xfrm>
          <a:prstGeom prst="leftArrowCallout">
            <a:avLst>
              <a:gd name="adj1" fmla="val 25002"/>
              <a:gd name="adj2" fmla="val 25000"/>
              <a:gd name="adj3" fmla="val 43352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cial Med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3429000"/>
            <a:ext cx="1981080" cy="762120"/>
          </a:xfrm>
          <a:prstGeom prst="leftArrowCallout">
            <a:avLst>
              <a:gd name="adj1" fmla="val 25002"/>
              <a:gd name="adj2" fmla="val 25000"/>
              <a:gd name="adj3" fmla="val 43324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2666880"/>
            <a:ext cx="1524240" cy="762120"/>
          </a:xfrm>
          <a:prstGeom prst="rightArrowCallout">
            <a:avLst>
              <a:gd name="adj1" fmla="val 25002"/>
              <a:gd name="adj2" fmla="val 25000"/>
              <a:gd name="adj3" fmla="val 33333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4876920"/>
            <a:ext cx="1524240" cy="761760"/>
          </a:xfrm>
          <a:prstGeom prst="rightArrowCallout">
            <a:avLst>
              <a:gd name="adj1" fmla="val 25002"/>
              <a:gd name="adj2" fmla="val 25000"/>
              <a:gd name="adj3" fmla="val 33349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essage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ive Ev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sure that you include all the required info: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293840" indent="-20808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Date, time, location, directions, map link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293840" indent="-20808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Purpose and cos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293840" indent="-20808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Phone number to call for more info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293840" indent="-20808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SVP info, link to registration pag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293840" indent="-20808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ppropriate fundraising “hook”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here is no point in announcing an event if people do not have the necessary info to atten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arn email composition fundamenta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e examples of doing “The Ask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nderstand the role of email templat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numerate email template elemen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xplore composition for different goa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" y="3962520"/>
            <a:ext cx="1523880" cy="761760"/>
          </a:xfrm>
          <a:prstGeom prst="rightArrowCallout">
            <a:avLst>
              <a:gd name="adj1" fmla="val 25002"/>
              <a:gd name="adj2" fmla="val 25000"/>
              <a:gd name="adj3" fmla="val 33341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6134400" cy="5732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86200" y="2895480"/>
            <a:ext cx="1523880" cy="762120"/>
          </a:xfrm>
          <a:prstGeom prst="rightArrowCallout">
            <a:avLst>
              <a:gd name="adj1" fmla="val 25002"/>
              <a:gd name="adj2" fmla="val 25000"/>
              <a:gd name="adj3" fmla="val 33325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&am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181480"/>
            <a:ext cx="1523880" cy="762120"/>
          </a:xfrm>
          <a:prstGeom prst="rightArrowCallout">
            <a:avLst>
              <a:gd name="adj1" fmla="val 25002"/>
              <a:gd name="adj2" fmla="val 25000"/>
              <a:gd name="adj3" fmla="val 33325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V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ood email composition has essential trai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 art of “The Ask” is centra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mail templates streamline and standardiz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emplate must contain specific elemen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sider composition for different goa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5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Clear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now what you want your user to learn and d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 Tone Casual and Persona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odel as “friend talking with a friend”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Skimm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bject line is critica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rmation should be easily accessi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now The Art of “The Ask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y premise: you have minimal time to engage read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ey message should be stated up fron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nk in terms of Subject line and 3 main poin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the proble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your solu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ways to get involved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20800" y="1128600"/>
            <a:ext cx="5702400" cy="5164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2805120"/>
            <a:ext cx="1523880" cy="609480"/>
          </a:xfrm>
          <a:prstGeom prst="rightArrowCallout">
            <a:avLst>
              <a:gd name="adj1" fmla="val 25002"/>
              <a:gd name="adj2" fmla="val 25000"/>
              <a:gd name="adj3" fmla="val 41672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024440"/>
            <a:ext cx="1523880" cy="457200"/>
          </a:xfrm>
          <a:prstGeom prst="rightArrowCallout">
            <a:avLst>
              <a:gd name="adj1" fmla="val 25002"/>
              <a:gd name="adj2" fmla="val 25000"/>
              <a:gd name="adj3" fmla="val 55551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043000"/>
            <a:ext cx="1523880" cy="533520"/>
          </a:xfrm>
          <a:prstGeom prst="rightArrowCallout">
            <a:avLst>
              <a:gd name="adj1" fmla="val 25002"/>
              <a:gd name="adj2" fmla="val 25000"/>
              <a:gd name="adj3" fmla="val 47605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938840"/>
            <a:ext cx="1523880" cy="457200"/>
          </a:xfrm>
          <a:prstGeom prst="rightArrowCallout">
            <a:avLst>
              <a:gd name="adj1" fmla="val 25002"/>
              <a:gd name="adj2" fmla="val 25000"/>
              <a:gd name="adj3" fmla="val 55551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2576520"/>
            <a:ext cx="1828800" cy="533520"/>
          </a:xfrm>
          <a:prstGeom prst="leftArrowCallout">
            <a:avLst>
              <a:gd name="adj1" fmla="val 25002"/>
              <a:gd name="adj2" fmla="val 25000"/>
              <a:gd name="adj3" fmla="val 57130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3567240"/>
            <a:ext cx="1828800" cy="533160"/>
          </a:xfrm>
          <a:prstGeom prst="leftArrowCallout">
            <a:avLst>
              <a:gd name="adj1" fmla="val 25002"/>
              <a:gd name="adj2" fmla="val 25000"/>
              <a:gd name="adj3" fmla="val 57169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4633920"/>
            <a:ext cx="2210040" cy="533520"/>
          </a:xfrm>
          <a:prstGeom prst="leftArrowCallout">
            <a:avLst>
              <a:gd name="adj1" fmla="val 25002"/>
              <a:gd name="adj2" fmla="val 25000"/>
              <a:gd name="adj3" fmla="val 69040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 subject line is the most important par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xperiment with different on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ry to make it stand out in recipients' inbox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eople do not read emails; they scan the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it easy for supporters to quickly find inf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Be aware of where “the fold” is on the emai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Focus on making message "skimmable"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Doing “The Ask”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 Ask” refers to what action you want your recipients to tak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ke it easy to see “The Ask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The Ask specific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07520" indent="-210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epeat The Ask several times in different plac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Use a sidebar and graphics to highlight The As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07520" indent="-210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Give multiple options and methods for people to take action and participat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52680" y="1455840"/>
            <a:ext cx="4218120" cy="397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position Best Practic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38280" y="1254240"/>
            <a:ext cx="5776920" cy="5449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2520" y="3657600"/>
            <a:ext cx="1523880" cy="853920"/>
          </a:xfrm>
          <a:prstGeom prst="rightArrowCallout">
            <a:avLst>
              <a:gd name="adj1" fmla="val 25002"/>
              <a:gd name="adj2" fmla="val 25000"/>
              <a:gd name="adj3" fmla="val 29743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3032280"/>
            <a:ext cx="1447920" cy="990360"/>
          </a:xfrm>
          <a:prstGeom prst="leftArrowCallout">
            <a:avLst>
              <a:gd name="adj1" fmla="val 25002"/>
              <a:gd name="adj2" fmla="val 25000"/>
              <a:gd name="adj3" fmla="val 24367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5668920"/>
            <a:ext cx="1447920" cy="695520"/>
          </a:xfrm>
          <a:prstGeom prst="rightArrowCallout">
            <a:avLst>
              <a:gd name="adj1" fmla="val 25002"/>
              <a:gd name="adj2" fmla="val 25000"/>
              <a:gd name="adj3" fmla="val 34696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. These materials are distributed under a Creative Commons license:  Attribution-ShareAlike</dc:description>
  <dc:language>en-US</dc:language>
  <cp:lastModifiedBy/>
  <dcterms:modified xsi:type="dcterms:W3CDTF">2014-06-24T17:14:59Z</dcterms:modified>
  <cp:revision>7</cp:revision>
  <dc:subject/>
  <dc:title>Aspiration Email Newsletter Composition</dc:title>
</cp:coreProperties>
</file>