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19.jpeg" ContentType="image/jpeg"/>
  <Override PartName="/ppt/media/image9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13.png" ContentType="image/png"/>
  <Override PartName="/ppt/media/image8.png" ContentType="image/png"/>
  <Override PartName="/ppt/media/image21.jpeg" ContentType="image/jpeg"/>
  <Override PartName="/ppt/media/image16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3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3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2640" y="694800"/>
            <a:ext cx="4568760" cy="34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dt" idx="1"/>
          </p:nvPr>
        </p:nvSpPr>
        <p:spPr>
          <a:xfrm>
            <a:off x="38811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2"/>
          </p:nvPr>
        </p:nvSpPr>
        <p:spPr>
          <a:xfrm>
            <a:off x="-360" y="868644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3"/>
          </p:nvPr>
        </p:nvSpPr>
        <p:spPr>
          <a:xfrm>
            <a:off x="3881160" y="868644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678DBD-32FA-4191-B11F-B6EFF688D47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1143000" y="695160"/>
            <a:ext cx="4565520" cy="34290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3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4343400"/>
            <a:ext cx="5446800" cy="409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3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1143000" y="695160"/>
            <a:ext cx="4565520" cy="34290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3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85800" y="4343400"/>
            <a:ext cx="5446800" cy="409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3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1143000" y="695160"/>
            <a:ext cx="4541760" cy="342108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3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85800" y="4343400"/>
            <a:ext cx="5446800" cy="409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3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3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5800" y="4343400"/>
            <a:ext cx="5446800" cy="409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3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3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85800" y="4343400"/>
            <a:ext cx="54770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Organizational Ident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Links to Parts of Webs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Forward Requ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3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85800" y="4343400"/>
            <a:ext cx="54770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Header is too large and pushes the ask and main content below the fo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1143000" y="695160"/>
            <a:ext cx="4565520" cy="34290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3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85800" y="4343400"/>
            <a:ext cx="5446800" cy="409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3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3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85800" y="4343400"/>
            <a:ext cx="54770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The sidebar pulls out the ask and highlights it with a graphic and text li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3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85800" y="4343400"/>
            <a:ext cx="54770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Sidebar focuses attention on the ask to view the add and to dona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Uses large image to grab atten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1143000" y="695160"/>
            <a:ext cx="4565520" cy="34290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3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" y="4343400"/>
            <a:ext cx="5446800" cy="409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3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1143000" y="695160"/>
            <a:ext cx="4565520" cy="34290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3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85800" y="4343400"/>
            <a:ext cx="5446800" cy="409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3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3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85800" y="4343400"/>
            <a:ext cx="54770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725400" indent="-2635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25400"/>
                <a:tab algn="l" pos="1182600"/>
                <a:tab algn="l" pos="1639800"/>
                <a:tab algn="l" pos="2097000"/>
                <a:tab algn="l" pos="2554200"/>
                <a:tab algn="l" pos="3011400"/>
                <a:tab algn="l" pos="3468600"/>
                <a:tab algn="l" pos="3925800"/>
                <a:tab algn="l" pos="4383000"/>
                <a:tab algn="l" pos="4840200"/>
                <a:tab algn="l" pos="5297400"/>
                <a:tab algn="l" pos="5754600"/>
                <a:tab algn="l" pos="6211800"/>
                <a:tab algn="l" pos="6669000"/>
                <a:tab algn="l" pos="7126200"/>
                <a:tab algn="l" pos="7583400"/>
                <a:tab algn="l" pos="8040600"/>
                <a:tab algn="l" pos="8497800"/>
                <a:tab algn="l" pos="8955000"/>
                <a:tab algn="l" pos="9412200"/>
                <a:tab algn="l" pos="98694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Don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35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25400"/>
                <a:tab algn="l" pos="1182600"/>
                <a:tab algn="l" pos="1639800"/>
                <a:tab algn="l" pos="2097000"/>
                <a:tab algn="l" pos="2554200"/>
                <a:tab algn="l" pos="3011400"/>
                <a:tab algn="l" pos="3468600"/>
                <a:tab algn="l" pos="3925800"/>
                <a:tab algn="l" pos="4383000"/>
                <a:tab algn="l" pos="4840200"/>
                <a:tab algn="l" pos="5297400"/>
                <a:tab algn="l" pos="5754600"/>
                <a:tab algn="l" pos="6211800"/>
                <a:tab algn="l" pos="6669000"/>
                <a:tab algn="l" pos="7126200"/>
                <a:tab algn="l" pos="7583400"/>
                <a:tab algn="l" pos="8040600"/>
                <a:tab algn="l" pos="8497800"/>
                <a:tab algn="l" pos="8955000"/>
                <a:tab algn="l" pos="9412200"/>
                <a:tab algn="l" pos="98694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Subscribe/Unsubscri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35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25400"/>
                <a:tab algn="l" pos="1182600"/>
                <a:tab algn="l" pos="1639800"/>
                <a:tab algn="l" pos="2097000"/>
                <a:tab algn="l" pos="2554200"/>
                <a:tab algn="l" pos="3011400"/>
                <a:tab algn="l" pos="3468600"/>
                <a:tab algn="l" pos="3925800"/>
                <a:tab algn="l" pos="4383000"/>
                <a:tab algn="l" pos="4840200"/>
                <a:tab algn="l" pos="5297400"/>
                <a:tab algn="l" pos="5754600"/>
                <a:tab algn="l" pos="6211800"/>
                <a:tab algn="l" pos="6669000"/>
                <a:tab algn="l" pos="7126200"/>
                <a:tab algn="l" pos="7583400"/>
                <a:tab algn="l" pos="8040600"/>
                <a:tab algn="l" pos="8497800"/>
                <a:tab algn="l" pos="8955000"/>
                <a:tab algn="l" pos="9412200"/>
                <a:tab algn="l" pos="98694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Update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25400"/>
                <a:tab algn="l" pos="1182600"/>
                <a:tab algn="l" pos="1639800"/>
                <a:tab algn="l" pos="2097000"/>
                <a:tab algn="l" pos="2554200"/>
                <a:tab algn="l" pos="3011400"/>
                <a:tab algn="l" pos="3468600"/>
                <a:tab algn="l" pos="3925800"/>
                <a:tab algn="l" pos="4383000"/>
                <a:tab algn="l" pos="4840200"/>
                <a:tab algn="l" pos="5297400"/>
                <a:tab algn="l" pos="5754600"/>
                <a:tab algn="l" pos="6211800"/>
                <a:tab algn="l" pos="6669000"/>
                <a:tab algn="l" pos="7126200"/>
                <a:tab algn="l" pos="7583400"/>
                <a:tab algn="l" pos="8040600"/>
                <a:tab algn="l" pos="8497800"/>
                <a:tab algn="l" pos="8955000"/>
                <a:tab algn="l" pos="9412200"/>
                <a:tab algn="l" pos="98694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3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85800" y="4343400"/>
            <a:ext cx="54770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Address and Phone Num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Unsubscri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Privacy Poli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1143000" y="695160"/>
            <a:ext cx="4541760" cy="342108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3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85800" y="4343400"/>
            <a:ext cx="5446800" cy="409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3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1143000" y="695160"/>
            <a:ext cx="4565520" cy="34290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3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85800" y="4343400"/>
            <a:ext cx="5446800" cy="409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3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1143000" y="695160"/>
            <a:ext cx="4565520" cy="34290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3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" y="4343400"/>
            <a:ext cx="54770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Personal Appe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The Ask is pulled o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Ask is rep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1143000" y="695160"/>
            <a:ext cx="4565520" cy="34290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3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85800" y="4343400"/>
            <a:ext cx="54770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Ask is pulled out in a visual 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Email sets a goal and a time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1143000" y="695160"/>
            <a:ext cx="4565520" cy="34290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3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85800" y="4343400"/>
            <a:ext cx="5446800" cy="409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3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1143000" y="695160"/>
            <a:ext cx="4565520" cy="34290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3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4343400"/>
            <a:ext cx="54770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Title and overview of articles that link to a webs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Link to arch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1143000" y="695160"/>
            <a:ext cx="4565520" cy="34290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3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85800" y="4343400"/>
            <a:ext cx="5446800" cy="409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3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1143000" y="695160"/>
            <a:ext cx="4567320" cy="34290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3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85800" y="4343400"/>
            <a:ext cx="5446800" cy="409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3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1143000" y="695160"/>
            <a:ext cx="4565520" cy="34290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3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85800" y="4343400"/>
            <a:ext cx="54770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Title and overview of articles that link to a webs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Link to arch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1143000" y="695160"/>
            <a:ext cx="4546440" cy="342612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3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85800" y="4343400"/>
            <a:ext cx="5446800" cy="409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3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1143000" y="695160"/>
            <a:ext cx="4554360" cy="34290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3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85800" y="4343400"/>
            <a:ext cx="5446800" cy="409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3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1143000" y="695160"/>
            <a:ext cx="4565520" cy="34290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3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85800" y="4343400"/>
            <a:ext cx="5446800" cy="409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3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1143000" y="695160"/>
            <a:ext cx="4565520" cy="34290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3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85800" y="4343400"/>
            <a:ext cx="5446800" cy="409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3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1143000" y="695160"/>
            <a:ext cx="4543560" cy="342288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3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85800" y="4343400"/>
            <a:ext cx="5446800" cy="409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3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143000" y="695160"/>
            <a:ext cx="4559400" cy="34290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3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85800" y="4343400"/>
            <a:ext cx="5446800" cy="409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3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1143000" y="695160"/>
            <a:ext cx="4565520" cy="34290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3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85800" y="4343400"/>
            <a:ext cx="5446800" cy="409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3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835000" y="2431800"/>
            <a:ext cx="5848200" cy="27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835000" y="5493960"/>
            <a:ext cx="5848200" cy="27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835000" y="2431800"/>
            <a:ext cx="2853720" cy="27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831640" y="2431800"/>
            <a:ext cx="2853720" cy="27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835000" y="5493960"/>
            <a:ext cx="2853720" cy="27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831640" y="5493960"/>
            <a:ext cx="2853720" cy="27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835000" y="2431800"/>
            <a:ext cx="1882800" cy="27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85000"/>
          </a:bodyPr>
          <a:p>
            <a:pPr marL="29160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12480" y="2431800"/>
            <a:ext cx="1882800" cy="27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85000"/>
          </a:bodyPr>
          <a:p>
            <a:pPr marL="29160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789600" y="2431800"/>
            <a:ext cx="1882800" cy="27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85000"/>
          </a:bodyPr>
          <a:p>
            <a:pPr marL="29160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835000" y="5493960"/>
            <a:ext cx="1882800" cy="27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85000"/>
          </a:bodyPr>
          <a:p>
            <a:pPr marL="29160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12480" y="5493960"/>
            <a:ext cx="1882800" cy="27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85000"/>
          </a:bodyPr>
          <a:p>
            <a:pPr marL="29160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789600" y="5493960"/>
            <a:ext cx="1882800" cy="27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85000"/>
          </a:bodyPr>
          <a:p>
            <a:pPr marL="29160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2835000" y="2431800"/>
            <a:ext cx="5848200" cy="58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835000" y="2431800"/>
            <a:ext cx="5848200" cy="586260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35000" y="2431800"/>
            <a:ext cx="2853720" cy="586260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831640" y="2431800"/>
            <a:ext cx="2853720" cy="586260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835000" y="848880"/>
            <a:ext cx="584820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835000" y="2431800"/>
            <a:ext cx="2853720" cy="27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831640" y="2431800"/>
            <a:ext cx="2853720" cy="586260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835000" y="5493960"/>
            <a:ext cx="2853720" cy="27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835000" y="2431800"/>
            <a:ext cx="5848200" cy="58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835000" y="2431800"/>
            <a:ext cx="2853720" cy="586260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831640" y="2431800"/>
            <a:ext cx="2853720" cy="27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831640" y="5493960"/>
            <a:ext cx="2853720" cy="27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835000" y="2431800"/>
            <a:ext cx="2853720" cy="27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831640" y="2431800"/>
            <a:ext cx="2853720" cy="27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835000" y="5493960"/>
            <a:ext cx="5848200" cy="27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835000" y="2431800"/>
            <a:ext cx="5848200" cy="27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835000" y="5493960"/>
            <a:ext cx="5848200" cy="27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35000" y="2431800"/>
            <a:ext cx="2853720" cy="27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831640" y="2431800"/>
            <a:ext cx="2853720" cy="27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835000" y="5493960"/>
            <a:ext cx="2853720" cy="27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831640" y="5493960"/>
            <a:ext cx="2853720" cy="27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835000" y="2431800"/>
            <a:ext cx="1882800" cy="27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85000"/>
          </a:bodyPr>
          <a:p>
            <a:pPr marL="29160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12480" y="2431800"/>
            <a:ext cx="1882800" cy="27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85000"/>
          </a:bodyPr>
          <a:p>
            <a:pPr marL="29160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789600" y="2431800"/>
            <a:ext cx="1882800" cy="27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85000"/>
          </a:bodyPr>
          <a:p>
            <a:pPr marL="29160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2835000" y="5493960"/>
            <a:ext cx="1882800" cy="27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85000"/>
          </a:bodyPr>
          <a:p>
            <a:pPr marL="29160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4812480" y="5493960"/>
            <a:ext cx="1882800" cy="27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85000"/>
          </a:bodyPr>
          <a:p>
            <a:pPr marL="29160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789600" y="5493960"/>
            <a:ext cx="1882800" cy="27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85000"/>
          </a:bodyPr>
          <a:p>
            <a:pPr marL="29160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835000" y="2431800"/>
            <a:ext cx="5848200" cy="586260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835000" y="2431800"/>
            <a:ext cx="2853720" cy="586260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831640" y="2431800"/>
            <a:ext cx="2853720" cy="586260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835000" y="848880"/>
            <a:ext cx="584820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835000" y="2431800"/>
            <a:ext cx="2853720" cy="27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831640" y="2431800"/>
            <a:ext cx="2853720" cy="586260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835000" y="5493960"/>
            <a:ext cx="2853720" cy="27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835000" y="2431800"/>
            <a:ext cx="2853720" cy="586260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831640" y="2431800"/>
            <a:ext cx="2853720" cy="27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831640" y="5493960"/>
            <a:ext cx="2853720" cy="27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835000" y="2431800"/>
            <a:ext cx="2853720" cy="27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831640" y="2431800"/>
            <a:ext cx="2853720" cy="27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835000" y="5493960"/>
            <a:ext cx="5848200" cy="27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5340000">
            <a:off x="-1114560" y="777600"/>
            <a:ext cx="5761080" cy="3840120"/>
          </a:xfrm>
          <a:prstGeom prst="rtTriangle">
            <a:avLst/>
          </a:prstGeom>
          <a:solidFill>
            <a:srgbClr val="346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3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-287280" y="2925720"/>
            <a:ext cx="3657600" cy="3932280"/>
          </a:xfrm>
          <a:prstGeom prst="rtTriangle">
            <a:avLst/>
          </a:prstGeom>
          <a:solidFill>
            <a:srgbClr val="e6e6e6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3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2835000" y="2431800"/>
            <a:ext cx="5848200" cy="586260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68000"/>
          </a:bodyPr>
          <a:p>
            <a:pPr marL="233280" indent="0" algn="ctr">
              <a:lnSpc>
                <a:spcPct val="99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Khmer UI"/>
              </a:rPr>
              <a:t>Click to edit the outline text format</a:t>
            </a: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  <a:p>
            <a:pPr lvl="1" marL="233280" indent="-233280" algn="ctr">
              <a:lnSpc>
                <a:spcPct val="99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Khmer UI"/>
              </a:rPr>
              <a:t>Second Outline Level</a:t>
            </a: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  <a:p>
            <a:pPr lvl="2" marL="233280" indent="-233280" algn="ctr">
              <a:lnSpc>
                <a:spcPct val="99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Khmer UI"/>
              </a:rPr>
              <a:t>Third Outline Level</a:t>
            </a: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  <a:p>
            <a:pPr lvl="3" marL="233280" indent="-233280" algn="ctr">
              <a:lnSpc>
                <a:spcPct val="99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Khmer UI"/>
              </a:rPr>
              <a:t>Fourth Outline Level</a:t>
            </a: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  <a:p>
            <a:pPr lvl="4" marL="233280" indent="-233280" algn="ctr">
              <a:lnSpc>
                <a:spcPct val="99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Khmer UI"/>
              </a:rPr>
              <a:t>Fifth Outline Level</a:t>
            </a: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  <a:p>
            <a:pPr lvl="5" marL="233280" indent="-233280" algn="ctr">
              <a:lnSpc>
                <a:spcPct val="99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Khmer UI"/>
              </a:rPr>
              <a:t>Sixth Outline Level</a:t>
            </a: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  <a:p>
            <a:pPr lvl="6" marL="233280" indent="-233280" algn="ctr">
              <a:lnSpc>
                <a:spcPct val="99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Khmer UI"/>
              </a:rPr>
              <a:t>Seventh Outline Level</a:t>
            </a: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274680" y="5567400"/>
            <a:ext cx="2124000" cy="1019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H="1" flipV="1" rot="5400000">
            <a:off x="4809960" y="2564640"/>
            <a:ext cx="8226360" cy="536400"/>
          </a:xfrm>
          <a:prstGeom prst="rtTriangle">
            <a:avLst/>
          </a:prstGeom>
          <a:solidFill>
            <a:srgbClr val="346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3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01320" y="120600"/>
            <a:ext cx="752148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01680" y="1455840"/>
            <a:ext cx="8516880" cy="39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marL="322200" indent="0">
              <a:lnSpc>
                <a:spcPct val="106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1" marL="322200" indent="-322200">
              <a:lnSpc>
                <a:spcPct val="106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2" marL="322200" indent="-322200">
              <a:lnSpc>
                <a:spcPct val="106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3" marL="322200" indent="-322200">
              <a:lnSpc>
                <a:spcPct val="106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4" marL="322200" indent="-322200">
              <a:lnSpc>
                <a:spcPct val="106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5" marL="322200" indent="-322200">
              <a:lnSpc>
                <a:spcPct val="106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6" marL="322200" indent="-322200">
              <a:lnSpc>
                <a:spcPct val="106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44" name=""/>
          <p:cNvSpPr/>
          <p:nvPr/>
        </p:nvSpPr>
        <p:spPr>
          <a:xfrm>
            <a:off x="577800" y="6578640"/>
            <a:ext cx="210348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6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999999"/>
                </a:solidFill>
                <a:latin typeface="Khmer UI"/>
              </a:rPr>
              <a:t>info@aspirationtech.org</a:t>
            </a:r>
            <a:r>
              <a:rPr b="0" lang="en-US" sz="1400" spc="-1" strike="noStrike">
                <a:solidFill>
                  <a:srgbClr val="999999"/>
                </a:solidFill>
                <a:latin typeface="Khmer UI"/>
              </a:rPr>
              <a:t>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8018640" y="255600"/>
            <a:ext cx="998280" cy="4744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985000" y="6573960"/>
            <a:ext cx="28350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6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999999"/>
                </a:solidFill>
                <a:latin typeface="Khmer UI"/>
              </a:rPr>
              <a:t>www.aspirationtech.org/trai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5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6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5.xml"/><Relationship Id="rId9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5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5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5.xml"/><Relationship Id="rId8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5.xml"/><Relationship Id="rId8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5.xml"/><Relationship Id="rId7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5.xml"/><Relationship Id="rId8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5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5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5.xml"/><Relationship Id="rId6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5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5.xml"/><Relationship Id="rId7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5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5.xml"/><Relationship Id="rId7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aspirationtech.org/attribute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15.xml"/><Relationship Id="rId10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5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5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5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5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835360" y="848880"/>
            <a:ext cx="5850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540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Email Newsletters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835360" y="2432160"/>
            <a:ext cx="5850000" cy="398448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Khmer UI"/>
              </a:rPr>
              <a:t>Best Practices for Composition</a:t>
            </a: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93" name=""/>
          <p:cNvSpPr/>
          <p:nvPr/>
        </p:nvSpPr>
        <p:spPr>
          <a:xfrm>
            <a:off x="3033720" y="6127920"/>
            <a:ext cx="41148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ahoma"/>
                <a:ea typeface="Tahoma"/>
              </a:rPr>
              <a:t>These training materials have been prepared by Aspiration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7497720" y="6199200"/>
            <a:ext cx="1371600" cy="47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178000" y="1455840"/>
            <a:ext cx="4765680" cy="39780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Composition Best Practices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741320" y="1455840"/>
            <a:ext cx="5573880" cy="46530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7040520" y="2712960"/>
            <a:ext cx="1828800" cy="1219320"/>
          </a:xfrm>
          <a:prstGeom prst="leftArrowCallout">
            <a:avLst>
              <a:gd name="adj1" fmla="val 25002"/>
              <a:gd name="adj2" fmla="val 25000"/>
              <a:gd name="adj3" fmla="val 24998"/>
              <a:gd name="adj4" fmla="val 66673"/>
            </a:avLst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4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Multiple</a:t>
            </a:r>
            <a:br>
              <a:rPr sz="1800"/>
            </a:b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Ways to</a:t>
            </a:r>
            <a:br>
              <a:rPr sz="1800"/>
            </a:b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Take 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98360" y="4754520"/>
            <a:ext cx="1905120" cy="1066680"/>
          </a:xfrm>
          <a:prstGeom prst="rightArrowCallout">
            <a:avLst>
              <a:gd name="adj1" fmla="val 25002"/>
              <a:gd name="adj2" fmla="val 25000"/>
              <a:gd name="adj3" fmla="val 29767"/>
              <a:gd name="adj4" fmla="val 66667"/>
            </a:avLst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4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The Ask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in the text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040520" y="5227560"/>
            <a:ext cx="1905120" cy="533520"/>
          </a:xfrm>
          <a:prstGeom prst="leftArrowCallout">
            <a:avLst>
              <a:gd name="adj1" fmla="val 25002"/>
              <a:gd name="adj2" fmla="val 25000"/>
              <a:gd name="adj3" fmla="val 59514"/>
              <a:gd name="adj4" fmla="val 66673"/>
            </a:avLst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4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Backgrou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625320" y="1455840"/>
            <a:ext cx="3510000" cy="397800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5043600" y="1455840"/>
            <a:ext cx="3403440" cy="39780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5410080" y="4983120"/>
            <a:ext cx="1371600" cy="1143000"/>
          </a:xfrm>
          <a:prstGeom prst="upArrowCallout">
            <a:avLst>
              <a:gd name="adj1" fmla="val 30003"/>
              <a:gd name="adj2" fmla="val 30000"/>
              <a:gd name="adj3" fmla="val 16667"/>
              <a:gd name="adj4" fmla="val 66660"/>
            </a:avLst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4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NOT Best Practice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Email Templates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1680" y="1455480"/>
            <a:ext cx="8518320" cy="48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550440" indent="-21420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1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All sent messages should be based on reusable email templates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50440" indent="-21420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2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Templates 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1" marL="942480" indent="-21420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Streamline and standardize communications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lvl="1" marL="942480" indent="-21420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Convey organizational identity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lvl="1" marL="942480" indent="-21420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Manifest best practices for email communication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lvl="1" marL="942480" indent="-21420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Provide hooks for recipients to manage profile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lvl="1" marL="942480" indent="-21420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Increase deliverability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Email Template Elements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680" y="1455840"/>
            <a:ext cx="8518320" cy="39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61960" indent="-21888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1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Message Header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1" marL="961920" indent="-21888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Include organizational logo and tag line in the header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lvl="2" marL="1362240" indent="-219240">
              <a:lnSpc>
                <a:spcPct val="108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Khmer UI"/>
              </a:rPr>
              <a:t>Have it link to your website.</a:t>
            </a:r>
            <a:endParaRPr b="0" lang="en-US" sz="2600" spc="-1" strike="noStrike">
              <a:solidFill>
                <a:srgbClr val="000000"/>
              </a:solidFill>
              <a:latin typeface="Khmer UI"/>
            </a:endParaRPr>
          </a:p>
          <a:p>
            <a:pPr lvl="1" marL="961920" indent="-21888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Don’t make the header too tall or it will push down “the fold”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lvl="2" marL="1362240" indent="-219240">
              <a:lnSpc>
                <a:spcPct val="108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Khmer UI"/>
              </a:rPr>
              <a:t>Don't make it harder to view important content</a:t>
            </a:r>
            <a:endParaRPr b="0" lang="en-US" sz="26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752480" y="533520"/>
            <a:ext cx="5469120" cy="139860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2057400" y="2666880"/>
            <a:ext cx="5945040" cy="12369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1981080" y="4572000"/>
            <a:ext cx="5316480" cy="11016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228600" y="5181480"/>
            <a:ext cx="2057400" cy="762120"/>
          </a:xfrm>
          <a:prstGeom prst="rightArrowCallout">
            <a:avLst>
              <a:gd name="adj1" fmla="val 25002"/>
              <a:gd name="adj2" fmla="val 25000"/>
              <a:gd name="adj3" fmla="val 44993"/>
              <a:gd name="adj4" fmla="val 66667"/>
            </a:avLst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List Ty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Contact #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04920" y="2438280"/>
            <a:ext cx="1676160" cy="762120"/>
          </a:xfrm>
          <a:prstGeom prst="rightArrowCallout">
            <a:avLst>
              <a:gd name="adj1" fmla="val 25002"/>
              <a:gd name="adj2" fmla="val 25000"/>
              <a:gd name="adj3" fmla="val 36656"/>
              <a:gd name="adj4" fmla="val 66667"/>
            </a:avLst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Link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Arch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04920" y="990720"/>
            <a:ext cx="1676160" cy="761760"/>
          </a:xfrm>
          <a:prstGeom prst="rightArrowCallout">
            <a:avLst>
              <a:gd name="adj1" fmla="val 25002"/>
              <a:gd name="adj2" fmla="val 25000"/>
              <a:gd name="adj3" fmla="val 36673"/>
              <a:gd name="adj4" fmla="val 66667"/>
            </a:avLst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Link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Campa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934320" y="1371600"/>
            <a:ext cx="1447560" cy="609480"/>
          </a:xfrm>
          <a:prstGeom prst="leftArrowCallout">
            <a:avLst>
              <a:gd name="adj1" fmla="val 25002"/>
              <a:gd name="adj2" fmla="val 25000"/>
              <a:gd name="adj3" fmla="val 39585"/>
              <a:gd name="adj4" fmla="val 66673"/>
            </a:avLst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Please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Forwa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467480" y="3657600"/>
            <a:ext cx="1447920" cy="609480"/>
          </a:xfrm>
          <a:prstGeom prst="leftArrowCallout">
            <a:avLst>
              <a:gd name="adj1" fmla="val 25002"/>
              <a:gd name="adj2" fmla="val 25000"/>
              <a:gd name="adj3" fmla="val 39594"/>
              <a:gd name="adj4" fmla="val 66673"/>
            </a:avLst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Web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Addr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781680" y="5257800"/>
            <a:ext cx="1600200" cy="609480"/>
          </a:xfrm>
          <a:prstGeom prst="leftArrowCallout">
            <a:avLst>
              <a:gd name="adj1" fmla="val 25002"/>
              <a:gd name="adj2" fmla="val 25000"/>
              <a:gd name="adj3" fmla="val 43759"/>
              <a:gd name="adj4" fmla="val 66673"/>
            </a:avLst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Subscribe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Lin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1680" y="304920"/>
            <a:ext cx="8526240" cy="70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Example: The “Fold”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47" name=""/>
          <p:cNvSpPr/>
          <p:nvPr/>
        </p:nvSpPr>
        <p:spPr>
          <a:xfrm>
            <a:off x="304920" y="2057400"/>
            <a:ext cx="1523880" cy="1676520"/>
          </a:xfrm>
          <a:prstGeom prst="rightArrowCallout">
            <a:avLst>
              <a:gd name="adj1" fmla="val 27507"/>
              <a:gd name="adj2" fmla="val 27504"/>
              <a:gd name="adj3" fmla="val 16667"/>
              <a:gd name="adj4" fmla="val 66667"/>
            </a:avLst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o Big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sh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ten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elow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Fol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2057400" y="1573200"/>
            <a:ext cx="6629400" cy="345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Email Template Elements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01680" y="1455840"/>
            <a:ext cx="8518320" cy="39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61960" indent="-21888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1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Columns and Sidebars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1" marL="961920" indent="-21888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Best used to pull out “the ask” and main message to a flashy and easy to read area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lvl="1" marL="961920" indent="-21888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Include an image and a button for folks to click on that are related to the ask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lvl="1" marL="961920" indent="-21888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Sum up the goal of the ask or message of the email in one sentence below the image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6904080" cy="563904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6934320" y="1371600"/>
            <a:ext cx="1447560" cy="609480"/>
          </a:xfrm>
          <a:prstGeom prst="leftArrowCallout">
            <a:avLst>
              <a:gd name="adj1" fmla="val 25002"/>
              <a:gd name="adj2" fmla="val 25000"/>
              <a:gd name="adj3" fmla="val 39585"/>
              <a:gd name="adj4" fmla="val 66673"/>
            </a:avLst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Im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010280" y="2590920"/>
            <a:ext cx="1600200" cy="609480"/>
          </a:xfrm>
          <a:prstGeom prst="leftArrowCallout">
            <a:avLst>
              <a:gd name="adj1" fmla="val 25002"/>
              <a:gd name="adj2" fmla="val 25000"/>
              <a:gd name="adj3" fmla="val 43759"/>
              <a:gd name="adj4" fmla="val 66673"/>
            </a:avLst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And A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200400" y="2514600"/>
            <a:ext cx="2133720" cy="762120"/>
          </a:xfrm>
          <a:prstGeom prst="rightArrowCallout">
            <a:avLst>
              <a:gd name="adj1" fmla="val 25002"/>
              <a:gd name="adj2" fmla="val 25000"/>
              <a:gd name="adj3" fmla="val 46662"/>
              <a:gd name="adj4" fmla="val 66667"/>
            </a:avLst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Differ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Color 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Backgrou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1447920" y="0"/>
            <a:ext cx="678168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3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074600" y="228600"/>
            <a:ext cx="6774120" cy="586908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3581280" y="762120"/>
            <a:ext cx="2133720" cy="761760"/>
          </a:xfrm>
          <a:prstGeom prst="rightArrowCallout">
            <a:avLst>
              <a:gd name="adj1" fmla="val 25002"/>
              <a:gd name="adj2" fmla="val 25000"/>
              <a:gd name="adj3" fmla="val 46684"/>
              <a:gd name="adj4" fmla="val 66667"/>
            </a:avLst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81280" y="4572000"/>
            <a:ext cx="2133720" cy="1066680"/>
          </a:xfrm>
          <a:prstGeom prst="rightArrowCallout">
            <a:avLst>
              <a:gd name="adj1" fmla="val 25002"/>
              <a:gd name="adj2" fmla="val 25000"/>
              <a:gd name="adj3" fmla="val 33339"/>
              <a:gd name="adj4" fmla="val 66667"/>
            </a:avLst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Narrat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Image 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S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657600" y="1981080"/>
            <a:ext cx="2133720" cy="762120"/>
          </a:xfrm>
          <a:prstGeom prst="rightArrowCallout">
            <a:avLst>
              <a:gd name="adj1" fmla="val 25002"/>
              <a:gd name="adj2" fmla="val 25000"/>
              <a:gd name="adj3" fmla="val 46662"/>
              <a:gd name="adj4" fmla="val 66667"/>
            </a:avLst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A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Message Elements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455840"/>
            <a:ext cx="8518320" cy="469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556200" indent="-216360">
              <a:lnSpc>
                <a:spcPct val="106000"/>
              </a:lnSpc>
              <a:spcBef>
                <a:spcPts val="799"/>
              </a:spcBef>
              <a:buSzPct val="114232"/>
              <a:buBlip>
                <a:blip r:embed="rId1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Khmer UI"/>
              </a:rPr>
              <a:t>Include “Spread the Word” functionality</a:t>
            </a:r>
            <a:endParaRPr b="0" lang="en-US" sz="3000" spc="-1" strike="noStrike">
              <a:solidFill>
                <a:srgbClr val="000000"/>
              </a:solidFill>
              <a:latin typeface="Khmer UI"/>
            </a:endParaRPr>
          </a:p>
          <a:p>
            <a:pPr lvl="1" marL="952200" indent="-21636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Tell a friend” link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lvl="1" marL="952200" indent="-21636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Share on Social Media links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lvl="1" marL="952200" indent="-21636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Forward this email” link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lvl="1" marL="952200" indent="-21636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Information on how to subscribe, if you were not the recipient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marL="556200" indent="-216360">
              <a:lnSpc>
                <a:spcPct val="106000"/>
              </a:lnSpc>
              <a:spcBef>
                <a:spcPts val="799"/>
              </a:spcBef>
              <a:buSzPct val="114232"/>
              <a:buBlip>
                <a:blip r:embed="rId6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Khmer UI"/>
              </a:rPr>
              <a:t>The easiest way to grow your list and spread your message is to have you supporters forward your emails to their friends.</a:t>
            </a:r>
            <a:endParaRPr b="0" lang="en-US" sz="30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Who is Aspiration?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1680" y="1455480"/>
            <a:ext cx="851832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556200" indent="-21636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1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Aspiration helps nonprofits and foundations use software tools more effectively and sustainably.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56200" indent="-21636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2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We serve as </a:t>
            </a:r>
            <a:r>
              <a:rPr b="1" lang="en-US" sz="3200" spc="-1" strike="noStrike">
                <a:solidFill>
                  <a:srgbClr val="000000"/>
                </a:solidFill>
                <a:latin typeface="Khmer UI"/>
              </a:rPr>
              <a:t>ally, coach, strategist, mentor </a:t>
            </a: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and</a:t>
            </a:r>
            <a:r>
              <a:rPr b="1" lang="en-US" sz="3200" spc="-1" strike="noStrike">
                <a:solidFill>
                  <a:srgbClr val="000000"/>
                </a:solidFill>
                <a:latin typeface="Khmer UI"/>
              </a:rPr>
              <a:t> facilitator</a:t>
            </a: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 to those trying to make more impactful use of information technology in their social change efforts.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56200" indent="-21636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3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www.aspirationtech.org/services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Email Template Elements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01680" y="1455480"/>
            <a:ext cx="851832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550440" indent="-21420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1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Message Footer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1" marL="942480" indent="-21420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Khmer UI"/>
              </a:rPr>
              <a:t>Place all information about how to subscribe, unsubscribe, or manage your profile in the footer</a:t>
            </a:r>
            <a:endParaRPr b="0" lang="en-US" sz="2600" spc="-1" strike="noStrike">
              <a:solidFill>
                <a:srgbClr val="000000"/>
              </a:solidFill>
              <a:latin typeface="Khmer UI"/>
            </a:endParaRPr>
          </a:p>
          <a:p>
            <a:pPr lvl="1" marL="942480" indent="-21420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Khmer UI"/>
              </a:rPr>
              <a:t>Other information related to the sending and receiving of the email are best placed here</a:t>
            </a:r>
            <a:endParaRPr b="0" lang="en-US" sz="2600" spc="-1" strike="noStrike">
              <a:solidFill>
                <a:srgbClr val="000000"/>
              </a:solidFill>
              <a:latin typeface="Khmer UI"/>
            </a:endParaRPr>
          </a:p>
          <a:p>
            <a:pPr lvl="1" marL="942480" indent="-21420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Khmer UI"/>
              </a:rPr>
              <a:t>Place organizational contact information or links that do not show up in the header or sidebar</a:t>
            </a:r>
            <a:endParaRPr b="0" lang="en-US" sz="2600" spc="-1" strike="noStrike">
              <a:solidFill>
                <a:srgbClr val="000000"/>
              </a:solidFill>
              <a:latin typeface="Khmer UI"/>
            </a:endParaRPr>
          </a:p>
          <a:p>
            <a:pPr lvl="1" marL="942480" indent="-21420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Khmer UI"/>
              </a:rPr>
              <a:t>Include the email address of the recipient</a:t>
            </a:r>
            <a:endParaRPr b="0" lang="en-US" sz="2600" spc="-1" strike="noStrike">
              <a:solidFill>
                <a:srgbClr val="000000"/>
              </a:solidFill>
              <a:latin typeface="Khmer UI"/>
            </a:endParaRPr>
          </a:p>
          <a:p>
            <a:pPr lvl="1" marL="942480" indent="-21420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Khmer UI"/>
              </a:rPr>
              <a:t>Make sure you're in compliance with CAN-SPAM</a:t>
            </a:r>
            <a:endParaRPr b="0" lang="en-US" sz="26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Example: Footers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533520" y="2133720"/>
            <a:ext cx="8305560" cy="220968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4724280" y="2362320"/>
            <a:ext cx="2514600" cy="609480"/>
          </a:xfrm>
          <a:prstGeom prst="leftArrowCallout">
            <a:avLst>
              <a:gd name="adj1" fmla="val 25002"/>
              <a:gd name="adj2" fmla="val 25000"/>
              <a:gd name="adj3" fmla="val 68764"/>
              <a:gd name="adj4" fmla="val 66673"/>
            </a:avLst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Donate Lin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095880" y="3352680"/>
            <a:ext cx="2514600" cy="609840"/>
          </a:xfrm>
          <a:prstGeom prst="leftArrowCallout">
            <a:avLst>
              <a:gd name="adj1" fmla="val 25002"/>
              <a:gd name="adj2" fmla="val 25000"/>
              <a:gd name="adj3" fmla="val 68723"/>
              <a:gd name="adj4" fmla="val 66673"/>
            </a:avLst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Subscri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301680" y="1455840"/>
            <a:ext cx="8518320" cy="39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108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Example: Footers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152280" y="1600200"/>
            <a:ext cx="8991720" cy="360828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600200" y="1752480"/>
            <a:ext cx="2133720" cy="762120"/>
          </a:xfrm>
          <a:prstGeom prst="rightArrowCallout">
            <a:avLst>
              <a:gd name="adj1" fmla="val 25002"/>
              <a:gd name="adj2" fmla="val 25000"/>
              <a:gd name="adj3" fmla="val 46662"/>
              <a:gd name="adj4" fmla="val 66667"/>
            </a:avLst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dress &am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h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09480" y="4191120"/>
            <a:ext cx="2133720" cy="761760"/>
          </a:xfrm>
          <a:prstGeom prst="rightArrowCallout">
            <a:avLst>
              <a:gd name="adj1" fmla="val 25002"/>
              <a:gd name="adj2" fmla="val 25000"/>
              <a:gd name="adj3" fmla="val 46684"/>
              <a:gd name="adj4" fmla="val 66667"/>
            </a:avLst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vac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ic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301680" y="1455840"/>
            <a:ext cx="8518320" cy="39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108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Message Composition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01680" y="1455840"/>
            <a:ext cx="8518320" cy="39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61960" indent="-21888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1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Use different templates and message styles for different purposes: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1" marL="961920" indent="-21888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Fundraising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lvl="1" marL="961920" indent="-21888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Newsletter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lvl="1" marL="961920" indent="-21888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Live Event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lvl="1" marL="961920" indent="-21888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Action Alert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Message Composition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1680" y="1455840"/>
            <a:ext cx="8518320" cy="422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545040" indent="-21204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1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Fundraising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1" marL="932760" indent="-21204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Make your ask often and early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lvl="1" marL="932760" indent="-21204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Develop goals and give updates as you work to achieve those goals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lvl="1" marL="932760" indent="-21204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Communicate how $$ will translate into results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lvl="1" marL="932760" indent="-21204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Create and emphasize a sense of community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lvl="2" marL="1321200" indent="-212400">
              <a:lnSpc>
                <a:spcPct val="108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Khmer UI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Khmer UI"/>
              </a:rPr>
              <a:t>If everyone gives $5 we can...”</a:t>
            </a:r>
            <a:endParaRPr b="0" lang="en-US" sz="2600" spc="-1" strike="noStrike">
              <a:solidFill>
                <a:srgbClr val="000000"/>
              </a:solidFill>
              <a:latin typeface="Khmer UI"/>
            </a:endParaRPr>
          </a:p>
          <a:p>
            <a:pPr lvl="1" marL="932760" indent="-21204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Personalize tone: must be from “someone”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685800" y="990720"/>
            <a:ext cx="1523880" cy="761760"/>
          </a:xfrm>
          <a:prstGeom prst="rightArrowCallout">
            <a:avLst>
              <a:gd name="adj1" fmla="val 25002"/>
              <a:gd name="adj2" fmla="val 25000"/>
              <a:gd name="adj3" fmla="val 33341"/>
              <a:gd name="adj4" fmla="val 66667"/>
            </a:avLst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ersonal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33520" y="4876920"/>
            <a:ext cx="1523880" cy="761760"/>
          </a:xfrm>
          <a:prstGeom prst="rightArrowCallout">
            <a:avLst>
              <a:gd name="adj1" fmla="val 25002"/>
              <a:gd name="adj2" fmla="val 25000"/>
              <a:gd name="adj3" fmla="val 33341"/>
              <a:gd name="adj4" fmla="val 66667"/>
            </a:avLst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sk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pe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2286000" y="380880"/>
            <a:ext cx="5683320" cy="537048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3886200" y="1981080"/>
            <a:ext cx="1523880" cy="762120"/>
          </a:xfrm>
          <a:prstGeom prst="rightArrowCallout">
            <a:avLst>
              <a:gd name="adj1" fmla="val 25002"/>
              <a:gd name="adj2" fmla="val 25000"/>
              <a:gd name="adj3" fmla="val 33325"/>
              <a:gd name="adj4" fmla="val 68648"/>
            </a:avLst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ea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1906560" y="184320"/>
            <a:ext cx="5308560" cy="603396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446040" y="3659040"/>
            <a:ext cx="1523880" cy="990720"/>
          </a:xfrm>
          <a:prstGeom prst="rightArrowCallout">
            <a:avLst>
              <a:gd name="adj1" fmla="val 25002"/>
              <a:gd name="adj2" fmla="val 25000"/>
              <a:gd name="adj3" fmla="val 25636"/>
              <a:gd name="adj4" fmla="val 66667"/>
            </a:avLst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Sets A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Goal and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Time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46040" y="2973240"/>
            <a:ext cx="1523880" cy="609840"/>
          </a:xfrm>
          <a:prstGeom prst="rightArrowCallout">
            <a:avLst>
              <a:gd name="adj1" fmla="val 25002"/>
              <a:gd name="adj2" fmla="val 25000"/>
              <a:gd name="adj3" fmla="val 41647"/>
              <a:gd name="adj4" fmla="val 66667"/>
            </a:avLst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Button f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A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Message Composition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455840"/>
            <a:ext cx="8518320" cy="39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61960" indent="-21888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1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Newsletter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1" marL="961920" indent="-21888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Keep it well-formatted and well-sectioned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lvl="2" marL="1362240" indent="-219240">
              <a:lnSpc>
                <a:spcPct val="108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Khmer UI"/>
              </a:rPr>
              <a:t>Always include a table of contents</a:t>
            </a:r>
            <a:endParaRPr b="0" lang="en-US" sz="2600" spc="-1" strike="noStrike">
              <a:solidFill>
                <a:srgbClr val="000000"/>
              </a:solidFill>
              <a:latin typeface="Khmer UI"/>
            </a:endParaRPr>
          </a:p>
          <a:p>
            <a:pPr lvl="1" marL="961920" indent="-21888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Employ short introductions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lvl="2" marL="1362240" indent="-219240">
              <a:lnSpc>
                <a:spcPct val="108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Khmer UI"/>
              </a:rPr>
              <a:t>With links to full articles</a:t>
            </a:r>
            <a:endParaRPr b="0" lang="en-US" sz="2600" spc="-1" strike="noStrike">
              <a:solidFill>
                <a:srgbClr val="000000"/>
              </a:solidFill>
              <a:latin typeface="Khmer UI"/>
            </a:endParaRPr>
          </a:p>
          <a:p>
            <a:pPr lvl="1" marL="961920" indent="-21888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Maintain regular delivery schedule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lvl="2" marL="1362240" indent="-219240">
              <a:lnSpc>
                <a:spcPct val="108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Khmer UI"/>
              </a:rPr>
              <a:t>Create expectations on the part of recipients</a:t>
            </a:r>
            <a:endParaRPr b="0" lang="en-US" sz="26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1143000" y="228600"/>
            <a:ext cx="6419880" cy="542124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7010280" y="685800"/>
            <a:ext cx="1905120" cy="762120"/>
          </a:xfrm>
          <a:prstGeom prst="leftArrowCallout">
            <a:avLst>
              <a:gd name="adj1" fmla="val 35003"/>
              <a:gd name="adj2" fmla="val 25000"/>
              <a:gd name="adj3" fmla="val 64577"/>
              <a:gd name="adj4" fmla="val 66673"/>
            </a:avLst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ts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livery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pec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162920" y="1676520"/>
            <a:ext cx="1828800" cy="703080"/>
          </a:xfrm>
          <a:prstGeom prst="leftArrowCallout">
            <a:avLst>
              <a:gd name="adj1" fmla="val 25002"/>
              <a:gd name="adj2" fmla="val 25000"/>
              <a:gd name="adj3" fmla="val 43352"/>
              <a:gd name="adj4" fmla="val 66673"/>
            </a:avLst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Social Medi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Lin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934320" y="3429000"/>
            <a:ext cx="1981080" cy="762120"/>
          </a:xfrm>
          <a:prstGeom prst="leftArrowCallout">
            <a:avLst>
              <a:gd name="adj1" fmla="val 25002"/>
              <a:gd name="adj2" fmla="val 25000"/>
              <a:gd name="adj3" fmla="val 43324"/>
              <a:gd name="adj4" fmla="val 66673"/>
            </a:avLst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diti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52280" y="2666880"/>
            <a:ext cx="1524240" cy="762120"/>
          </a:xfrm>
          <a:prstGeom prst="rightArrowCallout">
            <a:avLst>
              <a:gd name="adj1" fmla="val 25002"/>
              <a:gd name="adj2" fmla="val 25000"/>
              <a:gd name="adj3" fmla="val 33333"/>
              <a:gd name="adj4" fmla="val 66667"/>
            </a:avLst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dex of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280" y="4876920"/>
            <a:ext cx="1524240" cy="761760"/>
          </a:xfrm>
          <a:prstGeom prst="rightArrowCallout">
            <a:avLst>
              <a:gd name="adj1" fmla="val 25002"/>
              <a:gd name="adj2" fmla="val 25000"/>
              <a:gd name="adj3" fmla="val 33349"/>
              <a:gd name="adj4" fmla="val 66667"/>
            </a:avLst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ll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Message Composition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680" y="1455480"/>
            <a:ext cx="8518320" cy="45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marL="533520" indent="-20772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1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Live Event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1" marL="913680" indent="-20772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Make sure that you include all the required info: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lvl="2" marL="1293840" indent="-208080">
              <a:lnSpc>
                <a:spcPct val="108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Khmer UI"/>
              </a:rPr>
              <a:t>Date, time, location, directions, map link</a:t>
            </a:r>
            <a:endParaRPr b="0" lang="en-US" sz="2600" spc="-1" strike="noStrike">
              <a:solidFill>
                <a:srgbClr val="000000"/>
              </a:solidFill>
              <a:latin typeface="Khmer UI"/>
            </a:endParaRPr>
          </a:p>
          <a:p>
            <a:pPr lvl="2" marL="1293840" indent="-208080">
              <a:lnSpc>
                <a:spcPct val="108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Khmer UI"/>
              </a:rPr>
              <a:t>Purpose and cost</a:t>
            </a:r>
            <a:endParaRPr b="0" lang="en-US" sz="2600" spc="-1" strike="noStrike">
              <a:solidFill>
                <a:srgbClr val="000000"/>
              </a:solidFill>
              <a:latin typeface="Khmer UI"/>
            </a:endParaRPr>
          </a:p>
          <a:p>
            <a:pPr lvl="2" marL="1293840" indent="-208080">
              <a:lnSpc>
                <a:spcPct val="108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Khmer UI"/>
              </a:rPr>
              <a:t>Phone number to call for more info</a:t>
            </a:r>
            <a:endParaRPr b="0" lang="en-US" sz="2600" spc="-1" strike="noStrike">
              <a:solidFill>
                <a:srgbClr val="000000"/>
              </a:solidFill>
              <a:latin typeface="Khmer UI"/>
            </a:endParaRPr>
          </a:p>
          <a:p>
            <a:pPr lvl="2" marL="1293840" indent="-208080">
              <a:lnSpc>
                <a:spcPct val="108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Khmer UI"/>
              </a:rPr>
              <a:t>RSVP info, link to registration page</a:t>
            </a:r>
            <a:endParaRPr b="0" lang="en-US" sz="2600" spc="-1" strike="noStrike">
              <a:solidFill>
                <a:srgbClr val="000000"/>
              </a:solidFill>
              <a:latin typeface="Khmer UI"/>
            </a:endParaRPr>
          </a:p>
          <a:p>
            <a:pPr lvl="2" marL="1293840" indent="-208080">
              <a:lnSpc>
                <a:spcPct val="108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Khmer UI"/>
              </a:rPr>
              <a:t>Appropriate fundraising “hook”</a:t>
            </a:r>
            <a:endParaRPr b="0" lang="en-US" sz="2600" spc="-1" strike="noStrike">
              <a:solidFill>
                <a:srgbClr val="000000"/>
              </a:solidFill>
              <a:latin typeface="Khmer UI"/>
            </a:endParaRPr>
          </a:p>
          <a:p>
            <a:pPr lvl="1" marL="913680" indent="-20772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There is no point in announcing an event if people do not have the necessary info to attend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Learning Goals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1680" y="1455840"/>
            <a:ext cx="8518320" cy="39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61960" indent="-21888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1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Learn email composition fundamentals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61960" indent="-21888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2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See examples of doing “The Ask”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61960" indent="-21888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3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Understand the role of email templates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61960" indent="-21888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4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Enumerate email template elements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61960" indent="-21888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5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Explore composition for different goals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228600" y="3962520"/>
            <a:ext cx="1523880" cy="761760"/>
          </a:xfrm>
          <a:prstGeom prst="rightArrowCallout">
            <a:avLst>
              <a:gd name="adj1" fmla="val 25002"/>
              <a:gd name="adj2" fmla="val 25000"/>
              <a:gd name="adj3" fmla="val 33341"/>
              <a:gd name="adj4" fmla="val 66667"/>
            </a:avLst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ol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po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1752480" y="228600"/>
            <a:ext cx="6134400" cy="573264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3886200" y="2895480"/>
            <a:ext cx="1523880" cy="762120"/>
          </a:xfrm>
          <a:prstGeom prst="rightArrowCallout">
            <a:avLst>
              <a:gd name="adj1" fmla="val 25002"/>
              <a:gd name="adj2" fmla="val 25000"/>
              <a:gd name="adj3" fmla="val 33325"/>
              <a:gd name="adj4" fmla="val 66667"/>
            </a:avLst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ime &amp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181480"/>
            <a:ext cx="1523880" cy="762120"/>
          </a:xfrm>
          <a:prstGeom prst="rightArrowCallout">
            <a:avLst>
              <a:gd name="adj1" fmla="val 25002"/>
              <a:gd name="adj2" fmla="val 25000"/>
              <a:gd name="adj3" fmla="val 33325"/>
              <a:gd name="adj4" fmla="val 66667"/>
            </a:avLst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SV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1680" y="1455840"/>
            <a:ext cx="8518320" cy="39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550440" indent="-21420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1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Good email composition has essential traits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50440" indent="-21420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2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The art of “The Ask” is central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50440" indent="-21420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3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Email templates streamline and standardize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50440" indent="-21420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4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Template must contain specific elements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50440" indent="-21420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5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Consider composition for different goals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Thank You!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680" y="1455840"/>
            <a:ext cx="8518320" cy="39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61960" indent="-21888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1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Questions?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61960" indent="0">
              <a:lnSpc>
                <a:spcPct val="106000"/>
              </a:lnSpc>
              <a:spcBef>
                <a:spcPts val="799"/>
              </a:spcBef>
              <a:buNone/>
              <a:tabLst>
                <a:tab algn="l" pos="0"/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61960" indent="-21888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2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Comments?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906640" y="632880"/>
            <a:ext cx="6034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540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Use, Modify &amp; Attribute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2835360" y="2034720"/>
            <a:ext cx="585000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Khmer UI"/>
                <a:hlinkClick r:id="rId1"/>
              </a:rPr>
              <a:t>www.aspirationtech.org/attribute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marL="343080" indent="0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Aspiration distributes these materials under a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Creative Commons Attribution-ShareAlike licen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Khmer UI"/>
            </a:endParaRPr>
          </a:p>
          <a:p>
            <a:pPr marL="343080" indent="0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MT"/>
                <a:ea typeface="ArialMT"/>
              </a:rPr>
              <a:t>We encourage re-use, modification, and re-distribution in any situation where they may be useful.</a:t>
            </a:r>
            <a:endParaRPr b="0" lang="en-US" sz="2000" spc="-1" strike="noStrike">
              <a:solidFill>
                <a:srgbClr val="000000"/>
              </a:solidFill>
              <a:latin typeface="Khmer UI"/>
            </a:endParaRPr>
          </a:p>
          <a:p>
            <a:pPr marL="343080" indent="0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We love to hear about how you are improving and remixing what we've done.</a:t>
            </a:r>
            <a:endParaRPr b="0" lang="en-US" sz="2000" spc="-1" strike="noStrike">
              <a:solidFill>
                <a:srgbClr val="000000"/>
              </a:solidFill>
              <a:latin typeface="Khmer UI"/>
            </a:endParaRPr>
          </a:p>
          <a:p>
            <a:pPr marL="343080" indent="0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Questions? Email us info@aspirationtech.org</a:t>
            </a:r>
            <a:endParaRPr b="0" lang="en-US" sz="2000" spc="-1" strike="noStrike">
              <a:solidFill>
                <a:srgbClr val="000000"/>
              </a:solidFill>
              <a:latin typeface="Khmer UI"/>
            </a:endParaRPr>
          </a:p>
          <a:p>
            <a:pPr marL="343080" indent="0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Khmer UI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419040" y="1006560"/>
            <a:ext cx="1828800" cy="63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835360" y="848880"/>
            <a:ext cx="5850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540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Contact Us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835360" y="2431800"/>
            <a:ext cx="5850000" cy="214308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Khmer UI"/>
              </a:rPr>
              <a:t>aspirationtech.org/training/support</a:t>
            </a:r>
            <a:endParaRPr b="0" lang="en-US" sz="2600" spc="-1" strike="noStrike">
              <a:solidFill>
                <a:srgbClr val="000000"/>
              </a:solidFill>
              <a:latin typeface="Khmer UI"/>
            </a:endParaRPr>
          </a:p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info@aspirationtech.org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+1-415-839-6456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Email Composition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1680" y="1455840"/>
            <a:ext cx="8518320" cy="45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545040" indent="-21204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1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Design for Clear Messaging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1" marL="932760" indent="-21204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Know what you want your user to learn and do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marL="545040" indent="-21204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3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Keep Tone Casual and Personal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1" marL="932760" indent="-21204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Model as “friend talking with a friend”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marL="545040" indent="-21204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5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Design for Skimming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1" marL="932760" indent="-21204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Subject line is critical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lvl="1" marL="932760" indent="-21204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Information should be easily accessible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marL="545040" indent="-21204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8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Know The Art of “The Ask”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Email Composition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680" y="1455840"/>
            <a:ext cx="8518320" cy="436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556200" indent="-21636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1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Key premise: you have minimal time to engage reader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1" marL="952200" indent="-21636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Key message should be stated up front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marL="556200" indent="-21636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3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Think in terms of Subject line and 3 main points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1" marL="952200" indent="-21636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State the problem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lvl="1" marL="952200" indent="-21636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State your solution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lvl="1" marL="952200" indent="-21636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State ways to get involved 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720800" y="1128600"/>
            <a:ext cx="5702400" cy="51642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457200" y="2805120"/>
            <a:ext cx="1523880" cy="609480"/>
          </a:xfrm>
          <a:prstGeom prst="rightArrowCallout">
            <a:avLst>
              <a:gd name="adj1" fmla="val 25002"/>
              <a:gd name="adj2" fmla="val 25000"/>
              <a:gd name="adj3" fmla="val 41672"/>
              <a:gd name="adj4" fmla="val 66667"/>
            </a:avLst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4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Proble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" y="4024440"/>
            <a:ext cx="1523880" cy="457200"/>
          </a:xfrm>
          <a:prstGeom prst="rightArrowCallout">
            <a:avLst>
              <a:gd name="adj1" fmla="val 25002"/>
              <a:gd name="adj2" fmla="val 25000"/>
              <a:gd name="adj3" fmla="val 55551"/>
              <a:gd name="adj4" fmla="val 66667"/>
            </a:avLst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4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Solu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57200" y="2043000"/>
            <a:ext cx="1523880" cy="533520"/>
          </a:xfrm>
          <a:prstGeom prst="rightArrowCallout">
            <a:avLst>
              <a:gd name="adj1" fmla="val 25002"/>
              <a:gd name="adj2" fmla="val 25000"/>
              <a:gd name="adj3" fmla="val 47605"/>
              <a:gd name="adj4" fmla="val 66667"/>
            </a:avLst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4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Subjec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57200" y="4938840"/>
            <a:ext cx="1523880" cy="457200"/>
          </a:xfrm>
          <a:prstGeom prst="rightArrowCallout">
            <a:avLst>
              <a:gd name="adj1" fmla="val 25002"/>
              <a:gd name="adj2" fmla="val 25000"/>
              <a:gd name="adj3" fmla="val 55551"/>
              <a:gd name="adj4" fmla="val 66667"/>
            </a:avLst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4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Ac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58000" y="2576520"/>
            <a:ext cx="1828800" cy="533520"/>
          </a:xfrm>
          <a:prstGeom prst="leftArrowCallout">
            <a:avLst>
              <a:gd name="adj1" fmla="val 25002"/>
              <a:gd name="adj2" fmla="val 25000"/>
              <a:gd name="adj3" fmla="val 57130"/>
              <a:gd name="adj4" fmla="val 66673"/>
            </a:avLst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4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Ac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705720" y="3567240"/>
            <a:ext cx="1828800" cy="533160"/>
          </a:xfrm>
          <a:prstGeom prst="leftArrowCallout">
            <a:avLst>
              <a:gd name="adj1" fmla="val 25002"/>
              <a:gd name="adj2" fmla="val 25000"/>
              <a:gd name="adj3" fmla="val 57169"/>
              <a:gd name="adj4" fmla="val 66673"/>
            </a:avLst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4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Ac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553080" y="4633920"/>
            <a:ext cx="2210040" cy="533520"/>
          </a:xfrm>
          <a:prstGeom prst="leftArrowCallout">
            <a:avLst>
              <a:gd name="adj1" fmla="val 25002"/>
              <a:gd name="adj2" fmla="val 25000"/>
              <a:gd name="adj3" fmla="val 69040"/>
              <a:gd name="adj4" fmla="val 66673"/>
            </a:avLst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4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Backgrou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Email Composition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301680" y="1455840"/>
            <a:ext cx="8518320" cy="39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108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Email Composition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1680" y="1455840"/>
            <a:ext cx="8518320" cy="39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545040" indent="-21204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1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The subject line is the most important part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1" marL="932760" indent="-21204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Experiment with different ones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lvl="1" marL="932760" indent="-21204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Try to make it stand out in recipients' inboxes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marL="545040" indent="-21204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4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People do not read emails; they scan them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1" marL="932760" indent="-21204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Make it easy for supporters to quickly find info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lvl="1" marL="932760" indent="-21204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Be aware of where “the fold” is on the email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lvl="1" marL="932760" indent="-21204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Focus on making message "skimmable"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Doing “The Ask”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1680" y="1455840"/>
            <a:ext cx="851832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marL="539280" indent="-20988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1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The Ask” refers to what action you want your recipients to take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39280" indent="-20988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2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Make it easy to see “The Ask”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1" marL="923400" indent="-20988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Make The Ask specific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lvl="2" marL="1307520" indent="-210240">
              <a:lnSpc>
                <a:spcPct val="108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Khmer UI"/>
              </a:rPr>
              <a:t>Repeat The Ask several times in different places</a:t>
            </a:r>
            <a:endParaRPr b="0" lang="en-US" sz="2600" spc="-1" strike="noStrike">
              <a:solidFill>
                <a:srgbClr val="000000"/>
              </a:solidFill>
              <a:latin typeface="Khmer UI"/>
            </a:endParaRPr>
          </a:p>
          <a:p>
            <a:pPr lvl="1" marL="923400" indent="-20988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Use a sidebar and graphics to highlight The Ask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lvl="2" marL="1307520" indent="-210240">
              <a:lnSpc>
                <a:spcPct val="108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Khmer UI"/>
              </a:rPr>
              <a:t>Give multiple options and methods for people to take action and participate</a:t>
            </a:r>
            <a:endParaRPr b="0" lang="en-US" sz="26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2452680" y="1455840"/>
            <a:ext cx="4218120" cy="397800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Composition Best Practices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1538280" y="1254240"/>
            <a:ext cx="5776920" cy="544968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82520" y="3657600"/>
            <a:ext cx="1523880" cy="853920"/>
          </a:xfrm>
          <a:prstGeom prst="rightArrowCallout">
            <a:avLst>
              <a:gd name="adj1" fmla="val 25002"/>
              <a:gd name="adj2" fmla="val 25000"/>
              <a:gd name="adj3" fmla="val 29743"/>
              <a:gd name="adj4" fmla="val 66667"/>
            </a:avLst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4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As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e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0" y="3032280"/>
            <a:ext cx="1447920" cy="990360"/>
          </a:xfrm>
          <a:prstGeom prst="leftArrowCallout">
            <a:avLst>
              <a:gd name="adj1" fmla="val 25002"/>
              <a:gd name="adj2" fmla="val 25000"/>
              <a:gd name="adj3" fmla="val 24367"/>
              <a:gd name="adj4" fmla="val 66673"/>
            </a:avLst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4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4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4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Pull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4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4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O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52280" y="5668920"/>
            <a:ext cx="1447920" cy="695520"/>
          </a:xfrm>
          <a:prstGeom prst="rightArrowCallout">
            <a:avLst>
              <a:gd name="adj1" fmla="val 25002"/>
              <a:gd name="adj2" fmla="val 25000"/>
              <a:gd name="adj3" fmla="val 34696"/>
              <a:gd name="adj4" fmla="val 66667"/>
            </a:avLst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4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As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peate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>These training materials have been prepared by Aspiration. These materials are distributed under a Creative Commons license:  Attribution-ShareAlike</dc:description>
  <dc:language>en-US</dc:language>
  <cp:lastModifiedBy/>
  <dcterms:modified xsi:type="dcterms:W3CDTF">2014-06-24T17:14:59Z</dcterms:modified>
  <cp:revision>7</cp:revision>
  <dc:subject/>
  <dc:title>Aspiration Email Newsletter Composition</dc:title>
</cp:coreProperties>
</file>