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15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68760" cy="34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1"/>
          </p:nvPr>
        </p:nvSpPr>
        <p:spPr>
          <a:xfrm>
            <a:off x="38811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11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C7DAB-6EEB-4E45-A5CB-683ABAE9F6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1248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896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350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1248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896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248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896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8350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1248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896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5400000">
            <a:off x="4809960" y="2564640"/>
            <a:ext cx="8226360" cy="53640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1320" y="120600"/>
            <a:ext cx="752148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1680" y="1455840"/>
            <a:ext cx="85168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2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3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4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5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6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" name=""/>
          <p:cNvSpPr/>
          <p:nvPr/>
        </p:nvSpPr>
        <p:spPr>
          <a:xfrm>
            <a:off x="577800" y="6578640"/>
            <a:ext cx="2103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18640" y="255600"/>
            <a:ext cx="998280" cy="474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985000" y="6573960"/>
            <a:ext cx="283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/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 rot="5340000">
            <a:off x="-1114560" y="777600"/>
            <a:ext cx="5761080" cy="384012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7280" y="2925720"/>
            <a:ext cx="3657600" cy="39322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8000"/>
          </a:bodyPr>
          <a:p>
            <a:pPr marL="233280" indent="0" algn="ctr">
              <a:lnSpc>
                <a:spcPct val="9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1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2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3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4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5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6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74680" y="5567400"/>
            <a:ext cx="212400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aspirationtech.org/attribut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Newsletter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35360" y="2432160"/>
            <a:ext cx="58500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undraising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Best Practices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3" name=""/>
          <p:cNvSpPr/>
          <p:nvPr/>
        </p:nvSpPr>
        <p:spPr>
          <a:xfrm>
            <a:off x="3033720" y="6127920"/>
            <a:ext cx="4114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These training materials have been prepared by Aspiratio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97720" y="6199200"/>
            <a:ext cx="13716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Email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7" name=""/>
          <p:cNvSpPr/>
          <p:nvPr/>
        </p:nvSpPr>
        <p:spPr>
          <a:xfrm>
            <a:off x="639720" y="1701720"/>
            <a:ext cx="851688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mplicity is Golde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x 3-4 color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Use 1 to 2 font styl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REFRAIN FROM ALL CAP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Use space and headers to break up paragraph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Email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0" name=""/>
          <p:cNvSpPr/>
          <p:nvPr/>
        </p:nvSpPr>
        <p:spPr>
          <a:xfrm>
            <a:off x="352440" y="1554120"/>
            <a:ext cx="851688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9080" indent="-28908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289080"/>
                <a:tab algn="l" pos="746280"/>
                <a:tab algn="l" pos="1203480"/>
                <a:tab algn="l" pos="1660680"/>
                <a:tab algn="l" pos="2117880"/>
                <a:tab algn="l" pos="2575080"/>
                <a:tab algn="l" pos="3032280"/>
                <a:tab algn="l" pos="3489480"/>
                <a:tab algn="l" pos="3946680"/>
                <a:tab algn="l" pos="4403880"/>
                <a:tab algn="l" pos="4861080"/>
                <a:tab algn="l" pos="5318280"/>
                <a:tab algn="l" pos="5775480"/>
                <a:tab algn="l" pos="6232680"/>
                <a:tab algn="l" pos="6689880"/>
                <a:tab algn="l" pos="7147080"/>
                <a:tab algn="l" pos="7604280"/>
                <a:tab algn="l" pos="8061480"/>
                <a:tab algn="l" pos="8518680"/>
                <a:tab algn="l" pos="8975880"/>
                <a:tab algn="l" pos="9433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-231840">
              <a:lnSpc>
                <a:spcPct val="114000"/>
              </a:lnSpc>
              <a:spcBef>
                <a:spcPts val="700"/>
              </a:spcBef>
              <a:tabLst>
                <a:tab algn="l" pos="0"/>
                <a:tab algn="l" pos="289080"/>
                <a:tab algn="l" pos="746280"/>
                <a:tab algn="l" pos="1203480"/>
                <a:tab algn="l" pos="1660680"/>
                <a:tab algn="l" pos="2117880"/>
                <a:tab algn="l" pos="2575080"/>
                <a:tab algn="l" pos="3032280"/>
                <a:tab algn="l" pos="3489480"/>
                <a:tab algn="l" pos="3946680"/>
                <a:tab algn="l" pos="4403880"/>
                <a:tab algn="l" pos="4861080"/>
                <a:tab algn="l" pos="5318280"/>
                <a:tab algn="l" pos="5775480"/>
                <a:tab algn="l" pos="6232680"/>
                <a:tab algn="l" pos="6689880"/>
                <a:tab algn="l" pos="7147080"/>
                <a:tab algn="l" pos="7604280"/>
                <a:tab algn="l" pos="8061480"/>
                <a:tab algn="l" pos="8518680"/>
                <a:tab algn="l" pos="8975880"/>
                <a:tab algn="l" pos="9433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raphics and Imag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Make sure images have defined width and heigh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on't rely on images for messag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Many people don't load imag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dd a meaningful ALT tag to your imag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What appears when image doesn't load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Email Fundraising Ask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e Ask” refers to what action you want your recipients to tak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ake it easy to see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ke it specific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48560" indent="-21672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Repeat  several times in different place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Use a sidebar and graphics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48560" indent="-21672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Give multiple options and methods for people to take action and participate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52680" y="1455840"/>
            <a:ext cx="4218120" cy="397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mposition Best Practic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538280" y="1254240"/>
            <a:ext cx="5776920" cy="5449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82520" y="3657600"/>
            <a:ext cx="1523880" cy="853920"/>
          </a:xfrm>
          <a:prstGeom prst="rightArrowCallout">
            <a:avLst>
              <a:gd name="adj1" fmla="val 25002"/>
              <a:gd name="adj2" fmla="val 25000"/>
              <a:gd name="adj3" fmla="val 29743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s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0" y="3032280"/>
            <a:ext cx="1447920" cy="990360"/>
          </a:xfrm>
          <a:prstGeom prst="leftArrowCallout">
            <a:avLst>
              <a:gd name="adj1" fmla="val 25002"/>
              <a:gd name="adj2" fmla="val 25000"/>
              <a:gd name="adj3" fmla="val 24367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u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5668920"/>
            <a:ext cx="1447920" cy="695520"/>
          </a:xfrm>
          <a:prstGeom prst="rightArrowCallout">
            <a:avLst>
              <a:gd name="adj1" fmla="val 25002"/>
              <a:gd name="adj2" fmla="val 25000"/>
              <a:gd name="adj3" fmla="val 34696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s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5320" y="1455840"/>
            <a:ext cx="3510000" cy="397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043600" y="1455840"/>
            <a:ext cx="3403440" cy="397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410080" y="4983120"/>
            <a:ext cx="1371600" cy="1143000"/>
          </a:xfrm>
          <a:prstGeom prst="upArrowCallout">
            <a:avLst>
              <a:gd name="adj1" fmla="val 30003"/>
              <a:gd name="adj2" fmla="val 30000"/>
              <a:gd name="adj3" fmla="val 16667"/>
              <a:gd name="adj4" fmla="val 66660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NOT Best Practic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012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Email Fundraising Ask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320" y="1507680"/>
            <a:ext cx="852012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8520" indent="-3207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39852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Khmer UI"/>
              </a:rPr>
              <a:t>Communicate how $$$ will translate into result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398520" indent="-3207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39852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Khmer UI"/>
              </a:rPr>
              <a:t>Emphasize a sense of joining a community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1481040" indent="-2826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39852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Khmer UI"/>
              </a:rPr>
              <a:t>Join us...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1481040" indent="-2826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39852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Khmer UI"/>
              </a:rPr>
              <a:t>Stand in solidarity, wear our shir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1481040" indent="-2826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39852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Khmer UI"/>
              </a:rPr>
              <a:t>If everyone can give 10.00, we can...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Email Fundraising Ask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ake your Fundraising asks early and ofte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t goals early, and openly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Give updates to how you are achieving those goal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Small Donation Ask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40040" y="1455840"/>
            <a:ext cx="5241960" cy="39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Larger Donation Ask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363680" y="1455840"/>
            <a:ext cx="6392880" cy="39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Fundraising Ask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320" y="1455840"/>
            <a:ext cx="415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Giving Tuesday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Join U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pread the Word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689080" y="1455840"/>
            <a:ext cx="21114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4881600" y="1371600"/>
            <a:ext cx="2708280" cy="51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ho is Aspiration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spiration helps nonprofits and foundations use software tools more effectively and sustainabl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serve as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ally, coach, strategist, mentor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 facilitator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to those trying to make more impactful use of information technology in their social change effort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ww.aspirationtech.org/servi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Fundraising Emai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320" y="1455840"/>
            <a:ext cx="415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love you and want to move our relationship to the next level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62440" y="1455840"/>
            <a:ext cx="396576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386240" y="1463760"/>
            <a:ext cx="4573440" cy="45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894040" y="1455840"/>
            <a:ext cx="333216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undraising Emai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73280" y="1463760"/>
            <a:ext cx="4010040" cy="47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20960" y="822240"/>
            <a:ext cx="5029200" cy="6035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-9576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undraising Emai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463920" y="1455840"/>
            <a:ext cx="21924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undraising Emai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651040" y="1311120"/>
            <a:ext cx="3149640" cy="571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undraising Emai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055960" y="1455840"/>
            <a:ext cx="5010120" cy="39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ollow Up with Donors 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16040" y="1600200"/>
            <a:ext cx="5881680" cy="44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Delivery Frequency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1376280"/>
            <a:ext cx="8516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9080" indent="-28908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289080"/>
                <a:tab algn="l" pos="746280"/>
                <a:tab algn="l" pos="1203480"/>
                <a:tab algn="l" pos="1660680"/>
                <a:tab algn="l" pos="2117880"/>
                <a:tab algn="l" pos="2575080"/>
                <a:tab algn="l" pos="3032280"/>
                <a:tab algn="l" pos="3489480"/>
                <a:tab algn="l" pos="3946680"/>
                <a:tab algn="l" pos="4403880"/>
                <a:tab algn="l" pos="4861080"/>
                <a:tab algn="l" pos="5318280"/>
                <a:tab algn="l" pos="5775480"/>
                <a:tab algn="l" pos="6232680"/>
                <a:tab algn="l" pos="6689880"/>
                <a:tab algn="l" pos="7147080"/>
                <a:tab algn="l" pos="7604280"/>
                <a:tab algn="l" pos="8061480"/>
                <a:tab algn="l" pos="8518680"/>
                <a:tab algn="l" pos="8975880"/>
                <a:tab algn="l" pos="94330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14000"/>
              </a:lnSpc>
              <a:spcBef>
                <a:spcPts val="700"/>
              </a:spcBef>
              <a:tabLst>
                <a:tab algn="l" pos="0"/>
                <a:tab algn="l" pos="289080"/>
                <a:tab algn="l" pos="746280"/>
                <a:tab algn="l" pos="1203480"/>
                <a:tab algn="l" pos="1660680"/>
                <a:tab algn="l" pos="2117880"/>
                <a:tab algn="l" pos="2575080"/>
                <a:tab algn="l" pos="3032280"/>
                <a:tab algn="l" pos="3489480"/>
                <a:tab algn="l" pos="3946680"/>
                <a:tab algn="l" pos="4403880"/>
                <a:tab algn="l" pos="4861080"/>
                <a:tab algn="l" pos="5318280"/>
                <a:tab algn="l" pos="5775480"/>
                <a:tab algn="l" pos="6232680"/>
                <a:tab algn="l" pos="6689880"/>
                <a:tab algn="l" pos="7147080"/>
                <a:tab algn="l" pos="7604280"/>
                <a:tab algn="l" pos="8061480"/>
                <a:tab algn="l" pos="8518680"/>
                <a:tab algn="l" pos="8975880"/>
                <a:tab algn="l" pos="94330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$$$ campaigns can be more frequ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ome campaigns do every day a week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UT remove folks who already donated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General Rule: 3 times a year + special occasio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Piggy back and connect to other events/causes (tax deadlines, #givingtuesday)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Use an email blaster for legitimac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sign for skimming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tate your ask early and often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nnect how donations will support the work in tangible way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Plan out increased asks for end of year tax deadlines and holiday giving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eep in mind the people who already give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06640" y="632880"/>
            <a:ext cx="6034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e, Modify &amp; Attribut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35360" y="2034720"/>
            <a:ext cx="585000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Khmer UI"/>
                <a:hlinkClick r:id="rId1"/>
              </a:rPr>
              <a:t>www.aspirationtech.org/attribut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iration distributes these materials under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reative Commons Attribution-ShareAlike licen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  <a:ea typeface="ArialMT"/>
              </a:rPr>
              <a:t>We encourage re-use, modification, and re-distribution in any situation where they may be useful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 love to hear about how you are improving and remixing what we've done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estions? Email us info@aspirationtech.org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19040" y="1006560"/>
            <a:ext cx="1828800" cy="6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Review the basics of creating an email blast or email newsletter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Go over email composition and design suggestio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Look at email fundraising emails from other nonprofit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ost importantly, answer your questio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tact U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500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pirationtech.org/training/suppor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@aspirationtech.or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+1-415-839-6456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Why Use An Email Blaster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320" y="1455840"/>
            <a:ext cx="415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Legitimacy (vs. Spam)BCCing more than a few dozen people = Spam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List Managem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7040" y="1455840"/>
            <a:ext cx="415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722840" y="1455840"/>
            <a:ext cx="3597120" cy="39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Why Use An Email Blaster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455840"/>
            <a:ext cx="4157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50440" indent="-21420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Professional Appearanc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(Relatively) easy email design tools without needing to know HTML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nalytic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Information about what happened after you sent the email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7040" y="1455840"/>
            <a:ext cx="415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844880" y="1455840"/>
            <a:ext cx="3800520" cy="397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621320" y="4692600"/>
            <a:ext cx="415764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155520"/>
            <a:ext cx="8537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Khmer UI"/>
              </a:rPr>
              <a:t>Which Email Blasting Tool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Khmer UI"/>
              </a:rPr>
              <a:t>Should I use?</a:t>
            </a:r>
            <a:endParaRPr b="0" lang="en-US" sz="3600" spc="-1" strike="noStrike">
              <a:solidFill>
                <a:srgbClr val="000000"/>
              </a:solidFill>
              <a:latin typeface="Khmer U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04640" y="1496880"/>
          <a:ext cx="8229240" cy="4114440"/>
        </p:xfrm>
        <a:graphic>
          <a:graphicData uri="http://schemas.openxmlformats.org/drawingml/2006/table">
            <a:tbl>
              <a:tblPr/>
              <a:tblGrid>
                <a:gridCol w="2742120"/>
                <a:gridCol w="2742120"/>
                <a:gridCol w="2745000"/>
              </a:tblGrid>
              <a:tr h="471600">
                <a:tc>
                  <a:txBody>
                    <a:bodyPr lIns="90000" rIns="90000" tIns="18972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Blasting Ser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nsid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910080"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Vertical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Nonprofits: Free up to 10,000 emails/mon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Email editor can be quirky; Salesforce integ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910080"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Mail Chi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a4a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Anyone: Free up to 2,000 list members &amp; 12,000 emails/mon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a4a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Beautiful User Interface; Sometimes tries to be smarter than 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a4a"/>
                    </a:solidFill>
                  </a:tcPr>
                </a:tc>
              </a:tr>
              <a:tr h="911520"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nstant Cont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Nonprofits: Staggered starting at $14/month for 0-500 ema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Has highest spam rating; Drupal integ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911160"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My Em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b6b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Setup fee: $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Monthly fee: $132 for 25,000 conta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b6b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May be best value for larger l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b6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sideration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an take a large amount of time to construc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nsistent pace is key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1998 HTML knowledge is very helpfu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ake sure that you have a goal to determine whether your rate of email blasting is worth the effor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ey premise: you have minimal time to engage reader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nk in terms of Subject line and 3 main point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tate the problem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tate your solu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tate ways to get involved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Email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sign for Clear Messag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Know what you want your user to learn and do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eep Tone Casual and Persona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odel as “friend talking with a friend”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sign for Skimm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ubject line is critical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rmation should be easily accessib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6T20:10:06Z</dcterms:created>
  <dc:creator/>
  <dc:description>These training materials have been prepared by Aspiration. These materials are distributed under a Creative Commons license:  Attribution-ShareAlike</dc:description>
  <dc:language>en-US</dc:language>
  <cp:lastModifiedBy/>
  <dcterms:modified xsi:type="dcterms:W3CDTF">2014-06-24T18:30:25Z</dcterms:modified>
  <cp:revision>18</cp:revision>
  <dc:subject/>
  <dc:title>Aspiration Email Newsletters for Fundraising</dc:title>
</cp:coreProperties>
</file>