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2FE0E-5739-409F-A33E-D6B485964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343400"/>
            <a:ext cx="54468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undraising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Best Practice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17017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icity is Gold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x 3-4 col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1 to 2 font sty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FRAIN FROM ALL CA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space and headers to break up paragraph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"/>
          <p:cNvSpPr/>
          <p:nvPr/>
        </p:nvSpPr>
        <p:spPr>
          <a:xfrm>
            <a:off x="352440" y="15541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184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phics and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ake sure images have defined width and heigh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n't rely on images for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any people don'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d a meaningful ALT tag to your im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What appears when image doesn't loa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52680" y="1455840"/>
            <a:ext cx="4218120" cy="397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position Best Practi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38280" y="1254240"/>
            <a:ext cx="5776920" cy="544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520" y="3657600"/>
            <a:ext cx="1523880" cy="853920"/>
          </a:xfrm>
          <a:prstGeom prst="rightArrowCallout">
            <a:avLst>
              <a:gd name="adj1" fmla="val 25002"/>
              <a:gd name="adj2" fmla="val 25000"/>
              <a:gd name="adj3" fmla="val 29743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032280"/>
            <a:ext cx="1447920" cy="990360"/>
          </a:xfrm>
          <a:prstGeom prst="leftArrowCallout">
            <a:avLst>
              <a:gd name="adj1" fmla="val 25002"/>
              <a:gd name="adj2" fmla="val 25000"/>
              <a:gd name="adj3" fmla="val 24367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668920"/>
            <a:ext cx="1447920" cy="695520"/>
          </a:xfrm>
          <a:prstGeom prst="rightArrowCallout">
            <a:avLst>
              <a:gd name="adj1" fmla="val 25002"/>
              <a:gd name="adj2" fmla="val 25000"/>
              <a:gd name="adj3" fmla="val 34696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10080" y="498312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OT Best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07680"/>
            <a:ext cx="85201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8520" indent="-3207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hmer UI"/>
              </a:rPr>
              <a:t>Communicate how $$$ will translate into resul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398520" indent="-3207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hmer UI"/>
              </a:rPr>
              <a:t>Emphasize a sense of joining a communit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Join us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Stand in solidarity, wear our shir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481040" indent="-2826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9852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hmer UI"/>
              </a:rPr>
              <a:t>If everyone can give 10.00, we can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your Fundraising asks early and of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t goals early, and open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ive updates to how you are achieving those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mall Donation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40040" y="1455840"/>
            <a:ext cx="52419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arger Donation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63680" y="1455840"/>
            <a:ext cx="639288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undraising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iving Tuesda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oin U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pread the Wo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89080" y="1455840"/>
            <a:ext cx="21114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881600" y="1371600"/>
            <a:ext cx="27082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love you and want to move our relationship to the next level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62440" y="1455840"/>
            <a:ext cx="396576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86240" y="1463760"/>
            <a:ext cx="4573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894040" y="1455840"/>
            <a:ext cx="333216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73280" y="1463760"/>
            <a:ext cx="4010040" cy="47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20960" y="822240"/>
            <a:ext cx="5029200" cy="6035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-9576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63920" y="1455840"/>
            <a:ext cx="21924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651040" y="1311120"/>
            <a:ext cx="31496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undraising Emai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5960" y="1455840"/>
            <a:ext cx="5010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llow Up with Donors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6040" y="1600200"/>
            <a:ext cx="58816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Delivery Frequen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376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9080"/>
                <a:tab algn="l" pos="746280"/>
                <a:tab algn="l" pos="1203480"/>
                <a:tab algn="l" pos="1660680"/>
                <a:tab algn="l" pos="2117880"/>
                <a:tab algn="l" pos="2575080"/>
                <a:tab algn="l" pos="3032280"/>
                <a:tab algn="l" pos="3489480"/>
                <a:tab algn="l" pos="3946680"/>
                <a:tab algn="l" pos="4403880"/>
                <a:tab algn="l" pos="4861080"/>
                <a:tab algn="l" pos="5318280"/>
                <a:tab algn="l" pos="5775480"/>
                <a:tab algn="l" pos="6232680"/>
                <a:tab algn="l" pos="6689880"/>
                <a:tab algn="l" pos="7147080"/>
                <a:tab algn="l" pos="7604280"/>
                <a:tab algn="l" pos="8061480"/>
                <a:tab algn="l" pos="8518680"/>
                <a:tab algn="l" pos="8975880"/>
                <a:tab algn="l" pos="9433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$$$ campaigns can be more frequ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ome campaigns do every day a wee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T remove folks who already donate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neral Rule: 3 times a year + special occas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iggy back and connect to other events/causes (tax deadlines, #givingtuesday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n email blaster for legitimac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te your ask early and often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nect how donations will support the work in tangible way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out increased asks for end of year tax deadlines and holiday giving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in mind the people who already give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basics of creating an email blast or email 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email composition and design sugg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email fundraising emails from other nonprofi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gitimacy (vs. Spam)BCCing more than a few dozen people = Spa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st Man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2840" y="1455840"/>
            <a:ext cx="3597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essional Appeara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(Relatively) easy email design tools without needing to know HTM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formation about what happened after you sent the emai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44880" y="1455840"/>
            <a:ext cx="3800520" cy="39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621320" y="4692600"/>
            <a:ext cx="4157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15552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Which Email Blasting Too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Should I use?</a:t>
            </a:r>
            <a:endParaRPr b="0" lang="en-US" sz="3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04640" y="14968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2120"/>
                <a:gridCol w="2742120"/>
                <a:gridCol w="2745000"/>
              </a:tblGrid>
              <a:tr h="471600"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lasting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id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Vertic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Free up to 10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Email editor can be quirky; Salesforce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il Chi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nyone: Free up to 2,000 list members &amp; 12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eautiful User Interface; Sometimes tries to be smarter tha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</a:tr>
              <a:tr h="91152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tant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Staggered starting at $14/month for 0-500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as highest spam rating; Drup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116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y Em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tup fee: $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onthly fee: $132 for 25,000 cont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y be best value for larger 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arge amount of time to constru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stent pace is key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1998 HTML knowledge is very helpfu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ure that you have a goal to determine whether your rate of email blasting is worth the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Subject line and 3 main point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0:10:06Z</dcterms:created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8:30:25Z</dcterms:modified>
  <cp:revision>18</cp:revision>
  <dc:subject/>
  <dc:title>Aspiration Email Newsletters for Fundraising</dc:title>
</cp:coreProperties>
</file>