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A2834-1417-4C45-995C-E84D926FD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4" name=""/>
          <p:cNvSpPr/>
          <p:nvPr/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0" name=""/>
          <p:cNvSpPr/>
          <p:nvPr/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6" name=""/>
          <p:cNvSpPr/>
          <p:nvPr/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30" name=""/>
          <p:cNvSpPr/>
          <p:nvPr/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32" name=""/>
          <p:cNvSpPr/>
          <p:nvPr/>
        </p:nvSpPr>
        <p:spPr>
          <a:xfrm>
            <a:off x="685800" y="4341960"/>
            <a:ext cx="548496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3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40" name=""/>
          <p:cNvSpPr/>
          <p:nvPr/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4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8" name=""/>
          <p:cNvSpPr/>
          <p:nvPr/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2" name=""/>
          <p:cNvSpPr/>
          <p:nvPr/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6" name=""/>
          <p:cNvSpPr/>
          <p:nvPr/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8" name=""/>
          <p:cNvSpPr/>
          <p:nvPr/>
        </p:nvSpPr>
        <p:spPr>
          <a:xfrm>
            <a:off x="685800" y="4341960"/>
            <a:ext cx="548496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8000"/>
          </a:bodyPr>
          <a:p>
            <a:pPr marL="23328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4810680" y="2565360"/>
            <a:ext cx="8226360" cy="53496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6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6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51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144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Engagement Across Online Channels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612936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Tone and Voi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2" name=""/>
          <p:cNvSpPr/>
          <p:nvPr/>
        </p:nvSpPr>
        <p:spPr>
          <a:xfrm>
            <a:off x="1349280" y="2408400"/>
            <a:ext cx="23846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68440" y="2251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7400" y="2252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405240" y="4332240"/>
            <a:ext cx="2286000" cy="180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9200" y="3814920"/>
            <a:ext cx="30243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erson singula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I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and 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al; “Soci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5040" y="3792600"/>
            <a:ext cx="261936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erson plura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hird perso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We” or “The or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hmer UI"/>
              </a:rPr>
              <a:t>Tone &amp; Voice</a:t>
            </a:r>
            <a:endParaRPr b="0" lang="en-US" sz="4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68480" y="1455840"/>
            <a:ext cx="6986520" cy="397800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hmer UI"/>
              </a:rPr>
              <a:t>Tone &amp; Voice</a:t>
            </a:r>
            <a:endParaRPr b="0" lang="en-US" sz="4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78280" y="1455840"/>
            <a:ext cx="3165480" cy="397800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Frequency of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3" name=""/>
          <p:cNvSpPr/>
          <p:nvPr/>
        </p:nvSpPr>
        <p:spPr>
          <a:xfrm>
            <a:off x="1913040" y="2516040"/>
            <a:ext cx="6573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97160" y="2359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46120" y="2360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405240" y="4476600"/>
            <a:ext cx="2286000" cy="180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9200" y="4103640"/>
            <a:ext cx="28558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t –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or more o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5040" y="4116240"/>
            <a:ext cx="28562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frequent -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to mont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requency of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944800" y="1455840"/>
            <a:ext cx="3232080" cy="397800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requency of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83000" y="1531800"/>
            <a:ext cx="3840120" cy="471168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Matching Tools to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4" name=""/>
          <p:cNvSpPr/>
          <p:nvPr/>
        </p:nvSpPr>
        <p:spPr>
          <a:xfrm>
            <a:off x="1685880" y="2384280"/>
            <a:ext cx="2708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97160" y="2251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46120" y="2252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405240" y="4584600"/>
            <a:ext cx="2286000" cy="180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9200" y="3780000"/>
            <a:ext cx="29242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-breaking new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update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sers, Flirt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stic 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5040" y="3755880"/>
            <a:ext cx="293868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messaging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narrativ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gent alert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al 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atching Tools to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97080" y="1455840"/>
            <a:ext cx="6526080" cy="397800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atching Tools to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00280" y="1455840"/>
            <a:ext cx="5722920" cy="397800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Control of Message and Brand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5" name=""/>
          <p:cNvSpPr/>
          <p:nvPr/>
        </p:nvSpPr>
        <p:spPr>
          <a:xfrm>
            <a:off x="3711600" y="2467080"/>
            <a:ext cx="50544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97160" y="2359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46120" y="2360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05240" y="4513320"/>
            <a:ext cx="2286000" cy="144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9200" y="4103640"/>
            <a:ext cx="292428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with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,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5040" y="4079880"/>
            <a:ext cx="2938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”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rol of Message &amp; Brand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44680" y="1455840"/>
            <a:ext cx="4434120" cy="397800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rol of Message &amp; Brand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5440" y="1455840"/>
            <a:ext cx="3568680" cy="397800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151600" y="1455840"/>
            <a:ext cx="318600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Time/Labor Invest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97160" y="2251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46120" y="2252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05240" y="4440240"/>
            <a:ext cx="2286000" cy="144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9200" y="4067280"/>
            <a:ext cx="28558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al, tend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s 24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5040" y="4079880"/>
            <a:ext cx="28562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able, based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ast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11600" y="2395440"/>
            <a:ext cx="505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ime/Labor Invest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71840" y="1455840"/>
            <a:ext cx="397836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97160" y="239544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46120" y="239724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05240" y="4332240"/>
            <a:ext cx="2286000" cy="180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" y="3959280"/>
            <a:ext cx="262116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D; uneven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to chan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're trying to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5040" y="3971880"/>
            <a:ext cx="27194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able”, based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ast patter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e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11600" y="2540160"/>
            <a:ext cx="50544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01680" y="1528920"/>
            <a:ext cx="4157640" cy="3470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789440" y="1419120"/>
            <a:ext cx="3915000" cy="397836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57080" y="5006880"/>
            <a:ext cx="64677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522360" indent="-2034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tart tracking measurable goals around your online communications tool use (Traffic doc)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22360" indent="-2034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termine differences in tool use for your organization as a whole and for specific campaig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22360" indent="-2034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earn how to measure success: Intro to Online Channel Analytic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pare common tools used for online communica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etter understand when to use what too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nk about how tool selection supports your organization's work as a whole or campaig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mpaign vs. Organizational Use 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201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mpaign communications goals may differ from organizational communications goa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mpaign target audience may differ from overall organization audienc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ls may be used in different ways to support these differing goa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Your organization/campaign is uniqu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ls change all the tim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racking is important to give you a sense of what is working for YOU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40752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5 Common Onl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mmunications Too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4" name=""/>
          <p:cNvSpPr/>
          <p:nvPr/>
        </p:nvSpPr>
        <p:spPr>
          <a:xfrm>
            <a:off x="3833640" y="3308400"/>
            <a:ext cx="4761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17880" y="3044880"/>
            <a:ext cx="1290600" cy="64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41280" y="3032280"/>
            <a:ext cx="1441440" cy="72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98440" y="4681440"/>
            <a:ext cx="6737400" cy="306360"/>
          </a:xfrm>
          <a:prstGeom prst="leftRightArrow">
            <a:avLst>
              <a:gd name="adj1" fmla="val 16806"/>
              <a:gd name="adj2" fmla="val 191308"/>
            </a:avLst>
          </a:prstGeom>
          <a:solidFill>
            <a:srgbClr val="004586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Target Audien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9" name=""/>
          <p:cNvSpPr/>
          <p:nvPr/>
        </p:nvSpPr>
        <p:spPr>
          <a:xfrm>
            <a:off x="1473120" y="2394000"/>
            <a:ext cx="712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76360" y="222552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58800" y="225108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405240" y="4621320"/>
            <a:ext cx="2286000" cy="144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9200" y="3816360"/>
            <a:ext cx="29242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you; want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 information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 detail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your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5040" y="3792600"/>
            <a:ext cx="29386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supporters,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bout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work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arget Audien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4680" y="2689200"/>
            <a:ext cx="8526600" cy="439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78000" y="2082960"/>
            <a:ext cx="146016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28520" y="3165480"/>
            <a:ext cx="883296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arget Audien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8120" y="1455840"/>
            <a:ext cx="5367240" cy="397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se training materials have been prepared by Aspiration 
These materials are distributed under a Creative Commons license: Attribution-ShareAlike</dc:description>
  <dc:language>en-US</dc:language>
  <cp:lastModifiedBy/>
  <dcterms:modified xsi:type="dcterms:W3CDTF">2014-08-07T20:40:33Z</dcterms:modified>
  <cp:revision>3</cp:revision>
  <dc:subject/>
  <dc:title>Aspiration Spectrums of Engagment</dc:title>
</cp:coreProperties>
</file>