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DAE89-69B0-4B3B-9369-5948551BF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4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"/>
          <p:cNvSpPr/>
          <p:nvPr/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685800" y="4341960"/>
            <a:ext cx="54849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8" name=""/>
          <p:cNvSpPr/>
          <p:nvPr/>
        </p:nvSpPr>
        <p:spPr>
          <a:xfrm>
            <a:off x="685800" y="4341960"/>
            <a:ext cx="548496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248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89600" y="243180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350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1248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89600" y="5493960"/>
            <a:ext cx="18828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85000"/>
          </a:bodyPr>
          <a:p>
            <a:pPr marL="29160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5000" y="848880"/>
            <a:ext cx="5848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31640" y="549396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3500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31640" y="2431800"/>
            <a:ext cx="285372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35000" y="5493960"/>
            <a:ext cx="5848200" cy="27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5340000">
            <a:off x="-1114560" y="777600"/>
            <a:ext cx="5761080" cy="384012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87280" y="2925720"/>
            <a:ext cx="3657600" cy="3932280"/>
          </a:xfrm>
          <a:prstGeom prst="rtTriangle">
            <a:avLst/>
          </a:prstGeom>
          <a:solidFill>
            <a:srgbClr val="e6e6e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35000" y="848880"/>
            <a:ext cx="584820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35000" y="2431800"/>
            <a:ext cx="584820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 fontScale="68000"/>
          </a:bodyPr>
          <a:p>
            <a:pPr marL="233280" indent="0" algn="ctr">
              <a:lnSpc>
                <a:spcPct val="9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1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2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3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4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5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  <a:p>
            <a:pPr lvl="6" marL="233280" indent="-233280" algn="ctr">
              <a:lnSpc>
                <a:spcPct val="9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74680" y="5567400"/>
            <a:ext cx="212400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 rot="5400000">
            <a:off x="4810680" y="2565360"/>
            <a:ext cx="8226360" cy="534960"/>
          </a:xfrm>
          <a:prstGeom prst="rtTriangle">
            <a:avLst/>
          </a:prstGeom>
          <a:solidFill>
            <a:srgbClr val="346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120600"/>
            <a:ext cx="752148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455840"/>
            <a:ext cx="85168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1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2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3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4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5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lvl="6" marL="322200" indent="-3222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44" name=""/>
          <p:cNvSpPr/>
          <p:nvPr/>
        </p:nvSpPr>
        <p:spPr>
          <a:xfrm>
            <a:off x="577800" y="6578640"/>
            <a:ext cx="21034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info@aspirationtech.org</a:t>
            </a:r>
            <a:r>
              <a:rPr b="0" lang="en-US" sz="1400" spc="-1" strike="noStrike">
                <a:solidFill>
                  <a:srgbClr val="999999"/>
                </a:solidFill>
                <a:latin typeface="Khmer UI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018640" y="255600"/>
            <a:ext cx="998280" cy="474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85000" y="6573960"/>
            <a:ext cx="2835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6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Khmer UI"/>
              </a:rPr>
              <a:t>www.aspirationtech.org/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6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6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spirationtech.org/attribut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35360" y="849240"/>
            <a:ext cx="5851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35360" y="2432160"/>
            <a:ext cx="585144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Khmer UI"/>
              </a:rPr>
              <a:t>Engagement Across Online Channels</a:t>
            </a:r>
            <a:endParaRPr b="0" lang="en-US" sz="5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3" name=""/>
          <p:cNvSpPr/>
          <p:nvPr/>
        </p:nvSpPr>
        <p:spPr>
          <a:xfrm>
            <a:off x="3033720" y="6129360"/>
            <a:ext cx="4114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These training materials have been prepared by Aspiratio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97720" y="6199200"/>
            <a:ext cx="13716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one and Voi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22" name=""/>
          <p:cNvSpPr/>
          <p:nvPr/>
        </p:nvSpPr>
        <p:spPr>
          <a:xfrm>
            <a:off x="1349280" y="2408400"/>
            <a:ext cx="23846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844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1740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405240" y="433224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9200" y="3814920"/>
            <a:ext cx="30243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singul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I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and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; “So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5040" y="3792600"/>
            <a:ext cx="261936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erson plura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hird pers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We” or “The or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hmer UI"/>
              </a:rPr>
              <a:t>Tone &amp; Voice</a:t>
            </a:r>
            <a:endParaRPr b="0" lang="en-US" sz="4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68480" y="1455840"/>
            <a:ext cx="698652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hmer UI"/>
              </a:rPr>
              <a:t>Tone &amp; Voice</a:t>
            </a:r>
            <a:endParaRPr b="0" lang="en-US" sz="4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8280" y="1455840"/>
            <a:ext cx="316548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33" name=""/>
          <p:cNvSpPr/>
          <p:nvPr/>
        </p:nvSpPr>
        <p:spPr>
          <a:xfrm>
            <a:off x="1913040" y="2516040"/>
            <a:ext cx="657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97160" y="2359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6120" y="2360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405240" y="447660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9200" y="4103640"/>
            <a:ext cx="2855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–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or more o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5040" y="4116240"/>
            <a:ext cx="2856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frequent -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to 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44800" y="1455840"/>
            <a:ext cx="323208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Frequency of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83000" y="1531800"/>
            <a:ext cx="3840120" cy="471168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44" name=""/>
          <p:cNvSpPr/>
          <p:nvPr/>
        </p:nvSpPr>
        <p:spPr>
          <a:xfrm>
            <a:off x="1685880" y="2384280"/>
            <a:ext cx="2708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9716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4612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05240" y="458460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9200" y="3780000"/>
            <a:ext cx="2924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-breaking new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update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sers, Flirt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stic 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5040" y="3755880"/>
            <a:ext cx="293868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messaging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narrativ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gent alert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al 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97080" y="1455840"/>
            <a:ext cx="652608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Matching Tools to Messag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00280" y="1455840"/>
            <a:ext cx="572292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Control of Message and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55" name=""/>
          <p:cNvSpPr/>
          <p:nvPr/>
        </p:nvSpPr>
        <p:spPr>
          <a:xfrm>
            <a:off x="3711600" y="2467080"/>
            <a:ext cx="50544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97160" y="2359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6120" y="2360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05240" y="451332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4103640"/>
            <a:ext cx="292428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with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,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5040" y="4079880"/>
            <a:ext cx="2938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Who is Aspiration?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455480"/>
            <a:ext cx="851832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spiration helps nonprofits and foundations use software tools more effectively and sustainably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e serve as 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ally, coach, strategist, mentor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Khmer UI"/>
              </a:rPr>
              <a:t> facilitator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to those trying to make more impactful use of information technology in their social change efforts.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56200" indent="-21636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www.aspirationtech.org/service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rol of Message &amp;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44680" y="1455840"/>
            <a:ext cx="443412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rol of Message &amp; Brand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5440" y="1455840"/>
            <a:ext cx="3568680" cy="397800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51600" y="1455840"/>
            <a:ext cx="318600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ime/Labor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97160" y="225108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46120" y="22525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05240" y="444024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200" y="4067280"/>
            <a:ext cx="28558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, tend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24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5040" y="4079880"/>
            <a:ext cx="28562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able, b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st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11600" y="2395440"/>
            <a:ext cx="505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ime/Labor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71840" y="1455840"/>
            <a:ext cx="3978360" cy="39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97160" y="23954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6120" y="23972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05240" y="4332240"/>
            <a:ext cx="2286000" cy="180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" y="3959280"/>
            <a:ext cx="26211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D; uneven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 to chan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're trying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5040" y="3971880"/>
            <a:ext cx="271944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able”, base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st patter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11600" y="2540160"/>
            <a:ext cx="50544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Return on Investment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01680" y="1528920"/>
            <a:ext cx="4157640" cy="3470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89440" y="1419120"/>
            <a:ext cx="3915000" cy="3978360"/>
          </a:xfrm>
          <a:prstGeom prst="rect">
            <a:avLst/>
          </a:prstGeom>
          <a:ln cap="sq" w="18360">
            <a:solidFill>
              <a:srgbClr val="c0c0c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57080" y="5006880"/>
            <a:ext cx="64677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522360" indent="-2034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Start tracking measurable goals around your online communications tool use (Traffic doc)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22360" indent="-2034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Determine differences in tool use for your organization as a whole and for specific campaig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22360" indent="-20340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Learn how to measure success: Intro to Online Channel Analytic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906640" y="632880"/>
            <a:ext cx="6034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Use, Modify &amp; Attribut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35360" y="2034720"/>
            <a:ext cx="5850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Khmer UI"/>
                <a:hlinkClick r:id="rId1"/>
              </a:rPr>
              <a:t>www.aspirationtech.org/attribute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spiration distributes these materials under 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reative Commons Attribution-ShareAlike licen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  <a:ea typeface="ArialMT"/>
              </a:rPr>
              <a:t>We encourage re-use, modification, and re-distribution in any situation where they may be useful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We love to hear about how you are improving and remixing what we've done.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Questions? Email us info@aspirationtech.org</a:t>
            </a: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19040" y="1006560"/>
            <a:ext cx="1828800" cy="63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5360" y="848880"/>
            <a:ext cx="5850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54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ntact U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835360" y="2431800"/>
            <a:ext cx="58500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hmer UI"/>
              </a:rPr>
              <a:t>aspirationtech.org/training/support</a:t>
            </a:r>
            <a:endParaRPr b="0" lang="en-US" sz="2600" spc="-1" strike="noStrike">
              <a:solidFill>
                <a:srgbClr val="000000"/>
              </a:solidFill>
              <a:latin typeface="Khmer UI"/>
            </a:endParaRPr>
          </a:p>
          <a:p>
            <a:pPr marL="343080"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info@aspirationtech.org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  <a:p>
            <a:pPr indent="0" algn="ctr">
              <a:lnSpc>
                <a:spcPct val="99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hmer UI"/>
              </a:rPr>
              <a:t>+1-415-839-6456</a:t>
            </a:r>
            <a:endParaRPr b="0" lang="en-US" sz="28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ompare common tools used for online communication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Better understand when to use what tool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hink about how tool selection supports your organization's work as a whole or campaign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ampaign vs. Organizational Use 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2012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mpaign communications goals may differ from organizational communications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Campaign target audience may differ from overall organization audienc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may be used in different ways to support these differing goals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455840"/>
            <a:ext cx="851832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1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Your organization/campaign is uniqu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2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ools change all the time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  <a:p>
            <a:pPr marL="561960" indent="-218880">
              <a:lnSpc>
                <a:spcPct val="106000"/>
              </a:lnSpc>
              <a:spcBef>
                <a:spcPts val="799"/>
              </a:spcBef>
              <a:buSzPct val="106921"/>
              <a:buBlip>
                <a:blip r:embed="rId3"/>
              </a:buBlip>
              <a:tabLst>
                <a:tab algn="l" pos="561960"/>
                <a:tab algn="l" pos="674640"/>
                <a:tab algn="l" pos="1131840"/>
                <a:tab algn="l" pos="1589040"/>
                <a:tab algn="l" pos="2046240"/>
                <a:tab algn="l" pos="2503440"/>
                <a:tab algn="l" pos="2960640"/>
                <a:tab algn="l" pos="3417840"/>
                <a:tab algn="l" pos="3875040"/>
                <a:tab algn="l" pos="4332240"/>
                <a:tab algn="l" pos="4789440"/>
                <a:tab algn="l" pos="5246640"/>
                <a:tab algn="l" pos="5703840"/>
                <a:tab algn="l" pos="6161040"/>
                <a:tab algn="l" pos="6618240"/>
                <a:tab algn="l" pos="7075440"/>
                <a:tab algn="l" pos="7532640"/>
                <a:tab algn="l" pos="7989840"/>
                <a:tab algn="l" pos="8447040"/>
                <a:tab algn="l" pos="8904240"/>
                <a:tab algn="l" pos="9361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hmer UI"/>
              </a:rPr>
              <a:t>Tracking is important to give you a sense of what is working for YOU</a:t>
            </a:r>
            <a:endParaRPr b="0" lang="en-US" sz="3200" spc="-1" strike="noStrike">
              <a:solidFill>
                <a:srgbClr val="000000"/>
              </a:solidFill>
              <a:latin typeface="Khmer U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407520"/>
            <a:ext cx="852012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5 Common Onl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Communications Tools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4" name=""/>
          <p:cNvSpPr/>
          <p:nvPr/>
        </p:nvSpPr>
        <p:spPr>
          <a:xfrm>
            <a:off x="3833640" y="3308400"/>
            <a:ext cx="4761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17880" y="3044880"/>
            <a:ext cx="1290600" cy="64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1280" y="3032280"/>
            <a:ext cx="144144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98440" y="4681440"/>
            <a:ext cx="6737400" cy="306360"/>
          </a:xfrm>
          <a:prstGeom prst="leftRightArrow">
            <a:avLst>
              <a:gd name="adj1" fmla="val 16806"/>
              <a:gd name="adj2" fmla="val 191308"/>
            </a:avLst>
          </a:prstGeom>
          <a:solidFill>
            <a:srgbClr val="004586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sp>
        <p:nvSpPr>
          <p:cNvPr id="109" name=""/>
          <p:cNvSpPr/>
          <p:nvPr/>
        </p:nvSpPr>
        <p:spPr>
          <a:xfrm>
            <a:off x="1473120" y="2394000"/>
            <a:ext cx="712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logg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950e"/>
                </a:solidFill>
                <a:latin typeface="Arial"/>
              </a:rPr>
              <a:t>Em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99284c"/>
                </a:solidFill>
                <a:latin typeface="Arial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76360" y="222552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58800" y="225108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05240" y="4621320"/>
            <a:ext cx="2286000" cy="1440"/>
          </a:xfrm>
          <a:prstGeom prst="line">
            <a:avLst/>
          </a:prstGeom>
          <a:ln cap="sq" w="36720">
            <a:solidFill>
              <a:srgbClr val="000000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00" y="3816360"/>
            <a:ext cx="29242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you; want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 information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 detail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you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5040" y="3792600"/>
            <a:ext cx="29386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6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upporters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bout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ork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4680" y="2689200"/>
            <a:ext cx="8526600" cy="439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78000" y="2082960"/>
            <a:ext cx="146016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28520" y="3165480"/>
            <a:ext cx="883296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120240"/>
            <a:ext cx="75232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hmer UI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Khmer U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8120" y="1455840"/>
            <a:ext cx="5367240" cy="397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hese training materials have been prepared by Aspiration 
These materials are distributed under a Creative Commons license: Attribution-ShareAlike</dc:description>
  <dc:language>en-US</dc:language>
  <cp:lastModifiedBy/>
  <dcterms:modified xsi:type="dcterms:W3CDTF">2014-08-07T20:40:33Z</dcterms:modified>
  <cp:revision>3</cp:revision>
  <dc:subject/>
  <dc:title>Aspiration Spectrums of Engagment</dc:title>
</cp:coreProperties>
</file>