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03512-19C7-442B-849A-8CB881142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343400"/>
            <a:ext cx="54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6" name=""/>
          <p:cNvSpPr/>
          <p:nvPr/>
        </p:nvSpPr>
        <p:spPr>
          <a:xfrm>
            <a:off x="685800" y="4343400"/>
            <a:ext cx="54705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216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051520"/>
            <a:ext cx="18828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79000"/>
          </a:bodyPr>
          <a:p>
            <a:pPr marL="27072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05152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2160"/>
            <a:ext cx="285372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97000"/>
          </a:bodyPr>
          <a:p>
            <a:pPr marL="33264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051520"/>
            <a:ext cx="5848200" cy="239184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2160"/>
            <a:ext cx="58482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4000"/>
          </a:bodyPr>
          <a:p>
            <a:pPr marL="21924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19240" indent="-21924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12480" y="2565360"/>
            <a:ext cx="8226360" cy="5349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Newsletter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0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Getting Started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792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1" name=""/>
          <p:cNvSpPr/>
          <p:nvPr/>
        </p:nvSpPr>
        <p:spPr>
          <a:xfrm>
            <a:off x="301680" y="1347840"/>
            <a:ext cx="851688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Clear Messag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Know what you want your user to learn and do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ep Tone Casual and Persona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odel as “friend talking with a friend”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45040" indent="-21204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ubject line is critical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32760" indent="-21204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rmation should be easily accessibl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1680" y="1568520"/>
            <a:ext cx="8518320" cy="37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Desig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6" name=""/>
          <p:cNvSpPr/>
          <p:nvPr/>
        </p:nvSpPr>
        <p:spPr>
          <a:xfrm>
            <a:off x="639720" y="1701720"/>
            <a:ext cx="851688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mplicity is Golde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x 3-4 color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1 to 2 font styl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FRAIN FROM ALL CAP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space and headers to break up paragraph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atch “The Fold”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3040" y="1455840"/>
            <a:ext cx="817416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1" name=""/>
          <p:cNvSpPr/>
          <p:nvPr/>
        </p:nvSpPr>
        <p:spPr>
          <a:xfrm>
            <a:off x="352440" y="1554120"/>
            <a:ext cx="851688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2600" indent="-28260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28260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7160">
              <a:lnSpc>
                <a:spcPct val="114000"/>
              </a:lnSpc>
              <a:spcBef>
                <a:spcPts val="700"/>
              </a:spcBef>
              <a:tabLst>
                <a:tab algn="l" pos="0"/>
                <a:tab algn="l" pos="28260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raphics and Imag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sure images have defined width and height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on't rely on images for mess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ny people don't load image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on mobile, loading images means using data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dd a meaningful ALT tag to your imag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What appears when image doesn't load?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Image Only Cont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40520" y="1457640"/>
            <a:ext cx="22366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578560" y="1440000"/>
            <a:ext cx="2841480" cy="5052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20037" t="0" r="0" b="0"/>
          <a:stretch/>
        </p:blipFill>
        <p:spPr>
          <a:xfrm>
            <a:off x="539640" y="1828800"/>
            <a:ext cx="457992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Email  Ask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1463760"/>
            <a:ext cx="85215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e Ask” refers to what action you want your recipients to tak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it easy to see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Make it specific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Repeat  several times in different places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lvl="1" marL="952200" indent="-21636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Use a sidebar and graphics 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2" marL="1348560" indent="-21672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Give multiple options and methods for people to take action and participate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5320" y="1995480"/>
            <a:ext cx="3510000" cy="3978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043600" y="1995480"/>
            <a:ext cx="3403440" cy="3978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4240" y="5432400"/>
            <a:ext cx="1371600" cy="1143000"/>
          </a:xfrm>
          <a:prstGeom prst="upArrowCallout">
            <a:avLst>
              <a:gd name="adj1" fmla="val 30003"/>
              <a:gd name="adj2" fmla="val 30000"/>
              <a:gd name="adj3" fmla="val 16667"/>
              <a:gd name="adj4" fmla="val 6666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e Ask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275840"/>
            <a:ext cx="85183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hy would anyone read that?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6457680" cy="6091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543800" y="1295280"/>
            <a:ext cx="1447920" cy="1173240"/>
          </a:xfrm>
          <a:prstGeom prst="leftArrowCallout">
            <a:avLst>
              <a:gd name="adj1" fmla="val 25002"/>
              <a:gd name="adj2" fmla="val 25000"/>
              <a:gd name="adj3" fmla="val 20569"/>
              <a:gd name="adj4" fmla="val 66673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480" y="2743200"/>
            <a:ext cx="1768320" cy="1279440"/>
          </a:xfrm>
          <a:prstGeom prst="rightArrowCallout">
            <a:avLst>
              <a:gd name="adj1" fmla="val 25002"/>
              <a:gd name="adj2" fmla="val 25000"/>
              <a:gd name="adj3" fmla="val 23035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520" y="5029200"/>
            <a:ext cx="1646280" cy="1096920"/>
          </a:xfrm>
          <a:prstGeom prst="rightArrowCallout">
            <a:avLst>
              <a:gd name="adj1" fmla="val 25002"/>
              <a:gd name="adj2" fmla="val 25000"/>
              <a:gd name="adj3" fmla="val 25014"/>
              <a:gd name="adj4" fmla="val 66667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0" name=""/>
          <p:cNvSpPr/>
          <p:nvPr/>
        </p:nvSpPr>
        <p:spPr>
          <a:xfrm>
            <a:off x="716040" y="1252440"/>
            <a:ext cx="18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Use an email blaster for legitimacy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Email templates streamline and standardiz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sign for skimming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fine how you want your supporters and members to plug i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Review the basics of creating an email blast or email newslett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Go over Best Practices for getting your reader's attention with composition, design, and the “Art of the Ask”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ost importantly, answer your ques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Use An Email Blaste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gitimacy (vs. Spam) BCCing more than a few dozen people = Spam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ist Managem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722840" y="1455840"/>
            <a:ext cx="359712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Use An Email Blaste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55840"/>
            <a:ext cx="4157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50440" indent="-21420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Professional Appearanc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(Relatively) easy email design tools without needing to know HTML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550440" indent="-214200">
              <a:lnSpc>
                <a:spcPct val="106000"/>
              </a:lnSpc>
              <a:spcBef>
                <a:spcPts val="799"/>
              </a:spcBef>
              <a:buSzPct val="122325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Analytics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42480" indent="-21420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Information about what happened after you sent the email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455840"/>
            <a:ext cx="41576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844880" y="1455840"/>
            <a:ext cx="3800520" cy="397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621320" y="4692600"/>
            <a:ext cx="415764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Why Use An Email Blaster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llect Email Address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Create an opt-in for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60280" y="2835360"/>
            <a:ext cx="8518680" cy="3625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761080" y="1254240"/>
            <a:ext cx="292572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sideration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3" name=""/>
          <p:cNvSpPr/>
          <p:nvPr/>
        </p:nvSpPr>
        <p:spPr>
          <a:xfrm>
            <a:off x="365040" y="1920960"/>
            <a:ext cx="86868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n take a large amount of time to construc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nsistent pace is key 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1998 HTML knowledge is very helpfu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Make sure that you have a goal to determine whether your rate of email blasting is worth the effor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320" y="155520"/>
            <a:ext cx="8537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Khmer UI"/>
              </a:rPr>
              <a:t>Which Email Blasting Too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Khmer UI"/>
              </a:rPr>
              <a:t>Should I use?</a:t>
            </a:r>
            <a:endParaRPr b="0" lang="en-US" sz="3600" spc="-1" strike="noStrike">
              <a:solidFill>
                <a:srgbClr val="000000"/>
              </a:solidFill>
              <a:latin typeface="Khmer U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04640" y="1496880"/>
          <a:ext cx="8229240" cy="4114440"/>
        </p:xfrm>
        <a:graphic>
          <a:graphicData uri="http://schemas.openxmlformats.org/drawingml/2006/table">
            <a:tbl>
              <a:tblPr/>
              <a:tblGrid>
                <a:gridCol w="2742120"/>
                <a:gridCol w="2742120"/>
                <a:gridCol w="2745000"/>
              </a:tblGrid>
              <a:tr h="471600"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Blasting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nsid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91008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Vertic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onprofits: Free up to 10,000 emails/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Email editor can be quirky; Salesforce “integration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1008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ail Chi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nyone: Free up to 2,000 list members &amp; 12,000 emails/mo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Beautiful User Interface; Sometimes tries to be smarter than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4a4a"/>
                    </a:solidFill>
                  </a:tcPr>
                </a:tc>
              </a:tr>
              <a:tr h="91152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nstant Cont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onprofits: Staggered starting at $14/month for 0-500 em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as highest spam rating; Drupal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11160"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y Em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tup fee: $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onthly fee: $132 for 25,000 cont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  <a:tc>
                  <a:txBody>
                    <a:bodyPr lIns="90000" rIns="90000" tIns="189720" bIns="46800" anchor="ctr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ay be best value for larger 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b6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Email Composition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1687680"/>
            <a:ext cx="852804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Key premise: you have minimal time to engage reader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in terms of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Subject line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and 3 main points in email conten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your solution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lvl="1" marL="961920" indent="-218880">
              <a:lnSpc>
                <a:spcPct val="108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State ways to get involved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21:10:06Z</dcterms:created>
  <dc:creator/>
  <dc:description>These training materials have been prepared by Aspiration. These materials are distributed under a Creative Commons license:  Attribution-ShareAlike</dc:description>
  <dc:language>en-US</dc:language>
  <cp:lastModifiedBy/>
  <dcterms:modified xsi:type="dcterms:W3CDTF">2014-09-10T17:33:23Z</dcterms:modified>
  <cp:revision>16</cp:revision>
  <dc:subject/>
  <dc:title>Getting Started with Email Newsletters</dc:title>
</cp:coreProperties>
</file>