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2E13C-7C20-4908-B54C-83AA600CA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8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0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2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4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6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8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0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2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4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6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0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6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4812480" y="2565360"/>
            <a:ext cx="8226360" cy="53496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Newsletter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00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Getting Started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612792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1" name=""/>
          <p:cNvSpPr/>
          <p:nvPr/>
        </p:nvSpPr>
        <p:spPr>
          <a:xfrm>
            <a:off x="301680" y="1347840"/>
            <a:ext cx="851688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Clear Messag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now what you want your user to learn and do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ep Tone Casual and Persona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odel as “friend talking with a friend”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Skimm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ubject line is critica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rmation should be easily accessib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1680" y="1568520"/>
            <a:ext cx="8518320" cy="37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Desig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6" name=""/>
          <p:cNvSpPr/>
          <p:nvPr/>
        </p:nvSpPr>
        <p:spPr>
          <a:xfrm>
            <a:off x="639720" y="1701720"/>
            <a:ext cx="851688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mplicity is Golde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x 3-4 color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Use 1 to 2 font styl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FRAIN FROM ALL CAP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se space and headers to break up paragraph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Watch “The Fold”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3040" y="1455840"/>
            <a:ext cx="817416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1" name=""/>
          <p:cNvSpPr/>
          <p:nvPr/>
        </p:nvSpPr>
        <p:spPr>
          <a:xfrm>
            <a:off x="352440" y="1554120"/>
            <a:ext cx="851688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2600" indent="-28260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28260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7160">
              <a:lnSpc>
                <a:spcPct val="114000"/>
              </a:lnSpc>
              <a:spcBef>
                <a:spcPts val="700"/>
              </a:spcBef>
              <a:tabLst>
                <a:tab algn="l" pos="0"/>
                <a:tab algn="l" pos="28260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raphics and Imag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sure images have defined width and heigh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on't rely on images for messag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ny people don't load imag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48560" indent="-2167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on mobile, loading images means using data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dd a meaningful ALT tag to your imag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at appears when image doesn't load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Image Only Cont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40520" y="1457640"/>
            <a:ext cx="223668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578560" y="1440000"/>
            <a:ext cx="2841480" cy="5052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20037" t="0" r="0" b="0"/>
          <a:stretch/>
        </p:blipFill>
        <p:spPr>
          <a:xfrm>
            <a:off x="539640" y="1828800"/>
            <a:ext cx="457992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1463760"/>
            <a:ext cx="85215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 Ask” refers to what action you want your recipients to tak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ake it easy to see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it specific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48560" indent="-2167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Repeat  several times in different plac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Use a sidebar and graphics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48560" indent="-2167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Give multiple options and methods for people to take action and participat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25320" y="1995480"/>
            <a:ext cx="3510000" cy="3978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043600" y="1995480"/>
            <a:ext cx="3403440" cy="3978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4240" y="5432400"/>
            <a:ext cx="1371600" cy="1143000"/>
          </a:xfrm>
          <a:prstGeom prst="upArrowCallout">
            <a:avLst>
              <a:gd name="adj1" fmla="val 30003"/>
              <a:gd name="adj2" fmla="val 30000"/>
              <a:gd name="adj3" fmla="val 16667"/>
              <a:gd name="adj4" fmla="val 6666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e As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275840"/>
            <a:ext cx="85183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y would anyone read that?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76320"/>
            <a:ext cx="6457680" cy="6091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543800" y="1295280"/>
            <a:ext cx="1447920" cy="1173240"/>
          </a:xfrm>
          <a:prstGeom prst="leftArrowCallout">
            <a:avLst>
              <a:gd name="adj1" fmla="val 25002"/>
              <a:gd name="adj2" fmla="val 25000"/>
              <a:gd name="adj3" fmla="val 20569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480" y="2743200"/>
            <a:ext cx="1768320" cy="1279440"/>
          </a:xfrm>
          <a:prstGeom prst="rightArrowCallout">
            <a:avLst>
              <a:gd name="adj1" fmla="val 25002"/>
              <a:gd name="adj2" fmla="val 25000"/>
              <a:gd name="adj3" fmla="val 23035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520" y="5029200"/>
            <a:ext cx="1646280" cy="1096920"/>
          </a:xfrm>
          <a:prstGeom prst="rightArrowCallout">
            <a:avLst>
              <a:gd name="adj1" fmla="val 25002"/>
              <a:gd name="adj2" fmla="val 25000"/>
              <a:gd name="adj3" fmla="val 25014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0" name=""/>
          <p:cNvSpPr/>
          <p:nvPr/>
        </p:nvSpPr>
        <p:spPr>
          <a:xfrm>
            <a:off x="716040" y="1252440"/>
            <a:ext cx="18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se an email blaster for legitimac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mail templates streamline and standardiz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skimming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fine how you want your supporters and members to plug i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view the basics of creating an email blast or email newslett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o over Best Practices for getting your reader's attention with composition, design, and the “Art of the Ask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st importantly, answer your ques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Why Use An Email Blaster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32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egitimacy (vs. Spam) BCCing more than a few dozen people = Spam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ist Managem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04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722840" y="1455840"/>
            <a:ext cx="359712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Why Use An Email Blaster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455840"/>
            <a:ext cx="4157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rofessional Appearanc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(Relatively) easy email design tools without needing to know HTML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nalytic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Information about what happened after you sent the email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04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844880" y="1455840"/>
            <a:ext cx="3800520" cy="397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621320" y="4692600"/>
            <a:ext cx="415764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Why Use An Email Blaster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llect Email Address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reate an opt-in form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60280" y="2835360"/>
            <a:ext cx="8518680" cy="3625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761080" y="1254240"/>
            <a:ext cx="2925720" cy="29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sideration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3" name=""/>
          <p:cNvSpPr/>
          <p:nvPr/>
        </p:nvSpPr>
        <p:spPr>
          <a:xfrm>
            <a:off x="365040" y="1920960"/>
            <a:ext cx="868680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n take a large amount of time to construc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nsistent pace is key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1998 HTML knowledge is very helpfu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ake sure that you have a goal to determine whether your rate of email blasting is worth the effor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320" y="15552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Khmer UI"/>
              </a:rPr>
              <a:t>Which Email Blasting Tool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Khmer UI"/>
              </a:rPr>
              <a:t>Should I use?</a:t>
            </a:r>
            <a:endParaRPr b="0" lang="en-US" sz="36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04640" y="1496880"/>
          <a:ext cx="8229240" cy="4114440"/>
        </p:xfrm>
        <a:graphic>
          <a:graphicData uri="http://schemas.openxmlformats.org/drawingml/2006/table">
            <a:tbl>
              <a:tblPr/>
              <a:tblGrid>
                <a:gridCol w="2742120"/>
                <a:gridCol w="2742120"/>
                <a:gridCol w="2745000"/>
              </a:tblGrid>
              <a:tr h="471600">
                <a:tc>
                  <a:txBody>
                    <a:bodyPr lIns="90000" rIns="90000" tIns="18972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Blasting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nsid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910080"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Vertic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Nonprofits: Free up to 10,000 emails/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Email editor can be quirky; Salesforce “integration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10080"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Mail Chi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a4a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nyone: Free up to 2,000 list members &amp; 12,000 emails/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a4a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Beautiful User Interface; Sometimes tries to be smarter than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a4a"/>
                    </a:solidFill>
                  </a:tcPr>
                </a:tc>
              </a:tr>
              <a:tr h="911520"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nstant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Nonprofits: Staggered starting at $14/month for 0-500 em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Has highest spam rating; Drupal inte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11160"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My Em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b6b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etup fee: $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Monthly fee: $132 for 25,000 cont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b6b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May be best value for larger 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b6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1687680"/>
            <a:ext cx="852804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y premise: you have minimal time to engage read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nk in terms of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Subject line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and 3 main points in email cont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te the problem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te your solu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te ways to get involve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6T21:10:06Z</dcterms:created>
  <dc:creator/>
  <dc:description>These training materials have been prepared by Aspiration. These materials are distributed under a Creative Commons license:  Attribution-ShareAlike</dc:description>
  <dc:language>en-US</dc:language>
  <cp:lastModifiedBy/>
  <dcterms:modified xsi:type="dcterms:W3CDTF">2014-09-10T17:33:23Z</dcterms:modified>
  <cp:revision>16</cp:revision>
  <dc:subject/>
  <dc:title>Getting Started with Email Newsletters</dc:title>
</cp:coreProperties>
</file>