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94920" y="763200"/>
            <a:ext cx="517860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4398840" y="-360"/>
            <a:ext cx="3368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9554760"/>
            <a:ext cx="33685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398840" y="9554760"/>
            <a:ext cx="3368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8AAA2-9770-4704-AEB3-23318B6EA0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143" name=""/>
          <p:cNvSpPr/>
          <p:nvPr/>
        </p:nvSpPr>
        <p:spPr>
          <a:xfrm>
            <a:off x="777960" y="4776840"/>
            <a:ext cx="621828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644688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25880" y="5568480"/>
            <a:ext cx="644688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2588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2960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05680" y="268092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85840" y="268092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25880" y="556848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05680" y="556848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485840" y="556848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125880" y="2680920"/>
            <a:ext cx="644688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644688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125880" y="934560"/>
            <a:ext cx="64468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12588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25880" y="2680920"/>
            <a:ext cx="644688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42960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125880" y="5568480"/>
            <a:ext cx="644688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644688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25880" y="5568480"/>
            <a:ext cx="644688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12588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42960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05680" y="268092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485840" y="268092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125880" y="556848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5305680" y="556848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485840" y="556848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644688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5880" y="934560"/>
            <a:ext cx="64468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2588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2960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25880" y="5568480"/>
            <a:ext cx="644688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340000">
            <a:off x="-1226880" y="857160"/>
            <a:ext cx="6351480" cy="423360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316080" y="3224160"/>
            <a:ext cx="4032360" cy="43354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125880" y="2680920"/>
            <a:ext cx="644688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4000"/>
          </a:bodyPr>
          <a:p>
            <a:pPr marL="219240" indent="0" algn="ctr">
              <a:lnSpc>
                <a:spcPct val="99000"/>
              </a:lnSpc>
              <a:spcAft>
                <a:spcPts val="15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1" marL="219240" indent="-21924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2" marL="219240" indent="-21924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3" marL="219240" indent="-21924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4" marL="219240" indent="-21924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5" marL="219240" indent="-21924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6" marL="219240" indent="-21924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6137280"/>
            <a:ext cx="23418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 rot="5400000">
            <a:off x="5301000" y="2828160"/>
            <a:ext cx="9068040" cy="59076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1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31560" y="1604520"/>
            <a:ext cx="93884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88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4" name=""/>
          <p:cNvSpPr/>
          <p:nvPr/>
        </p:nvSpPr>
        <p:spPr>
          <a:xfrm>
            <a:off x="638280" y="7251840"/>
            <a:ext cx="23191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839080" y="281160"/>
            <a:ext cx="1100160" cy="522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97720" y="7246800"/>
            <a:ext cx="31258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spirationtech.org/attribut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6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5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5880" y="934920"/>
            <a:ext cx="64483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Online Too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6448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Introduction to Social Media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3" name=""/>
          <p:cNvSpPr/>
          <p:nvPr/>
        </p:nvSpPr>
        <p:spPr>
          <a:xfrm>
            <a:off x="3344760" y="6754680"/>
            <a:ext cx="45356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560" bIns="45000" anchor="t">
            <a:noAutofit/>
          </a:bodyPr>
          <a:p>
            <a:pPr marL="343080"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65960" y="6834240"/>
            <a:ext cx="1511280" cy="52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Social Media Housekeeping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Lock down your virtual real estate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Reserve any accounts you could envision using now or in the future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2" marL="1477800" indent="-21888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Khmer UI"/>
              </a:rPr>
              <a:t>Facebook, Twitter, YouTube, Flickr</a:t>
            </a:r>
            <a:endParaRPr b="0" lang="en-US" sz="29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Set them up to look like a family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Strive for name consistency, usually an organizational domain name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76480" y="681120"/>
            <a:ext cx="8008920" cy="4722840"/>
          </a:xfrm>
          <a:prstGeom prst="irregularSeal2">
            <a:avLst/>
          </a:prstGeom>
          <a:solidFill>
            <a:srgbClr val="ffff66"/>
          </a:solidFill>
          <a:ln w="18360">
            <a:solidFill>
              <a:srgbClr val="eb613d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2250720"/>
            <a:ext cx="9070920" cy="17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Let's Jump Into</a:t>
            </a:r>
            <a:br>
              <a:rPr sz="5300"/>
            </a:b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Some Too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Facebook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35305"/>
          <a:stretch/>
        </p:blipFill>
        <p:spPr>
          <a:xfrm>
            <a:off x="487440" y="1306440"/>
            <a:ext cx="8596080" cy="5751720"/>
          </a:xfrm>
          <a:prstGeom prst="rect">
            <a:avLst/>
          </a:prstGeom>
          <a:ln w="0">
            <a:noFill/>
          </a:ln>
          <a:effectLst>
            <a:outerShdw dist="155280" dir="2700000" blurRad="0" rotWithShape="0">
              <a:srgbClr val="808080"/>
            </a:outerShdw>
          </a:effectLst>
        </p:spPr>
      </p:pic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Twitter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30240" y="1521000"/>
            <a:ext cx="6586560" cy="4989240"/>
          </a:xfrm>
          <a:prstGeom prst="rect">
            <a:avLst/>
          </a:prstGeom>
          <a:ln w="0">
            <a:noFill/>
          </a:ln>
          <a:effectLst>
            <a:outerShdw dist="155280" dir="2700000" blurRad="0" rotWithShape="0">
              <a:srgbClr val="808080"/>
            </a:outerShdw>
          </a:effectLst>
        </p:spPr>
      </p:pic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LinkedIn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00240" y="1693800"/>
            <a:ext cx="5716440" cy="5064120"/>
          </a:xfrm>
          <a:prstGeom prst="rect">
            <a:avLst/>
          </a:prstGeom>
          <a:ln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Instagram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96800" y="1224000"/>
            <a:ext cx="6961320" cy="5365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091280" y="2470320"/>
            <a:ext cx="2552760" cy="43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Recap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567000" indent="-20772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Remember to define your social media goals to make the most of your time/resources 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67000" indent="-20772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Don't feel like you have to be on everything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984960" indent="-20808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Baby steps; Bite off as much as you can chew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67000" indent="-20772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hink about which tool is right for your goals and audience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0">
              <a:lnSpc>
                <a:spcPct val="106000"/>
              </a:lnSpc>
              <a:spcBef>
                <a:spcPts val="887"/>
              </a:spcBef>
              <a:buNone/>
              <a:tabLst>
                <a:tab algn="l" pos="0"/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04720" y="696600"/>
            <a:ext cx="6651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125880" y="2242800"/>
            <a:ext cx="6448320" cy="5343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7800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1"/>
              </a:rPr>
              <a:t>www.aspirationtech.org/attrib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0440" y="1108080"/>
            <a:ext cx="2016000" cy="69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5880" y="934920"/>
            <a:ext cx="64483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64483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7800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5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5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Our Goa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Explore the importance of social media in reaching online audiences and their appropriate use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Learn some basic workflows for common social media tools that you can use in your work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Demonstrate a process framework for coordinating social media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Answer your question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284800" y="1604880"/>
            <a:ext cx="4300560" cy="438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Today's Agenda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1920" y="1604880"/>
            <a:ext cx="4581360" cy="54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We're going to talk about: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Using social media as a tool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Compare common online communications tools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Social media workflows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What is Social Media?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Online platforms that enable users to communicate, share, and collaborate with friends, friends of friends, even stranger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Social Media (YouTube, Flickr)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2" marL="1462680" indent="-21636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Khmer UI"/>
              </a:rPr>
              <a:t>Sharing digital content</a:t>
            </a:r>
            <a:endParaRPr b="0" lang="en-US" sz="29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Social Networks (Facebook, Twitter, LinkedIn)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2" marL="1462680" indent="-21636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Khmer UI"/>
              </a:rPr>
              <a:t>Having conversations</a:t>
            </a:r>
            <a:endParaRPr b="0" lang="en-US" sz="29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The lines blur :^)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What is Social Media Today?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472000" y="1562040"/>
            <a:ext cx="4133880" cy="4386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>
            <a:off x="6058800" y="2392200"/>
            <a:ext cx="3716280" cy="3265560"/>
          </a:xfrm>
          <a:prstGeom prst="noSmoking">
            <a:avLst>
              <a:gd name="adj" fmla="val 1888"/>
            </a:avLst>
          </a:prstGeom>
          <a:solidFill>
            <a:srgbClr val="ff0000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32040" y="1839600"/>
            <a:ext cx="458280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Conversations with people online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Social media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Made for people, not organization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It's not going to work perfectly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Not your virtual megaphone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Advantages of Social Media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Get Relevant New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Allows you to receive curated news from other people in your issue space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Increase Exposure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Gives you easy access to new networks of people through sharing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Generate Conversation &amp; Feedback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Allows two-way conversations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aveats of Online Too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Can take a lot of time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Time = Money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Big corporations who want your data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You are the product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here are billion of tool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Which ones do we need?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ools change EVERY. SINGLE. DAY.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8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How can we keep up?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7942320" y="1449360"/>
            <a:ext cx="950760" cy="951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8504280" y="5499000"/>
            <a:ext cx="933480" cy="92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1"/>
          <a:stretch/>
        </p:blipFill>
        <p:spPr>
          <a:xfrm>
            <a:off x="8686800" y="3292560"/>
            <a:ext cx="968400" cy="968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2"/>
          <a:stretch/>
        </p:blipFill>
        <p:spPr>
          <a:xfrm>
            <a:off x="6981840" y="4297320"/>
            <a:ext cx="882720" cy="8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1920" y="-120960"/>
            <a:ext cx="8292960" cy="17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Limitations of Online Organizing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1560" y="1893600"/>
            <a:ext cx="9389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84640" indent="-21420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Digital Divide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15920" indent="-2145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Never forget who is left out by “e” strategies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84640" indent="-21420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rust relationships are best built in person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15920" indent="-2145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Online organizing is most effective when it leverages established social networks and communities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84640" indent="-21420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Each community and campaign is different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15920" indent="-2145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Your mileage will vary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6:57:35Z</dcterms:created>
  <dc:creator>Matthew Garcia</dc:creator>
  <dc:description>These training materials have been prepared by Aspiration. These materials are distributed under a Creative Commons license:  Attribution-ShareAlike
</dc:description>
  <dc:language>en-US</dc:language>
  <cp:lastModifiedBy/>
  <dcterms:modified xsi:type="dcterms:W3CDTF">2014-06-25T18:27:59Z</dcterms:modified>
  <cp:revision>51</cp:revision>
  <dc:subject/>
  <dc:title>Aspiration Intro to Social Media</dc:title>
</cp:coreProperties>
</file>