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94920" y="763200"/>
            <a:ext cx="517860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lick to move the slide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1"/>
          </p:nvPr>
        </p:nvSpPr>
        <p:spPr>
          <a:xfrm>
            <a:off x="4398840" y="-360"/>
            <a:ext cx="3368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9554760"/>
            <a:ext cx="33685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4398840" y="9554760"/>
            <a:ext cx="3368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12859-893D-4425-BEF6-ECF4CE2CFC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143" name=""/>
          <p:cNvSpPr/>
          <p:nvPr/>
        </p:nvSpPr>
        <p:spPr>
          <a:xfrm>
            <a:off x="777960" y="4776840"/>
            <a:ext cx="6218280" cy="45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644688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25880" y="5568480"/>
            <a:ext cx="644688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29600" y="268092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25880" y="556848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29600" y="556848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207576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05680" y="2680920"/>
            <a:ext cx="207576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85840" y="2680920"/>
            <a:ext cx="207576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25880" y="5568480"/>
            <a:ext cx="207576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05680" y="5568480"/>
            <a:ext cx="207576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485840" y="5568480"/>
            <a:ext cx="207576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125880" y="2680920"/>
            <a:ext cx="644688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644688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314604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429600" y="2680920"/>
            <a:ext cx="314604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125880" y="934560"/>
            <a:ext cx="64468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429600" y="2680920"/>
            <a:ext cx="314604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125880" y="556848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25880" y="2680920"/>
            <a:ext cx="644688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314604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429600" y="268092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429600" y="556848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429600" y="268092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125880" y="5568480"/>
            <a:ext cx="644688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644688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125880" y="5568480"/>
            <a:ext cx="644688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429600" y="268092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125880" y="556848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429600" y="556848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207576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05680" y="2680920"/>
            <a:ext cx="207576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485840" y="2680920"/>
            <a:ext cx="207576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125880" y="5568480"/>
            <a:ext cx="207576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5305680" y="5568480"/>
            <a:ext cx="207576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485840" y="5568480"/>
            <a:ext cx="207576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644688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314604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29600" y="2680920"/>
            <a:ext cx="314604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25880" y="934560"/>
            <a:ext cx="64468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29600" y="2680920"/>
            <a:ext cx="314604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25880" y="556848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314604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29600" y="268092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29600" y="556848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29600" y="268092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25880" y="5568480"/>
            <a:ext cx="644688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5340000">
            <a:off x="-1226880" y="857160"/>
            <a:ext cx="6351480" cy="423360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316080" y="3224160"/>
            <a:ext cx="4032360" cy="4335480"/>
          </a:xfrm>
          <a:prstGeom prst="rtTriangle">
            <a:avLst/>
          </a:prstGeom>
          <a:solidFill>
            <a:srgbClr val="e6e6e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125880" y="2680920"/>
            <a:ext cx="644688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64000"/>
          </a:bodyPr>
          <a:p>
            <a:pPr marL="219240" indent="0" algn="ctr">
              <a:lnSpc>
                <a:spcPct val="99000"/>
              </a:lnSpc>
              <a:spcAft>
                <a:spcPts val="157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  <a:p>
            <a:pPr lvl="1" marL="219240" indent="-219240" algn="ctr">
              <a:lnSpc>
                <a:spcPct val="99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  <a:p>
            <a:pPr lvl="2" marL="219240" indent="-219240" algn="ctr">
              <a:lnSpc>
                <a:spcPct val="99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  <a:p>
            <a:pPr lvl="3" marL="219240" indent="-219240" algn="ctr">
              <a:lnSpc>
                <a:spcPct val="99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  <a:p>
            <a:pPr lvl="4" marL="219240" indent="-219240" algn="ctr">
              <a:lnSpc>
                <a:spcPct val="99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  <a:p>
            <a:pPr lvl="5" marL="219240" indent="-219240" algn="ctr">
              <a:lnSpc>
                <a:spcPct val="99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  <a:p>
            <a:pPr lvl="6" marL="219240" indent="-219240" algn="ctr">
              <a:lnSpc>
                <a:spcPct val="99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6137280"/>
            <a:ext cx="234180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 flipV="1" rot="5400000">
            <a:off x="5301000" y="2828160"/>
            <a:ext cx="9068040" cy="59076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1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31560" y="1604520"/>
            <a:ext cx="93884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0">
              <a:lnSpc>
                <a:spcPct val="106000"/>
              </a:lnSpc>
              <a:spcBef>
                <a:spcPts val="88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322200" indent="-322200">
              <a:lnSpc>
                <a:spcPct val="10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2" marL="322200" indent="-322200">
              <a:lnSpc>
                <a:spcPct val="10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3" marL="322200" indent="-322200">
              <a:lnSpc>
                <a:spcPct val="10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4" marL="322200" indent="-322200">
              <a:lnSpc>
                <a:spcPct val="10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5" marL="322200" indent="-322200">
              <a:lnSpc>
                <a:spcPct val="10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6" marL="322200" indent="-322200">
              <a:lnSpc>
                <a:spcPct val="10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4" name=""/>
          <p:cNvSpPr/>
          <p:nvPr/>
        </p:nvSpPr>
        <p:spPr>
          <a:xfrm>
            <a:off x="638280" y="7251840"/>
            <a:ext cx="23191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info@aspirationtech.org</a:t>
            </a:r>
            <a:r>
              <a:rPr b="0" lang="en-US" sz="1400" spc="-1" strike="noStrike">
                <a:solidFill>
                  <a:srgbClr val="999999"/>
                </a:solidFill>
                <a:latin typeface="Khmer UI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839080" y="281160"/>
            <a:ext cx="1100160" cy="522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597720" y="7246800"/>
            <a:ext cx="312588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www.aspirationtech.org/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aspirationtech.org/attribute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6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5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5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25880" y="934920"/>
            <a:ext cx="64483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Online Tool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125880" y="2681280"/>
            <a:ext cx="6448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hmer UI"/>
              </a:rPr>
              <a:t>Introduction to Social Media</a:t>
            </a: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3" name=""/>
          <p:cNvSpPr/>
          <p:nvPr/>
        </p:nvSpPr>
        <p:spPr>
          <a:xfrm>
            <a:off x="3344760" y="6754680"/>
            <a:ext cx="45356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560" bIns="45000" anchor="t">
            <a:noAutofit/>
          </a:bodyPr>
          <a:p>
            <a:pPr marL="343080" algn="ctr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Tahoma"/>
              </a:rPr>
              <a:t>These training materials have been prepared by Aspiratio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265960" y="6834240"/>
            <a:ext cx="1511280" cy="52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Social Media Housekeeping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1560" y="1604880"/>
            <a:ext cx="93898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Lock down your virtual real estate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Reserve any accounts you could envision using now or in the future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lvl="2" marL="1477800" indent="-21888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Khmer UI"/>
              </a:rPr>
              <a:t>Facebook, Twitter, YouTube, Flickr</a:t>
            </a:r>
            <a:endParaRPr b="0" lang="en-US" sz="29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Set them up to look like a family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Strive for name consistency, usually an organizational domain name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76480" y="681120"/>
            <a:ext cx="8008920" cy="4722840"/>
          </a:xfrm>
          <a:prstGeom prst="irregularSeal2">
            <a:avLst/>
          </a:prstGeom>
          <a:solidFill>
            <a:srgbClr val="ffff66"/>
          </a:solidFill>
          <a:ln w="18360">
            <a:solidFill>
              <a:srgbClr val="eb613d"/>
            </a:solidFill>
            <a:round/>
          </a:ln>
          <a:effectLst>
            <a:outerShdw dist="155280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2920" y="2250720"/>
            <a:ext cx="9070920" cy="17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Let's Jump Into</a:t>
            </a:r>
            <a:br>
              <a:rPr sz="5300"/>
            </a:b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Some Tool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Facebook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35305"/>
          <a:stretch/>
        </p:blipFill>
        <p:spPr>
          <a:xfrm>
            <a:off x="487440" y="1306440"/>
            <a:ext cx="8596080" cy="5751720"/>
          </a:xfrm>
          <a:prstGeom prst="rect">
            <a:avLst/>
          </a:prstGeom>
          <a:ln w="0">
            <a:noFill/>
          </a:ln>
          <a:effectLst>
            <a:outerShdw dist="155280" dir="2700000" blurRad="0" rotWithShape="0">
              <a:srgbClr val="808080"/>
            </a:outerShdw>
          </a:effectLst>
        </p:spPr>
      </p:pic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31560" y="1604880"/>
            <a:ext cx="93898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Twitter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830240" y="1521000"/>
            <a:ext cx="6586560" cy="4989240"/>
          </a:xfrm>
          <a:prstGeom prst="rect">
            <a:avLst/>
          </a:prstGeom>
          <a:ln w="0">
            <a:noFill/>
          </a:ln>
          <a:effectLst>
            <a:outerShdw dist="155280" dir="2700000" blurRad="0" rotWithShape="0">
              <a:srgbClr val="808080"/>
            </a:outerShdw>
          </a:effectLst>
        </p:spPr>
      </p:pic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31560" y="1604880"/>
            <a:ext cx="93898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LinkedIn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00240" y="1693800"/>
            <a:ext cx="5716440" cy="5064120"/>
          </a:xfrm>
          <a:prstGeom prst="rect">
            <a:avLst/>
          </a:prstGeom>
          <a:ln w="18360">
            <a:solidFill>
              <a:srgbClr val="c0c0c0"/>
            </a:solidFill>
            <a:round/>
          </a:ln>
          <a:effectLst>
            <a:outerShdw dist="155280" dir="2700000" blurRad="0" rotWithShape="0">
              <a:srgbClr val="808080"/>
            </a:outerShdw>
          </a:effectLst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Instagram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96800" y="1224000"/>
            <a:ext cx="6961320" cy="5365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091280" y="2470320"/>
            <a:ext cx="2552760" cy="438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Recap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31560" y="1604880"/>
            <a:ext cx="93898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567000" indent="-20772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Remember to define your social media goals to make the most of your time/resources 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marL="567000" indent="-20772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Don't feel like you have to be on everything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984960" indent="-20808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Baby steps; Bite off as much as you can chew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marL="567000" indent="-20772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Think about which tool is right for your goals and audiences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Thank You!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31560" y="1604880"/>
            <a:ext cx="93898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Questions?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marL="596880" indent="0">
              <a:lnSpc>
                <a:spcPct val="106000"/>
              </a:lnSpc>
              <a:spcBef>
                <a:spcPts val="887"/>
              </a:spcBef>
              <a:buNone/>
              <a:tabLst>
                <a:tab algn="l" pos="0"/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Comments?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04720" y="696600"/>
            <a:ext cx="66517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Use, Modify &amp; Attribute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125880" y="2242800"/>
            <a:ext cx="6448320" cy="53434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7800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Khmer UI"/>
                <a:hlinkClick r:id="rId1"/>
              </a:rPr>
              <a:t>www.aspirationtech.org/attribut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7800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78000" indent="0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spiration distributes these materials under 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reative Commons Attribution-ShareAlike licen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78000" indent="0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  <a:ea typeface="ArialMT"/>
              </a:rPr>
              <a:t>We encourage re-use, modification, and re-distribution in any situation where they may be useful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78000" indent="0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e love to hear about how you are improving and remixing what we've done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78000" indent="0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Questions? Email us info@aspirationtech.org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78000" indent="0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60440" y="1108080"/>
            <a:ext cx="2016000" cy="69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5880" y="934920"/>
            <a:ext cx="64483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ontact U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125880" y="2681280"/>
            <a:ext cx="64483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7800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aspirationtech.org/training/support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37800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fo@aspirationtech.org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+1-415-839-6456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Who is Aspiration?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31560" y="1604880"/>
            <a:ext cx="938988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Aspiration helps nonprofits and foundations use software tools more effectively and sustainably.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We serve as </a:t>
            </a:r>
            <a:r>
              <a:rPr b="1" lang="en-US" sz="3500" spc="-1" strike="noStrike">
                <a:solidFill>
                  <a:srgbClr val="000000"/>
                </a:solidFill>
                <a:latin typeface="Khmer UI"/>
              </a:rPr>
              <a:t>ally, coach, strategist, mentor </a:t>
            </a: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and</a:t>
            </a:r>
            <a:r>
              <a:rPr b="1" lang="en-US" sz="3500" spc="-1" strike="noStrike">
                <a:solidFill>
                  <a:srgbClr val="000000"/>
                </a:solidFill>
                <a:latin typeface="Khmer UI"/>
              </a:rPr>
              <a:t> facilitator</a:t>
            </a: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 to those trying to make more impactful use of information technology in their social change efforts.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www.aspirationtech.org/services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Our Goal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31560" y="1604520"/>
            <a:ext cx="9389880" cy="545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Explore the importance of social media in reaching online audiences and their appropriate uses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Learn some basic workflows for common social media tools that you can use in your work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Demonstrate a process framework for coordinating social media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Answer your questions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284800" y="1604880"/>
            <a:ext cx="4300560" cy="4384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Today's Agenda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1920" y="1604880"/>
            <a:ext cx="4581360" cy="54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90760" indent="-21636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We're going to talk about: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26360" indent="-21672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Using social media as a tool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lvl="1" marL="1026360" indent="-21672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Compare common online communications tools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lvl="1" marL="1026360" indent="-21672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5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Social media workflows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What is Social Media?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1560" y="1604880"/>
            <a:ext cx="9389880" cy="46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90760" indent="-21636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Online platforms that enable users to communicate, share, and collaborate with friends, friends of friends, even strangers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26360" indent="-21672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Social Media (YouTube, Flickr)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lvl="2" marL="1462680" indent="-21636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Khmer UI"/>
              </a:rPr>
              <a:t>Sharing digital content</a:t>
            </a:r>
            <a:endParaRPr b="0" lang="en-US" sz="2900" spc="-1" strike="noStrike">
              <a:solidFill>
                <a:srgbClr val="000000"/>
              </a:solidFill>
              <a:latin typeface="Khmer UI"/>
            </a:endParaRPr>
          </a:p>
          <a:p>
            <a:pPr lvl="1" marL="1026360" indent="-21672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Social Networks (Facebook, Twitter, LinkedIn)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lvl="2" marL="1462680" indent="-21636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Khmer UI"/>
              </a:rPr>
              <a:t>Having conversations</a:t>
            </a:r>
            <a:endParaRPr b="0" lang="en-US" sz="2900" spc="-1" strike="noStrike">
              <a:solidFill>
                <a:srgbClr val="000000"/>
              </a:solidFill>
              <a:latin typeface="Khmer UI"/>
            </a:endParaRPr>
          </a:p>
          <a:p>
            <a:pPr lvl="1" marL="1026360" indent="-21672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The lines blur :^)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What is Social Media Today?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472000" y="1562040"/>
            <a:ext cx="4133880" cy="4386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H="1">
            <a:off x="6058800" y="2392200"/>
            <a:ext cx="3716280" cy="3265560"/>
          </a:xfrm>
          <a:prstGeom prst="noSmoking">
            <a:avLst>
              <a:gd name="adj" fmla="val 1888"/>
            </a:avLst>
          </a:prstGeom>
          <a:solidFill>
            <a:srgbClr val="ff0000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32040" y="1839600"/>
            <a:ext cx="458280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0520" indent="-219240">
              <a:lnSpc>
                <a:spcPct val="106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Conversations with people online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960480" indent="-219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Social media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marL="560520" indent="-219240">
              <a:lnSpc>
                <a:spcPct val="106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Made for people, not organizations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960480" indent="-219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It's not going to work perfectly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marL="560520" indent="-219240">
              <a:lnSpc>
                <a:spcPct val="106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Not your virtual megaphone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Advantages of Social Media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1560" y="1604520"/>
            <a:ext cx="9389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Get Relevant News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Allows you to receive curated news from other people in your issue space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Increase Exposure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Gives you easy access to new networks of people through sharing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5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Generate Conversation &amp; Feedback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6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Allows two-way conversations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aveats of Online Tool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1560" y="1604520"/>
            <a:ext cx="938988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Can take a lot of time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Time = Money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Big corporations who want your data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You are the product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5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There are billion of tools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6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Which ones do we need?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7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Tools change EVERY. SINGLE. DAY.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8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How can we keep up?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9"/>
          <a:stretch/>
        </p:blipFill>
        <p:spPr>
          <a:xfrm>
            <a:off x="7942320" y="1449360"/>
            <a:ext cx="950760" cy="951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0"/>
          <a:stretch/>
        </p:blipFill>
        <p:spPr>
          <a:xfrm>
            <a:off x="8504280" y="5499000"/>
            <a:ext cx="933480" cy="924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1"/>
          <a:stretch/>
        </p:blipFill>
        <p:spPr>
          <a:xfrm>
            <a:off x="8686800" y="3292560"/>
            <a:ext cx="968400" cy="9684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2"/>
          <a:stretch/>
        </p:blipFill>
        <p:spPr>
          <a:xfrm>
            <a:off x="6981840" y="4297320"/>
            <a:ext cx="882720" cy="86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31920" y="-120960"/>
            <a:ext cx="8292960" cy="17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Limitations of Online Organizing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1560" y="1893600"/>
            <a:ext cx="9389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584640" indent="-21420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Digital Divides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15920" indent="-21456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Never forget who is left out by “e” strategies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marL="584640" indent="-21420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Trust relationships are best built in person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15920" indent="-21456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Online organizing is most effective when it leverages established social networks and communities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marL="584640" indent="-21420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5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Each community and campaign is different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15920" indent="-21456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6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Your mileage will vary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3T16:57:35Z</dcterms:created>
  <dc:creator>Matthew Garcia</dc:creator>
  <dc:description>These training materials have been prepared by Aspiration. These materials are distributed under a Creative Commons license:  Attribution-ShareAlike
</dc:description>
  <dc:language>en-US</dc:language>
  <cp:lastModifiedBy/>
  <dcterms:modified xsi:type="dcterms:W3CDTF">2014-06-25T18:27:59Z</dcterms:modified>
  <cp:revision>51</cp:revision>
  <dc:subject/>
  <dc:title>Aspiration Intro to Social Media</dc:title>
</cp:coreProperties>
</file>