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8.png" ContentType="image/png"/>
  <Override PartName="/ppt/media/image6.jpeg" ContentType="image/jpeg"/>
  <Override PartName="/ppt/media/image34.jpeg" ContentType="image/jpeg"/>
  <Override PartName="/ppt/media/image37.png" ContentType="image/png"/>
  <Override PartName="/ppt/media/image19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png" ContentType="image/pn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94920" y="763200"/>
            <a:ext cx="517860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4398840" y="-3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95547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11763-285D-42DF-BEA3-C4D279AF0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777960" y="4775040"/>
            <a:ext cx="62182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777960" y="4775040"/>
            <a:ext cx="62182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8584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58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56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8584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056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8584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1258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056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48584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226880" y="857160"/>
            <a:ext cx="6351480" cy="42336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16080" y="3224160"/>
            <a:ext cx="4032360" cy="43354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6137280"/>
            <a:ext cx="23418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5301000" y="2828160"/>
            <a:ext cx="9068040" cy="5907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1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31560" y="1604520"/>
            <a:ext cx="9388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8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638280" y="7251840"/>
            <a:ext cx="2319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281160"/>
            <a:ext cx="1100160" cy="52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97720" y="7246800"/>
            <a:ext cx="31258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6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6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6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6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22.png"/><Relationship Id="rId5" Type="http://schemas.openxmlformats.org/officeDocument/2006/relationships/image" Target="../media/image1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slideLayout" Target="../slideLayouts/slideLayout15.xml"/><Relationship Id="rId1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Onlin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Introduction for Nonprofits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344760" y="6754680"/>
            <a:ext cx="4535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5960" y="6834240"/>
            <a:ext cx="151128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eb Sit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1920" y="1932120"/>
            <a:ext cx="458136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54760" y="2286000"/>
            <a:ext cx="3544920" cy="438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54840" y="1828800"/>
            <a:ext cx="3363840" cy="614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223040" y="469800"/>
            <a:ext cx="1030320" cy="1176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65040" y="2070000"/>
            <a:ext cx="5207040" cy="4238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835360" y="5867280"/>
            <a:ext cx="15955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Don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1560" y="1317240"/>
            <a:ext cx="9389880" cy="58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78880" indent="-21204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Accept and manage donation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Donation Processo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433160" indent="-21204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llow you to accept donations through your web sit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eer to Peer Fundraising Tool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or management Tool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433160" indent="-21204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llow you to manage donors as contacts with information attached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twork for Goo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lick &amp; Pled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azo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4419720" y="5789520"/>
            <a:ext cx="2563560" cy="131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7137360" y="4681440"/>
            <a:ext cx="2274840" cy="711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7407360" y="3017880"/>
            <a:ext cx="197172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578560" y="1438200"/>
            <a:ext cx="3322440" cy="689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Don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1920" y="1604880"/>
            <a:ext cx="4581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1200" indent="-406440">
              <a:lnSpc>
                <a:spcPct val="101000"/>
              </a:lnSpc>
              <a:spcBef>
                <a:spcPts val="799"/>
              </a:spcBef>
              <a:buSzPct val="102834"/>
              <a:buBlip>
                <a:blip r:embed="rId2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 Consider: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853920" indent="-318960">
              <a:lnSpc>
                <a:spcPct val="126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Monthly Giving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853920" indent="-318960">
              <a:lnSpc>
                <a:spcPct val="126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Employer Match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853920" indent="-318960">
              <a:lnSpc>
                <a:spcPct val="126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In-Kind Donation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853920" indent="-318960">
              <a:lnSpc>
                <a:spcPct val="126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Look &amp; Feel of your web sit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5529240" y="2036880"/>
            <a:ext cx="3809880" cy="43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ven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1920" y="1604520"/>
            <a:ext cx="4581360" cy="57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online event registration forms and manage participa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Event Management Tool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Create, embed even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Accept registrations and payment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Manage registran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Form builder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Create forms that visitors can fill out on your web site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3680" y="1604880"/>
            <a:ext cx="4581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Common examples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Eventbrit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Evit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Facebook Even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Wufoo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ven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96880" y="1481040"/>
            <a:ext cx="8528040" cy="4989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mail Blast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1" name=""/>
          <p:cNvSpPr/>
          <p:nvPr/>
        </p:nvSpPr>
        <p:spPr>
          <a:xfrm>
            <a:off x="5645160" y="4925880"/>
            <a:ext cx="3757680" cy="113364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5280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98720" bIns="182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ook is your evil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67000" indent="-20772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end organizational emails to large lists of constituent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mail Blaster or “Broadcast” Email Tool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03640" indent="-20772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Largely protects you from being blacklisted for spam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03640" indent="-20772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Gives you analytics based on sends, lis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03640" indent="-20772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llows you to put together professional-looking emails (relatively) easily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67000" indent="-20772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Vertical Respons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onstant Contac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ailChimp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3040" y="1246320"/>
            <a:ext cx="6203880" cy="5243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mail Blast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80000" y="2033640"/>
            <a:ext cx="4119480" cy="5359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Advocac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action online among your constitu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etition Builder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llows you to create petitions then either embed, send out a link or email it to constituen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ontact Your Legislator” Tool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Matches constituents with their proper legislator automatically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ign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Votize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hange.org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Advocac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84080" y="1612800"/>
            <a:ext cx="8426520" cy="4989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54760" indent="-2034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rganize and manage organizational contac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stituent Relationship Manager (CRM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Centralized Contact Database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Can attach information to contacts (e.g. event attendance, money donated, emails opened, etc.)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034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alesforc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iviCRM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vio (Blackbaud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5299200"/>
            <a:ext cx="1998720" cy="1558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4621320" y="4567320"/>
            <a:ext cx="2798640" cy="11476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4838760" y="5808600"/>
            <a:ext cx="2017800" cy="1084320"/>
            <a:chOff x="4838760" y="5808600"/>
            <a:chExt cx="2017800" cy="1084320"/>
          </a:xfrm>
        </p:grpSpPr>
        <p:pic>
          <p:nvPicPr>
            <p:cNvPr id="187" name="" descr=""/>
            <p:cNvPicPr/>
            <p:nvPr/>
          </p:nvPicPr>
          <p:blipFill>
            <a:blip r:embed="rId9"/>
            <a:stretch/>
          </p:blipFill>
          <p:spPr>
            <a:xfrm>
              <a:off x="4838760" y="5808600"/>
              <a:ext cx="20178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522760" y="6345360"/>
              <a:ext cx="12780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5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5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0" name=""/>
          <p:cNvSpPr/>
          <p:nvPr/>
        </p:nvSpPr>
        <p:spPr>
          <a:xfrm>
            <a:off x="549360" y="3013200"/>
            <a:ext cx="1538280" cy="1143000"/>
          </a:xfrm>
          <a:prstGeom prst="ellipse">
            <a:avLst/>
          </a:prstGeom>
          <a:solidFill>
            <a:srgbClr val="ae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35280" y="3040200"/>
            <a:ext cx="1770120" cy="1143000"/>
          </a:xfrm>
          <a:prstGeom prst="ellipse">
            <a:avLst/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o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63720" y="4648320"/>
            <a:ext cx="1741680" cy="116496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7800" y="4635360"/>
            <a:ext cx="1468440" cy="1192320"/>
          </a:xfrm>
          <a:prstGeom prst="ellips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00320" y="4127400"/>
            <a:ext cx="1440" cy="4780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86040" y="3956040"/>
            <a:ext cx="1314360" cy="7491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59040" y="4029120"/>
            <a:ext cx="1139760" cy="79704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35080" y="3708360"/>
            <a:ext cx="736560" cy="1764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06680" y="4167360"/>
            <a:ext cx="4680" cy="4680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046240" y="5087880"/>
            <a:ext cx="717480" cy="3672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70520" y="4024440"/>
            <a:ext cx="1619280" cy="11541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016480" y="3687840"/>
            <a:ext cx="414360" cy="45072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8127720" y="5002200"/>
            <a:ext cx="353880" cy="2700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18240" y="4960440"/>
            <a:ext cx="363600" cy="2574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18240" y="3770280"/>
            <a:ext cx="419040" cy="4222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2743200"/>
            <a:ext cx="1538280" cy="1143000"/>
          </a:xfrm>
          <a:prstGeom prst="ellipse">
            <a:avLst/>
          </a:prstGeom>
          <a:solidFill>
            <a:srgbClr val="ae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58240" y="2687760"/>
            <a:ext cx="1725480" cy="1143000"/>
          </a:xfrm>
          <a:prstGeom prst="ellipse">
            <a:avLst/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o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70920" y="5111640"/>
            <a:ext cx="1711440" cy="1165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7000" y="5013360"/>
            <a:ext cx="1468440" cy="1192320"/>
          </a:xfrm>
          <a:prstGeom prst="ellips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1920" y="1604880"/>
            <a:ext cx="4581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0" algn="ctr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Khmer UI"/>
              </a:rPr>
              <a:t>Federated System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18280" y="1646280"/>
            <a:ext cx="36576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Khmer UI"/>
                <a:ea typeface="Lucida Sans Unicode"/>
              </a:rPr>
              <a:t>CRM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88000" y="793800"/>
            <a:ext cx="23544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RM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111320"/>
            <a:ext cx="5059080" cy="273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00040" y="4654440"/>
            <a:ext cx="4498920" cy="2454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518080" y="3327480"/>
            <a:ext cx="4419720" cy="3019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360360" y="4356000"/>
            <a:ext cx="1359000" cy="725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54160" y="374760"/>
            <a:ext cx="1223640" cy="95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5645160" y="2270160"/>
            <a:ext cx="1066680" cy="10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Multi-Function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1560" y="1533240"/>
            <a:ext cx="938988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84640" indent="-2142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ombine functionalities from the previous tool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ulti-Function tool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47920" indent="-2142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Have a wide variety of function combinations (e.g. email blasting, advocacy, web site management, events, etc.)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Many times their focus is around your contact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any integrated tools act as CRM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alsa from Democracy in Ac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Nation Build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Tapestry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9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ild Aprico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Multi-Function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1" name=""/>
          <p:cNvSpPr/>
          <p:nvPr/>
        </p:nvSpPr>
        <p:spPr>
          <a:xfrm>
            <a:off x="2073240" y="3876840"/>
            <a:ext cx="15494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4d1"/>
                </a:solidFill>
                <a:latin typeface="Tahoma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9840" y="3816360"/>
            <a:ext cx="14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6633"/>
                </a:solidFill>
                <a:latin typeface="Tahoma"/>
              </a:rPr>
              <a:t>Em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6633"/>
                </a:solidFill>
                <a:latin typeface="Tahoma"/>
              </a:rPr>
              <a:t>B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6320" y="3905280"/>
            <a:ext cx="162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2280" y="5970600"/>
            <a:ext cx="12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9966cc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74840" y="6083280"/>
            <a:ext cx="17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950e"/>
                </a:solidFill>
                <a:latin typeface="Tahoma"/>
              </a:rPr>
              <a:t>Do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7280" y="5208480"/>
            <a:ext cx="206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99284c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52840" y="2808360"/>
            <a:ext cx="4321440" cy="2857320"/>
          </a:xfrm>
          <a:prstGeom prst="ellipse">
            <a:avLst/>
          </a:prstGeom>
          <a:noFill/>
          <a:ln cap="sq"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77840" y="2994120"/>
            <a:ext cx="5645160" cy="2900160"/>
          </a:xfrm>
          <a:prstGeom prst="ellipse">
            <a:avLst/>
          </a:prstGeom>
          <a:noFill/>
          <a:ln cap="sq"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54200" y="4903920"/>
            <a:ext cx="5238720" cy="2292120"/>
          </a:xfrm>
          <a:prstGeom prst="ellipse">
            <a:avLst/>
          </a:prstGeom>
          <a:noFill/>
          <a:ln cap="sq"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ifferent tools combine different function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at are you trying to get done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roject Managemen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2" name=""/>
          <p:cNvSpPr/>
          <p:nvPr/>
        </p:nvSpPr>
        <p:spPr>
          <a:xfrm>
            <a:off x="5478480" y="4846680"/>
            <a:ext cx="3757680" cy="1646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5280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98720" bIns="182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lace to share org processes and documents (e.g. Publishing Matrix, Traffic D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54760" indent="-2034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hare and manage project (or organizational) asset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roject Management Tool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Share docs, calendars, tasks and file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Have multiple online user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hared serv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Share docs, files on a local network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034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Basecamp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d Min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hared serv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roject Managemen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36680" y="1398600"/>
            <a:ext cx="9075600" cy="5268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8" name=""/>
          <p:cNvSpPr/>
          <p:nvPr/>
        </p:nvSpPr>
        <p:spPr>
          <a:xfrm>
            <a:off x="5568840" y="5649840"/>
            <a:ext cx="3757680" cy="13906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5280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98720" bIns="182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bite off as much as you can che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1560" y="1352520"/>
            <a:ext cx="938988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verse with your commun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Blog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Longer-form writing allowing conversation through commen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Now blog features are integrated into most CMS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ocial Network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Shorter-form content sharing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Various network-specific functions for interactio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ordpres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Twitt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Facebook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0">
              <a:lnSpc>
                <a:spcPct val="108000"/>
              </a:lnSpc>
              <a:spcBef>
                <a:spcPts val="774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3680" y="1943280"/>
            <a:ext cx="9178920" cy="45129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an take a lot of tim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ime = Mone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Big corporations who want your data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You are the produc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ere are billion of too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ich ones do we need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s change EVERY. SINGLE. DAY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How can we keep up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7942320" y="144936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8504280" y="5499000"/>
            <a:ext cx="933480" cy="9241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8686800" y="3292560"/>
            <a:ext cx="968400" cy="9684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6981840" y="4297320"/>
            <a:ext cx="882720" cy="8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imitations of Online Organiz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9056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gital divid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ver forget who is left out by “e” strateg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ch community and campaign is differ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mileage will var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ming Up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1920" y="1604520"/>
            <a:ext cx="458136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Review common types of nonprofit tech too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Look at how to connect them to your work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Understand their place in the larger ecosystem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3680" y="1604880"/>
            <a:ext cx="4581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  <a:ea typeface="宋体"/>
              </a:rPr>
              <a:t>Web Site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dc2300"/>
                </a:solidFill>
                <a:latin typeface="Tahoma"/>
                <a:ea typeface="宋体"/>
              </a:rPr>
              <a:t>Donation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6b6b"/>
                </a:solidFill>
                <a:latin typeface="Tahoma"/>
                <a:ea typeface="宋体"/>
              </a:rPr>
              <a:t>Even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950e"/>
                </a:solidFill>
                <a:latin typeface="Tahoma"/>
                <a:ea typeface="宋体"/>
              </a:rPr>
              <a:t>Email Blasting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79d1c"/>
                </a:solidFill>
                <a:latin typeface="Tahoma"/>
                <a:ea typeface="宋体"/>
              </a:rPr>
              <a:t>Advocacy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9966cc"/>
                </a:solidFill>
                <a:latin typeface="Tahoma"/>
                <a:ea typeface="宋体"/>
              </a:rPr>
              <a:t>Contac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d320"/>
                </a:solidFill>
                <a:latin typeface="Tahoma"/>
                <a:ea typeface="宋体"/>
              </a:rPr>
              <a:t>Multi-Function Tool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4586"/>
                </a:solidFill>
                <a:latin typeface="Tahoma"/>
                <a:ea typeface="宋体"/>
              </a:rPr>
              <a:t>Project Management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ahoma"/>
                <a:ea typeface="宋体"/>
              </a:rPr>
              <a:t>Social Media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Bottom Lin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tools aren't a magic bulle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 need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n measurable go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compelling messa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ffective tactics to realize your go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plan for engaging supporters and well-defined ways for them to plug i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dvocacy is more about organizing and organizational challenges than tech challeng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4 Processes for Sustainabilit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5" name=""/>
          <p:cNvSpPr/>
          <p:nvPr/>
        </p:nvSpPr>
        <p:spPr>
          <a:xfrm>
            <a:off x="326880" y="1668600"/>
            <a:ext cx="90712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udience Assessmen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Do you really know who you're talking to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Publishing Matrix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Do you have a model for when to use what tool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Message Calendaring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Is all online messaging on a unified calendar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racking &amp; Metric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ich techniques are working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In Summar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Remember that tech should support your work as an organization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s should support your tech strategy goals 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nk about the minimum to be successful and then iterate up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s come and go, succeed and fail. Focus on your data rather than the too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Next Step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efine your organizational goa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nk about what tools will help you achieve your goa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tart tracking your measurable comms goa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04720" y="696600"/>
            <a:ext cx="665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125880" y="2242800"/>
            <a:ext cx="64483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60440" y="1108080"/>
            <a:ext cx="201600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at are your goals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956200"/>
            <a:ext cx="2512800" cy="12510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79440" y="4705200"/>
            <a:ext cx="1390680" cy="103824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3600" y="4692600"/>
            <a:ext cx="1392120" cy="10350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848960" y="5692680"/>
            <a:ext cx="79560" cy="4636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67080" y="5645160"/>
            <a:ext cx="7920" cy="4572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1720" y="5937120"/>
            <a:ext cx="2511720" cy="1262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32520" y="4686480"/>
            <a:ext cx="1390680" cy="10461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00960" y="4708440"/>
            <a:ext cx="1390680" cy="10461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576480" y="5697000"/>
            <a:ext cx="57240" cy="4035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050320" y="5722920"/>
            <a:ext cx="38160" cy="4572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9360" y="6114960"/>
            <a:ext cx="901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1920" y="1485720"/>
            <a:ext cx="93916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Measurabl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hat does success look like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-Agnostic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Make sure your communications plan stays in tact when the tool you are using fails you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93200" y="2741760"/>
            <a:ext cx="1390320" cy="94428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 vert="eaVert" rot="10800000">
            <a:noAutofit/>
          </a:bodyPr>
          <a:p>
            <a:pPr algn="ctr" rtl="1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ool Agnostic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"/>
          <p:cNvSpPr/>
          <p:nvPr/>
        </p:nvSpPr>
        <p:spPr>
          <a:xfrm>
            <a:off x="1203480" y="5894280"/>
            <a:ext cx="2203200" cy="110808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3320" y="4654440"/>
            <a:ext cx="1370160" cy="91764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9160" y="4637160"/>
            <a:ext cx="1452600" cy="91584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562040" y="5551560"/>
            <a:ext cx="223920" cy="4125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59040" y="5513040"/>
            <a:ext cx="227160" cy="4366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0120" y="2832120"/>
            <a:ext cx="2288880" cy="11397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7840" y="1655640"/>
            <a:ext cx="1468440" cy="94464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679400"/>
            <a:ext cx="1390680" cy="94644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130400" y="2565360"/>
            <a:ext cx="179280" cy="45072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619360" y="2583000"/>
            <a:ext cx="228600" cy="3873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32120" y="2774880"/>
            <a:ext cx="2103480" cy="180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4440" y="5784840"/>
            <a:ext cx="202716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91320" y="5872320"/>
            <a:ext cx="2203560" cy="110808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30960" y="4700520"/>
            <a:ext cx="1434960" cy="91764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7048440" y="5610240"/>
            <a:ext cx="311040" cy="32544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900000">
            <a:off x="5981760" y="2624040"/>
            <a:ext cx="1520640" cy="94464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56400" y="3340080"/>
            <a:ext cx="192240" cy="333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514920" y="2995200"/>
            <a:ext cx="345960" cy="3970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39040" y="2684160"/>
            <a:ext cx="191880" cy="360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8272080" y="3352680"/>
            <a:ext cx="230040" cy="333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296200" y="3147480"/>
            <a:ext cx="308160" cy="2574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8230680" y="2979360"/>
            <a:ext cx="411480" cy="21924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120" y="14292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xample Nonprofit Goa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0320" y="1397160"/>
          <a:ext cx="8624520" cy="5297040"/>
        </p:xfrm>
        <a:graphic>
          <a:graphicData uri="http://schemas.openxmlformats.org/drawingml/2006/table">
            <a:tbl>
              <a:tblPr/>
              <a:tblGrid>
                <a:gridCol w="2156400"/>
                <a:gridCol w="2155680"/>
                <a:gridCol w="2156040"/>
                <a:gridCol w="2156400"/>
              </a:tblGrid>
              <a:tr h="752400">
                <a:tc>
                  <a:txBody>
                    <a:bodyPr lIns="54720" rIns="54720" tIns="221400" bIns="54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54720" rIns="54720" tIns="221400" bIns="54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sur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54720" rIns="54720" tIns="221400" bIns="54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at does success look lik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54720" rIns="54720" tIns="221400" bIns="54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526"/>
                    </a:solidFill>
                  </a:tcPr>
                </a:tc>
              </a:tr>
              <a:tr h="2067480"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 donations through online efforts for scholarsh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457200" indent="-228600">
                        <a:lnSpc>
                          <a:spcPct val="102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 ask people how they he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227160"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08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ck referring link of Donation Thank You 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scholarships funded through online eff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08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</a:tr>
              <a:tr h="2477160"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 attendees at annual event through online eff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457200" indent="-228600">
                        <a:lnSpc>
                          <a:spcPct val="102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 this year's attendance to last year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227160"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08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ve a “How'd You Hear” place on regi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% increase in attendance from last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wi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08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Data &gt;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nk of tools as impermanent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ools fall away, data (hopefully) sta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ata is the most important organizational asse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ten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tact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Proces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Plan for tech divorce when you choose a too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Data &gt;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Open Source Too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Anyone can view the underlying software cod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Little or no licensing cost, upgrade cost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mmunity Supported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Mission-driven, not profit-driven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Open source tools leave you in a leveraged position with your data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You're not tied to a specific person or compan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2920" y="4514760"/>
            <a:ext cx="1687680" cy="1154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772400" y="5029200"/>
            <a:ext cx="1393920" cy="159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75080" y="5943600"/>
            <a:ext cx="2008080" cy="1246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eb Sit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1560" y="1425600"/>
            <a:ext cx="9389880" cy="57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Manage, organize and create web site content 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tent Management System (CMS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Manage a web site with a visual interface (buttons, WYSIWYG) rather than digging into raw code (HTML, CSS, PHP)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ordpres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Drupal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9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Joomla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0:51:49Z</dcterms:created>
  <dc:creator>Matthew Garcia</dc:creator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5T18:10:01Z</dcterms:modified>
  <cp:revision>122</cp:revision>
  <dc:subject/>
  <dc:title>Aspiration Intro to Online Tools for NPOs</dc:title>
</cp:coreProperties>
</file>