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8.png" ContentType="image/png"/>
  <Override PartName="/ppt/media/image6.jpeg" ContentType="image/jpeg"/>
  <Override PartName="/ppt/media/image34.jpeg" ContentType="image/jpeg"/>
  <Override PartName="/ppt/media/image37.png" ContentType="image/png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E39C8-6664-4C21-9781-58BCE608F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777960" y="4775040"/>
            <a:ext cx="62182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777960" y="4775040"/>
            <a:ext cx="62182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092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568480"/>
            <a:ext cx="20757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56848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0920"/>
            <a:ext cx="314604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6000"/>
          </a:bodyPr>
          <a:p>
            <a:pPr marL="329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568480"/>
            <a:ext cx="64468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0920"/>
            <a:ext cx="64468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1000" y="2828160"/>
            <a:ext cx="9068040" cy="5907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6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6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1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Introduction for Nonprofits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4680"/>
            <a:ext cx="4535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eb Sit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1920" y="1932120"/>
            <a:ext cx="458136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54760" y="2286000"/>
            <a:ext cx="3544920" cy="438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54840" y="1828800"/>
            <a:ext cx="3363840" cy="61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223040" y="469800"/>
            <a:ext cx="1030320" cy="1176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65040" y="2070000"/>
            <a:ext cx="5207040" cy="423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835360" y="5867280"/>
            <a:ext cx="15955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on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1560" y="1317240"/>
            <a:ext cx="9389880" cy="58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Accept and manage donation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Donation Process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33160" indent="-21204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low you to accept donations through your web si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eer to Peer Fundraising 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or management 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33160" indent="-21204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low you to manage donors as contacts with information attache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twork for Goo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 &amp; Pled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azo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4419720" y="5789520"/>
            <a:ext cx="2563560" cy="131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7137360" y="4681440"/>
            <a:ext cx="2274840" cy="711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7407360" y="3017880"/>
            <a:ext cx="197172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578560" y="1438200"/>
            <a:ext cx="3322440" cy="689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on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02834"/>
              <a:buBlip>
                <a:blip r:embed="rId2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 Consider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onthly Giving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Employer Match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n-Kind Donation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853920" indent="-318960">
              <a:lnSpc>
                <a:spcPct val="126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Look &amp; Feel of your web sit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529240" y="2036880"/>
            <a:ext cx="380988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ven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1920" y="1604520"/>
            <a:ext cx="458136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online event registration forms and manage participa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Event Management Tool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Create, embed eve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Accept registrations and payment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Manage registra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Form builder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Create forms that visitors can fill out on your web site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368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ventbrit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vit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Facebook Ev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Wufoo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ven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96880" y="1481040"/>
            <a:ext cx="8528040" cy="4989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mail Blast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"/>
          <p:cNvSpPr/>
          <p:nvPr/>
        </p:nvSpPr>
        <p:spPr>
          <a:xfrm>
            <a:off x="5645160" y="4925880"/>
            <a:ext cx="3757680" cy="11336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ook is your evi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67000" indent="-20772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end organizational emails to large lists of constituent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mail Blaster or “Broadcast” Email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Largely protects you from being blacklisted for spam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Gives you analytics based on sends, lis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03640" indent="-20772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llows you to put together professional-looking emails (relatively) easi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67000" indent="-20772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ertical Respons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nstant Contac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84960" indent="-20808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ilChimp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3040" y="1246320"/>
            <a:ext cx="6203880" cy="52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mail Blast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80000" y="2033640"/>
            <a:ext cx="4119480" cy="5359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ocac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ction online among your constitu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etition Builder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llows you to create petitions then either embed, send out a link or email it to constitu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ntact Your Legislator”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Matches constituents with their proper legislator automatical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ign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otize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hange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ocac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84080" y="1612800"/>
            <a:ext cx="8426520" cy="4989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54760" indent="-2034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rganize and manage organizational contac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stituent Relationship Manager (CRM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Centralized Contact Database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Can attach information to contacts (e.g. event attendance, money donated, emails opened, etc.)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034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alesforc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iviCRM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vio (Blackbaud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5299200"/>
            <a:ext cx="1998720" cy="155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4621320" y="4567320"/>
            <a:ext cx="2798640" cy="11476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4838760" y="5808600"/>
            <a:ext cx="2017800" cy="1084320"/>
            <a:chOff x="4838760" y="5808600"/>
            <a:chExt cx="2017800" cy="1084320"/>
          </a:xfrm>
        </p:grpSpPr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4838760" y="5808600"/>
              <a:ext cx="2017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522760" y="6345360"/>
              <a:ext cx="12780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5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0" name=""/>
          <p:cNvSpPr/>
          <p:nvPr/>
        </p:nvSpPr>
        <p:spPr>
          <a:xfrm>
            <a:off x="549360" y="3013200"/>
            <a:ext cx="1538280" cy="1143000"/>
          </a:xfrm>
          <a:prstGeom prst="ellipse">
            <a:avLst/>
          </a:prstGeom>
          <a:solidFill>
            <a:srgbClr val="ae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35280" y="3040200"/>
            <a:ext cx="1770120" cy="114300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o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3720" y="4648320"/>
            <a:ext cx="1741680" cy="11649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800" y="4635360"/>
            <a:ext cx="1468440" cy="1192320"/>
          </a:xfrm>
          <a:prstGeom prst="ellips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00320" y="4127400"/>
            <a:ext cx="1440" cy="4780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956040"/>
            <a:ext cx="1314360" cy="7491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59040" y="4029120"/>
            <a:ext cx="1139760" cy="7970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35080" y="3708360"/>
            <a:ext cx="736560" cy="176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6680" y="4167360"/>
            <a:ext cx="4680" cy="4680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046240" y="5087880"/>
            <a:ext cx="717480" cy="367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70520" y="4024440"/>
            <a:ext cx="1619280" cy="1154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016480" y="3687840"/>
            <a:ext cx="414360" cy="45072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8127720" y="5002200"/>
            <a:ext cx="353880" cy="2700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18240" y="4960440"/>
            <a:ext cx="363600" cy="2574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8240" y="3770280"/>
            <a:ext cx="419040" cy="4222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2743200"/>
            <a:ext cx="1538280" cy="1143000"/>
          </a:xfrm>
          <a:prstGeom prst="ellipse">
            <a:avLst/>
          </a:prstGeom>
          <a:solidFill>
            <a:srgbClr val="ae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58240" y="2687760"/>
            <a:ext cx="1725480" cy="114300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o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0920" y="5111640"/>
            <a:ext cx="1711440" cy="1165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7000" y="5013360"/>
            <a:ext cx="1468440" cy="1192320"/>
          </a:xfrm>
          <a:prstGeom prst="ellips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0" algn="ctr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Khmer UI"/>
              </a:rPr>
              <a:t>Federated Syste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18280" y="1646280"/>
            <a:ext cx="36576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Khmer UI"/>
                <a:ea typeface="Lucida Sans Unicode"/>
              </a:rPr>
              <a:t>CR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88000" y="793800"/>
            <a:ext cx="2354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RM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111320"/>
            <a:ext cx="505908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0040" y="4654440"/>
            <a:ext cx="4498920" cy="2454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518080" y="3327480"/>
            <a:ext cx="4419720" cy="3019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60360" y="4356000"/>
            <a:ext cx="1359000" cy="725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54160" y="374760"/>
            <a:ext cx="1223640" cy="95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5645160" y="227016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1560" y="1533240"/>
            <a:ext cx="9389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bine functionalities from the previous too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47920" indent="-2142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Have a wide variety of function combinations (e.g. email blasting, advocacy, web site management, events, etc.)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ny times their focus is around your contac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any integrated tools act as CRM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alsa from Democracy in 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Nation Build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Tapestr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9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ld Aprico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Multi-Function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"/>
          <p:cNvSpPr/>
          <p:nvPr/>
        </p:nvSpPr>
        <p:spPr>
          <a:xfrm>
            <a:off x="2073240" y="3876840"/>
            <a:ext cx="1549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Tahoma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9840" y="3816360"/>
            <a:ext cx="14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6633"/>
                </a:solidFill>
                <a:latin typeface="Tahoma"/>
              </a:rPr>
              <a:t>E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6633"/>
                </a:solidFill>
                <a:latin typeface="Tahoma"/>
              </a:rPr>
              <a:t>B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6320" y="3905280"/>
            <a:ext cx="162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2280" y="5970600"/>
            <a:ext cx="12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66cc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74840" y="6083280"/>
            <a:ext cx="17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50e"/>
                </a:solidFill>
                <a:latin typeface="Tahoma"/>
              </a:rPr>
              <a:t>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7280" y="5208480"/>
            <a:ext cx="20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284c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52840" y="2808360"/>
            <a:ext cx="4321440" cy="285732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77840" y="2994120"/>
            <a:ext cx="5645160" cy="290016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54200" y="4903920"/>
            <a:ext cx="5238720" cy="2292120"/>
          </a:xfrm>
          <a:prstGeom prst="ellipse">
            <a:avLst/>
          </a:prstGeom>
          <a:noFill/>
          <a:ln cap="sq"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ifferent tools combine different function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at are you trying to get don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roject Managemen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2" name=""/>
          <p:cNvSpPr/>
          <p:nvPr/>
        </p:nvSpPr>
        <p:spPr>
          <a:xfrm>
            <a:off x="5478480" y="4846680"/>
            <a:ext cx="3757680" cy="1646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lace to share org processes and documents (e.g. Publishing Matrix, Traffic 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54760" indent="-2034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are and manage project (or organizational) asse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oject Management Tool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are docs, calendars, tasks and file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Have multiple online user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hared serv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374120" indent="-20340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are docs, files on a local network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4760" indent="-203400">
              <a:lnSpc>
                <a:spcPct val="106000"/>
              </a:lnSpc>
              <a:spcBef>
                <a:spcPts val="887"/>
              </a:spcBef>
              <a:buSzPct val="114232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secamp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d Min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4080" indent="-2037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hared serv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roject Managemen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36680" y="1398600"/>
            <a:ext cx="9075600" cy="5268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"/>
          <p:cNvSpPr/>
          <p:nvPr/>
        </p:nvSpPr>
        <p:spPr>
          <a:xfrm>
            <a:off x="5568840" y="5649840"/>
            <a:ext cx="3757680" cy="1390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5280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98720" bIns="182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bite off as much as you can che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1560" y="1352520"/>
            <a:ext cx="93898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verse with your commun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log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Longer-form writing allowing conversation through commen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Now blog features are integrated into most CMS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ocial Network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horter-form content sharing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Various network-specific functions for interactio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22325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ordpres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0">
              <a:lnSpc>
                <a:spcPct val="108000"/>
              </a:lnSpc>
              <a:spcBef>
                <a:spcPts val="774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ocial Media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3680" y="1943280"/>
            <a:ext cx="9178920" cy="4512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aveats of Online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an take a lot of tim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ime = Mone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Big corporations who want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 are the produc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ere are billion of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ones do we need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hange EVERY. SINGLE. DAY.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ow can we keep up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7942320" y="144936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8504280" y="5499000"/>
            <a:ext cx="933480" cy="924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8686800" y="3292560"/>
            <a:ext cx="968400" cy="968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6981840" y="4297320"/>
            <a:ext cx="88272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imitations of Online Organiz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9056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gital divid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ver forget who is left out by “e”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community and campaign is differ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mileage will var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ming Up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920" y="1604520"/>
            <a:ext cx="45813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view common types of nonprofit tech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Look at how to connect them to your work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Understand their place in the larger ecosystem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3680" y="1604880"/>
            <a:ext cx="4581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  <a:ea typeface="宋体"/>
              </a:rPr>
              <a:t>Web Site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dc2300"/>
                </a:solidFill>
                <a:latin typeface="Tahoma"/>
                <a:ea typeface="宋体"/>
              </a:rPr>
              <a:t>Donation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6b6b"/>
                </a:solidFill>
                <a:latin typeface="Tahoma"/>
                <a:ea typeface="宋体"/>
              </a:rPr>
              <a:t>Even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950e"/>
                </a:solidFill>
                <a:latin typeface="Tahoma"/>
                <a:ea typeface="宋体"/>
              </a:rPr>
              <a:t>Email Blasting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79d1c"/>
                </a:solidFill>
                <a:latin typeface="Tahoma"/>
                <a:ea typeface="宋体"/>
              </a:rPr>
              <a:t>Advocacy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9966cc"/>
                </a:solidFill>
                <a:latin typeface="Tahoma"/>
                <a:ea typeface="宋体"/>
              </a:rPr>
              <a:t>Contac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d320"/>
                </a:solidFill>
                <a:latin typeface="Tahoma"/>
                <a:ea typeface="宋体"/>
              </a:rPr>
              <a:t>Multi-Function Tool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4586"/>
                </a:solidFill>
                <a:latin typeface="Tahoma"/>
                <a:ea typeface="宋体"/>
              </a:rPr>
              <a:t>Project Management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332640" indent="0" algn="ctr">
              <a:lnSpc>
                <a:spcPct val="12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ahoma"/>
                <a:ea typeface="宋体"/>
              </a:rPr>
              <a:t>Social Media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ottom Lin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line tools aren't a magic bull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 need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 measurable go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compelling messa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ffective tactics to realize your go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15920" indent="-21456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plan for engaging supporters and well-defined ways for them to plug i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84640" indent="-21420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dvocacy is more about organizing and organizational challenges than tech challen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4 Processes for Sustainabilit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" y="1668600"/>
            <a:ext cx="90712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Audience Assessmen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o you really know who you're talking to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Publishing Matrix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o you have a model for when to use what tool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essage Calendaring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s all online messaging on a unified calendar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racking &amp; Metric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ich techniques are working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Remember that tech should support your work as an organization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should support your tech strategy goals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the minimum to be successful and then iterate up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s come and go, succeed and fail. Focus on your data rather than the too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efine your organizational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about what tools will help you achieve your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Start tracking your measurable comms goa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are your goals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956200"/>
            <a:ext cx="2512800" cy="125100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4705200"/>
            <a:ext cx="1390680" cy="10382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3600" y="4692600"/>
            <a:ext cx="1392120" cy="103500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848960" y="5692680"/>
            <a:ext cx="79560" cy="463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67080" y="5645160"/>
            <a:ext cx="7920" cy="457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1720" y="5937120"/>
            <a:ext cx="2511720" cy="126216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32520" y="4686480"/>
            <a:ext cx="1390680" cy="10461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00960" y="4708440"/>
            <a:ext cx="1390680" cy="10461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576480" y="5697000"/>
            <a:ext cx="57240" cy="4035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050320" y="5722920"/>
            <a:ext cx="38160" cy="45720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9360" y="6114960"/>
            <a:ext cx="901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1920" y="1485720"/>
            <a:ext cx="93916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easurable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What does success look like?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ool-Agnostic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ake sure your communications plan stays in tact when the tool you are using fails you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93200" y="2741760"/>
            <a:ext cx="1390320" cy="9442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 vert="eaVert" rot="10800000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ool Agnostic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5894280"/>
            <a:ext cx="2203200" cy="11080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3320" y="4654440"/>
            <a:ext cx="1370160" cy="9176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9160" y="4637160"/>
            <a:ext cx="1452600" cy="9158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62040" y="5551560"/>
            <a:ext cx="223920" cy="4125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59040" y="5513040"/>
            <a:ext cx="227160" cy="43668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2832120"/>
            <a:ext cx="2288880" cy="113976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7840" y="1655640"/>
            <a:ext cx="1468440" cy="9446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79400"/>
            <a:ext cx="1390680" cy="9464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130400" y="2565360"/>
            <a:ext cx="179280" cy="45072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19360" y="2583000"/>
            <a:ext cx="228600" cy="38736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2120" y="2774880"/>
            <a:ext cx="2103480" cy="180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784840"/>
            <a:ext cx="2027160" cy="1440"/>
          </a:xfrm>
          <a:prstGeom prst="line">
            <a:avLst/>
          </a:prstGeom>
          <a:ln cap="sq" w="36720">
            <a:solidFill>
              <a:srgbClr val="008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91320" y="5872320"/>
            <a:ext cx="2203560" cy="110808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30960" y="4700520"/>
            <a:ext cx="1434960" cy="917640"/>
          </a:xfrm>
          <a:prstGeom prst="ellipse">
            <a:avLst/>
          </a:prstGeom>
          <a:solidFill>
            <a:srgbClr val="35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048440" y="5610240"/>
            <a:ext cx="311040" cy="325440"/>
          </a:xfrm>
          <a:prstGeom prst="line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900000">
            <a:off x="5981760" y="2624040"/>
            <a:ext cx="1520640" cy="944640"/>
          </a:xfrm>
          <a:prstGeom prst="ellipse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6400" y="3340080"/>
            <a:ext cx="19224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514920" y="2995200"/>
            <a:ext cx="345960" cy="39708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39040" y="2684160"/>
            <a:ext cx="191880" cy="360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272080" y="3352680"/>
            <a:ext cx="230040" cy="33336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296200" y="3147480"/>
            <a:ext cx="308160" cy="25740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8230680" y="2979360"/>
            <a:ext cx="411480" cy="219240"/>
          </a:xfrm>
          <a:prstGeom prst="line">
            <a:avLst/>
          </a:prstGeom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120" y="14292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Example Nonprofit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0320" y="1397160"/>
          <a:ext cx="8624520" cy="5297040"/>
        </p:xfrm>
        <a:graphic>
          <a:graphicData uri="http://schemas.openxmlformats.org/drawingml/2006/table">
            <a:tbl>
              <a:tblPr/>
              <a:tblGrid>
                <a:gridCol w="2156400"/>
                <a:gridCol w="2155680"/>
                <a:gridCol w="2156040"/>
                <a:gridCol w="2156400"/>
              </a:tblGrid>
              <a:tr h="752400"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54720" rIns="54720" tIns="221400" bIns="54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526"/>
                    </a:solidFill>
                  </a:tcPr>
                </a:tc>
              </a:tr>
              <a:tr h="2067480"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donations through online efforts for schola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457200" indent="-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 ask people how they he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7160"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ck referring link of Donation Thank You 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scholarships funded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2477160"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annual event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457200" indent="-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year's attendance to last yea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7160">
                        <a:lnSpc>
                          <a:spcPct val="10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ve a “How'd You Hear” place on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 from last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2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w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08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ata &gt;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Think of tools as impermanent</a:t>
            </a: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ools fall away, data (hopefully) sta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Data is the most important organizational asset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act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roc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Plan for tech divorce when you choose a tool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Data &gt; Too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pen Source Tools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nyone can view the underlying software cod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Little or no licensing cost, upgrade cost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unity Supported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Mission-driven, not profit-driven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Open source tools leave you in a leveraged position with your data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You're not tied to a specific person or company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2920" y="4514760"/>
            <a:ext cx="1687680" cy="1154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772400" y="5029200"/>
            <a:ext cx="1393920" cy="159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75080" y="5943600"/>
            <a:ext cx="2008080" cy="1246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eb Sit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560" y="1425600"/>
            <a:ext cx="9389880" cy="57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Manage, organize and create web site content 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 Management System (CMS)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Manage a web site with a visual interface (buttons, WYSIWYG) rather than digging into raw code (HTML, CSS, PHP)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Khmer UI"/>
              </a:rPr>
              <a:t>Common Examples:</a:t>
            </a:r>
            <a:endParaRPr b="0" lang="en-US" sz="35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ordpr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8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Drupa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9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Joomla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0:51:49Z</dcterms:created>
  <dc:creator>Matthew Garcia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5T18:10:01Z</dcterms:modified>
  <cp:revision>122</cp:revision>
  <dc:subject/>
  <dc:title>Aspiration Intro to Online Tools for NPOs</dc:title>
</cp:coreProperties>
</file>