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768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47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6EBB7-D2F7-4D5D-B7A8-9F3F5023E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184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761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776160" y="4776840"/>
            <a:ext cx="62136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776160" y="4776840"/>
            <a:ext cx="6218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77616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184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184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777960" y="4775040"/>
            <a:ext cx="6216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77960" y="4776840"/>
            <a:ext cx="6218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776160" y="4776840"/>
            <a:ext cx="6212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12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888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12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888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35000" y="849240"/>
            <a:ext cx="58467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212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88880" y="243216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3500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1212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88880" y="5050800"/>
            <a:ext cx="188244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9240"/>
            <a:ext cx="58467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0920" y="505080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0920" y="2432160"/>
            <a:ext cx="285300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0800"/>
            <a:ext cx="5846760" cy="2391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2760" y="7758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6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30120" y="639720"/>
            <a:ext cx="180972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6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hyperlink" Target="http://flickr.com/photos/tags/searchterm" TargetMode="External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nline Advocacy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Listening Online to Inform Campaign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5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 &amp; Fabrider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8000" y="1455840"/>
            <a:ext cx="5303880" cy="39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Your Online Listening Garden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o are your stakeholders?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ies are people you want to mobilize AND supp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utral Parties are people you want to educat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pponents are people you want to coun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In a listening context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ies, listen for opportunities to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mplify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heir key messages in through your own social media network (what goes around comes around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utral Parties, how are they viewing your issue? What i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relevant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em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pponents, how do they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rame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your issue?  What is their le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118800"/>
            <a:ext cx="75232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are your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ll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utral Par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ppon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How to search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Keywords to search with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.E, sex worker vs prostit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ing Google Advanced Sear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ttp://www.google.com/advanced_search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at to look for: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160" y="1455840"/>
            <a:ext cx="448308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7840" indent="-210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ames of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organization(s) involved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key leader(s) of the campaig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 Executive Director or CEO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y spokespeople for or against the issu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21960" indent="-210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campaigns, propositions, or programs that you support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Any events or protests that you’ve been a part of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8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Any #hashtags you’ve created or used frequently to contribute to online dialogue about your caus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11800" y="1006560"/>
            <a:ext cx="1195560" cy="119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128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Activity: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What are Your Search Term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ampaign Listening Templat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1455840"/>
            <a:ext cx="714060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Detective Work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347480"/>
            <a:ext cx="85183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o if you have identified new stakeholders, you’ll want to do more detective work about where they are online, and again look to see: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Do they have a Twitter feed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re they a Facebook user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Do they use blogs or online forum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t’s also helpful to think about who influences your stakeholders and who they follow online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ere do they get their news and information from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ose information are they sharing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#hashtags are they using and responding to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nline Listening Dashboar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4120" y="2606760"/>
            <a:ext cx="5943600" cy="3336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87680" y="3932280"/>
            <a:ext cx="6099120" cy="1041480"/>
          </a:xfrm>
          <a:prstGeom prst="rect">
            <a:avLst/>
          </a:prstGeom>
          <a:ln w="3672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320" y="1310760"/>
            <a:ext cx="85676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384480" indent="-309240">
              <a:lnSpc>
                <a:spcPct val="108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396720"/>
                <a:tab algn="l" pos="509760"/>
                <a:tab algn="l" pos="966960"/>
                <a:tab algn="l" pos="1424160"/>
                <a:tab algn="l" pos="1881360"/>
                <a:tab algn="l" pos="2338560"/>
                <a:tab algn="l" pos="2795760"/>
                <a:tab algn="l" pos="3252960"/>
                <a:tab algn="l" pos="3710160"/>
                <a:tab algn="l" pos="4167360"/>
                <a:tab algn="l" pos="4624560"/>
                <a:tab algn="l" pos="5081760"/>
                <a:tab algn="l" pos="5538960"/>
                <a:tab algn="l" pos="5996160"/>
                <a:tab algn="l" pos="6453360"/>
                <a:tab algn="l" pos="6910560"/>
                <a:tab algn="l" pos="7367760"/>
                <a:tab algn="l" pos="7824960"/>
                <a:tab algn="l" pos="8282160"/>
                <a:tab algn="l" pos="8739360"/>
                <a:tab algn="l" pos="91965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heck ONE place for notifications about whe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keywords of interest are mentioned on the interne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uilding a Listening Dashboard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do I need to know to build a Dashboard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RSS Feed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to find RSS feed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hoosing a RSS Reader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RS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SS: Really Simple Syndic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eb page content is “syndicated” or broadcast out using RS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SS “feeds” allow people to see when there is new content on a web page by “subscribing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.g. blog pos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546960" y="414360"/>
            <a:ext cx="119520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173664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Subscribe to RSS F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1880" y="1663560"/>
            <a:ext cx="7772400" cy="4370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ind &amp; Click the RSS Icon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772400" cy="4370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0080" y="1555920"/>
            <a:ext cx="2378160" cy="365040"/>
          </a:xfrm>
          <a:prstGeom prst="roundRect">
            <a:avLst>
              <a:gd name="adj" fmla="val 16667"/>
            </a:avLst>
          </a:prstGeom>
          <a:noFill/>
          <a:ln w="5472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8840" y="27432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RSS Subscribe Pag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RSS from Online Searche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 RSS can monitor social media searches for you and update when someone mentions something you care about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ywords from your Listening Matrix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rganization name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ec. Dir. name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levant issue keywords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mportant people,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33080" indent="-212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ropositions, etc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943680" y="3833640"/>
            <a:ext cx="119556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New Content Fee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arch for a person or keyword, then subscribe to the feed of the search results p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gle Aler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94240" y="3749760"/>
            <a:ext cx="22971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8280" y="2560680"/>
            <a:ext cx="786600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79440" y="4754520"/>
            <a:ext cx="2378160" cy="365040"/>
          </a:xfrm>
          <a:prstGeom prst="roundRect">
            <a:avLst>
              <a:gd name="adj" fmla="val 16667"/>
            </a:avLst>
          </a:prstGeom>
          <a:noFill/>
          <a:ln w="5472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New Content Fee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4680" y="1508040"/>
            <a:ext cx="85201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ogle Alerts to RSS Fee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040" y="1371600"/>
            <a:ext cx="851868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6640">
              <a:lnSpc>
                <a:spcPct val="100000"/>
              </a:lnSpc>
              <a:tabLst>
                <a:tab algn="l" pos="0"/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06280">
              <a:lnSpc>
                <a:spcPct val="100000"/>
              </a:lnSpc>
              <a:tabLst>
                <a:tab algn="l" pos="0"/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65040" y="2193840"/>
            <a:ext cx="7772400" cy="437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6000" y="2651040"/>
            <a:ext cx="8777160" cy="13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20760">
              <a:lnSpc>
                <a:spcPct val="108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opy the feed UR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8520" indent="-320760">
              <a:lnSpc>
                <a:spcPct val="108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paste it into dash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New Content Feed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dd RSS Feed to Dashboar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"/>
          <p:cNvSpPr/>
          <p:nvPr/>
        </p:nvSpPr>
        <p:spPr>
          <a:xfrm>
            <a:off x="182520" y="2103480"/>
            <a:ext cx="2378160" cy="365040"/>
          </a:xfrm>
          <a:prstGeom prst="roundRect">
            <a:avLst>
              <a:gd name="adj" fmla="val 16667"/>
            </a:avLst>
          </a:prstGeom>
          <a:noFill/>
          <a:ln w="5472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ther Sear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or New Content Fee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36200"/>
            <a:ext cx="8518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ogle Blog Sear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gle.com/blogsearch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ng Sear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&amp;format=rss” to the end of the UR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/Discussion Boar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oardReader.co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9000" indent="-214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gital Photos - Flick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1040" indent="-214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9"/>
              </a:rPr>
              <a:t>http://flickr.com/photos/tags/searchter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a listening onlin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can it be useful for your organization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tools can help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can it inform your messaging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nline Listening Dashboar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sparkwi.s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295280" y="2336760"/>
            <a:ext cx="638352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ther Online Listening Dashboard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63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ONE place for notifications about when keywords of interest are mentioned on the interne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tvib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orify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1680" y="228600"/>
            <a:ext cx="85183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4680" y="23616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Twitter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736640"/>
            <a:ext cx="85201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commun.i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2240" y="2560680"/>
            <a:ext cx="71913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Other Twitter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nd-alone tools that connect with your Twitter accou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otsui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ops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ollowerwon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weetleve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wopchar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7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Khmer UI"/>
              </a:rPr>
              <a:t>Special Thanks to Susan Tenby (@suzboop) &amp; Upwell (@upwell) for sharing useful tools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Tools to Listen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w Content Feeds (RSS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gle Aler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Listening Dashboar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parkwi.s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witter Listen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un.i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uilding Listen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Into your Proces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63840"/>
            <a:ext cx="8518320" cy="49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isten Onlin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dentify Opportun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at topics are people talking about along with your issue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at are people saying about your organization? Your people? Your issue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at vocabulary are people using? How does it differ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o is talking about your issue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46760" indent="-2149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Who is connecting with you?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N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uilding Listen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Into your Proces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183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orporate into you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ain, Passion, Fun, Fa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 the Impac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ractice &amp; Improv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3394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3394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Khmer UI"/>
              </a:rPr>
              <a:t>BIG THANK YOU to Upwell for sharing their Big Listening Campaign Lifecyc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14280" y="1380960"/>
            <a:ext cx="1828800" cy="6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irst Thing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s training is envisioned as a dialogu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ease ask question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will only be as valuable for you as you make it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73360" y="47466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04080" y="4365720"/>
            <a:ext cx="1928520" cy="1985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131292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22800" y="1325520"/>
            <a:ext cx="1843200" cy="179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08080" y="104148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003560"/>
            <a:ext cx="2043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Calen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1360" y="418320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&amp; Metr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5000" y="113364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ing Matr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8360" y="175104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15240" y="314640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720" y="5040360"/>
            <a:ext cx="1567080" cy="455400"/>
          </a:xfrm>
          <a:prstGeom prst="leftArrow">
            <a:avLst>
              <a:gd name="adj1" fmla="val 50000"/>
              <a:gd name="adj2" fmla="val 8602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3195720"/>
            <a:ext cx="346320" cy="844560"/>
          </a:xfrm>
          <a:prstGeom prst="upArrow">
            <a:avLst>
              <a:gd name="adj1" fmla="val 50000"/>
              <a:gd name="adj2" fmla="val 60967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What is Social Media Today?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64040" y="1417680"/>
            <a:ext cx="3749760" cy="397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5497560" y="2170080"/>
            <a:ext cx="3370320" cy="2962440"/>
          </a:xfrm>
          <a:prstGeom prst="noSmoking">
            <a:avLst>
              <a:gd name="adj" fmla="val 1888"/>
            </a:avLst>
          </a:prstGeom>
          <a:solidFill>
            <a:srgbClr val="ff000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5640" y="1669680"/>
            <a:ext cx="41576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versations with people onlin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de for people, not organiz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0760" indent="-216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t's not going to work perfectl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16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ot your virtual megaphon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asics of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do I need tools to listen onlin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o be notified when keywords of interest are mentioned on the internet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Benefits to Listening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-219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is it valuabl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e part of the convers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ave $$$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0480" indent="-219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ess guess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7480" y="2174760"/>
            <a:ext cx="6607080" cy="397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60000"/>
            <a:ext cx="85201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hmer UI"/>
              </a:rPr>
              <a:t>Engage in Online Conversations</a:t>
            </a:r>
            <a:endParaRPr b="0" lang="en-US" sz="4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and Fabriders
These materials are distributed under a Creative Commons license: Attribution-ShareAlike</dc:description>
  <dc:language>en-US</dc:language>
  <cp:lastModifiedBy/>
  <dcterms:modified xsi:type="dcterms:W3CDTF">2014-06-24T20:02:39Z</dcterms:modified>
  <cp:revision>28</cp:revision>
  <dc:subject/>
  <dc:title>Aspiration Listening for Campaigns</dc:title>
</cp:coreProperties>
</file>