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086F-D724-40F3-933D-05D2FF8C6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016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6080"/>
            <a:ext cx="8226360" cy="5335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51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Online Campaign Tactic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Campaign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Decision Mak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for an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Communit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ucating an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aising Mone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ing your Base/Supporter Databas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ing volunteer eng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"/>
          <p:cNvSpPr/>
          <p:nvPr/>
        </p:nvSpPr>
        <p:spPr>
          <a:xfrm>
            <a:off x="1312920" y="5403960"/>
            <a:ext cx="2279520" cy="113508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60640" y="4268880"/>
            <a:ext cx="1261800" cy="9414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52680" y="4257720"/>
            <a:ext cx="1263600" cy="9396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77600" y="5164200"/>
            <a:ext cx="71640" cy="4204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4240" y="5121000"/>
            <a:ext cx="7920" cy="414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45080" y="5386320"/>
            <a:ext cx="2278080" cy="11448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72000" y="425124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27212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965560" y="5167440"/>
            <a:ext cx="52200" cy="3664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2600" y="5192280"/>
            <a:ext cx="34920" cy="414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54480" y="5548320"/>
            <a:ext cx="81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34748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978600" y="2487600"/>
            <a:ext cx="126216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"/>
          <p:cNvSpPr/>
          <p:nvPr/>
        </p:nvSpPr>
        <p:spPr>
          <a:xfrm>
            <a:off x="1092240" y="534672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280" y="4222800"/>
            <a:ext cx="1242720" cy="8319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0560" y="4206960"/>
            <a:ext cx="131760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417680" y="5035680"/>
            <a:ext cx="203040" cy="3744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03440" y="5000760"/>
            <a:ext cx="206280" cy="3967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9120" y="2568600"/>
            <a:ext cx="2076480" cy="10335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440" y="1501920"/>
            <a:ext cx="133200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2560" y="1523880"/>
            <a:ext cx="126216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025640" y="2327040"/>
            <a:ext cx="163440" cy="4093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76360" y="2343240"/>
            <a:ext cx="208080" cy="3506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6160" y="2517840"/>
            <a:ext cx="190800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1120" y="5248440"/>
            <a:ext cx="183852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70680" y="532764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43440" y="4264200"/>
            <a:ext cx="130176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393960" y="5089680"/>
            <a:ext cx="282600" cy="295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900000">
            <a:off x="5427720" y="2381040"/>
            <a:ext cx="137952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39000" y="3029040"/>
            <a:ext cx="174600" cy="3031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910120" y="2717280"/>
            <a:ext cx="314640" cy="360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32440" y="2435400"/>
            <a:ext cx="174600" cy="3268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504200" y="3041640"/>
            <a:ext cx="209520" cy="3031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526160" y="2855880"/>
            <a:ext cx="279720" cy="2332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467120" y="2703240"/>
            <a:ext cx="373320" cy="198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re Tool Checklis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434960"/>
            <a:ext cx="82281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612720" indent="-2905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612720"/>
                <a:tab algn="l" pos="1069920"/>
                <a:tab algn="l" pos="1527120"/>
                <a:tab algn="l" pos="1984320"/>
                <a:tab algn="l" pos="2441520"/>
                <a:tab algn="l" pos="2898720"/>
                <a:tab algn="l" pos="3355920"/>
                <a:tab algn="l" pos="3813120"/>
                <a:tab algn="l" pos="4270320"/>
                <a:tab algn="l" pos="4727520"/>
                <a:tab algn="l" pos="5184720"/>
                <a:tab algn="l" pos="5641920"/>
                <a:tab algn="l" pos="6099120"/>
                <a:tab algn="l" pos="6556320"/>
                <a:tab algn="l" pos="7013520"/>
                <a:tab algn="l" pos="7470720"/>
                <a:tab algn="l" pos="7927920"/>
                <a:tab algn="l" pos="8385120"/>
                <a:tab algn="l" pos="8842320"/>
                <a:tab algn="l" pos="9299520"/>
                <a:tab algn="l" pos="9756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289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612720"/>
                <a:tab algn="l" pos="1069920"/>
                <a:tab algn="l" pos="1527120"/>
                <a:tab algn="l" pos="1984320"/>
                <a:tab algn="l" pos="2441520"/>
                <a:tab algn="l" pos="2898720"/>
                <a:tab algn="l" pos="3355920"/>
                <a:tab algn="l" pos="3813120"/>
                <a:tab algn="l" pos="4270320"/>
                <a:tab algn="l" pos="4727520"/>
                <a:tab algn="l" pos="5184720"/>
                <a:tab algn="l" pos="5641920"/>
                <a:tab algn="l" pos="6099120"/>
                <a:tab algn="l" pos="6556320"/>
                <a:tab algn="l" pos="7013520"/>
                <a:tab algn="l" pos="7470720"/>
                <a:tab algn="l" pos="7927920"/>
                <a:tab algn="l" pos="8385120"/>
                <a:tab algn="l" pos="8842320"/>
                <a:tab algn="l" pos="9299520"/>
                <a:tab algn="l" pos="9756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tent Management Syst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age your web site (Wordpress, Drupal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ituent Relationship Manager (Supporter Database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Delivery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Action Platfor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ation Process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campaigning is about actually engaging your supporters in what you are doing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and offline need to be synchroniz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tools are a means to build relationships with your base and make a difference in your on the ground work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.g. Get email address, message on FB, sign a peti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ing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tactic is a plan, procedure, or move you can take to help achieve your go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tactics depend on who you are trying to reac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 don't have to be an “online activist” to have an online strateg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take a look at some online “moves”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et people where they are 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messages for different platform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43200" y="2514600"/>
            <a:ext cx="5429160" cy="397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57200" y="3456000"/>
            <a:ext cx="34354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Creati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8520" y="2103480"/>
            <a:ext cx="2889360" cy="4068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286080" y="1639800"/>
            <a:ext cx="5381640" cy="494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789280" y="200484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established networ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11320" y="22860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117880" cy="173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26120" y="1380960"/>
            <a:ext cx="285768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06560" y="2103480"/>
            <a:ext cx="731520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Advocacy is more about organizing and organizational challenges than tech challeng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he limitations of online organiz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rief review of steps to develop an online campaig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“moves” made by online activis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training is envisioned as a dialo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 want your input as much as po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specially if and when we use technical jargon, terminology and concepts you don't know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9360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6240" y="1218960"/>
            <a:ext cx="82278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954920" y="3548160"/>
            <a:ext cx="80028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your data footprint smal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mplicity is Pow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K to use “Boundary Tactics” if they fail ni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e well, new tactics CAN earn media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ware of data integration issu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lan early for tech divor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7" name=""/>
          <p:cNvSpPr/>
          <p:nvPr/>
        </p:nvSpPr>
        <p:spPr>
          <a:xfrm>
            <a:off x="345960" y="1533600"/>
            <a:ext cx="822816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ampaign Develop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0" name=""/>
          <p:cNvSpPr/>
          <p:nvPr/>
        </p:nvSpPr>
        <p:spPr>
          <a:xfrm>
            <a:off x="438120" y="1130400"/>
            <a:ext cx="822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als &amp; Audience Assess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 you really know who you're talking to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 you have a model for when to use what tool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ar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 all online messaging on a unified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&amp; Listen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techniques are working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0880" y="4791240"/>
            <a:ext cx="1764000" cy="1763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92080" y="118584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0" t="0" r="0" b="10257"/>
          <a:stretch/>
        </p:blipFill>
        <p:spPr>
          <a:xfrm>
            <a:off x="5788080" y="4722840"/>
            <a:ext cx="19288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 </dc:description>
  <dc:language>en-US</dc:language>
  <cp:lastModifiedBy/>
  <dcterms:modified xsi:type="dcterms:W3CDTF">2014-08-06T23:06:39Z</dcterms:modified>
  <cp:revision>1</cp:revision>
  <dc:subject/>
  <dc:title>Aspiration Online Campaign Tactics</dc:title>
</cp:coreProperties>
</file>