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6CCEE-C7C2-4EB6-ADA6-1132479A0A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2" name=""/>
          <p:cNvSpPr/>
          <p:nvPr/>
        </p:nvSpPr>
        <p:spPr>
          <a:xfrm>
            <a:off x="685800" y="4341960"/>
            <a:ext cx="54849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4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7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0" name=""/>
          <p:cNvSpPr/>
          <p:nvPr/>
        </p:nvSpPr>
        <p:spPr>
          <a:xfrm>
            <a:off x="685800" y="4341960"/>
            <a:ext cx="54849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4343400"/>
            <a:ext cx="54421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343400"/>
            <a:ext cx="54421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6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3000" y="695160"/>
            <a:ext cx="45673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54421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43000" y="695160"/>
            <a:ext cx="45673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343400"/>
            <a:ext cx="54421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2" name=""/>
          <p:cNvSpPr/>
          <p:nvPr/>
        </p:nvSpPr>
        <p:spPr>
          <a:xfrm>
            <a:off x="685800" y="4340160"/>
            <a:ext cx="548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4" name=""/>
          <p:cNvSpPr/>
          <p:nvPr/>
        </p:nvSpPr>
        <p:spPr>
          <a:xfrm>
            <a:off x="685800" y="4341960"/>
            <a:ext cx="54849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6" name=""/>
          <p:cNvSpPr/>
          <p:nvPr/>
        </p:nvSpPr>
        <p:spPr>
          <a:xfrm>
            <a:off x="685800" y="4341960"/>
            <a:ext cx="54849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8" name=""/>
          <p:cNvSpPr/>
          <p:nvPr/>
        </p:nvSpPr>
        <p:spPr>
          <a:xfrm>
            <a:off x="685800" y="4341960"/>
            <a:ext cx="54849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0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340000">
            <a:off x="-1114560" y="7776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4000"/>
          </a:bodyPr>
          <a:p>
            <a:pPr marL="21924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 rot="5400000">
            <a:off x="4809960" y="2566080"/>
            <a:ext cx="8226360" cy="5335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4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5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51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Advocac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144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Online Campaign Tactics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612936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Developing Campaign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nfluence Decision Maker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obilize for an Ev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uild Communit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ducating an Audienc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aising Mone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uilding your Base/Supporter Database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ncreasing volunteer engagem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at are your goals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8" name=""/>
          <p:cNvSpPr/>
          <p:nvPr/>
        </p:nvSpPr>
        <p:spPr>
          <a:xfrm>
            <a:off x="1312920" y="5403960"/>
            <a:ext cx="2279520" cy="113508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60640" y="4268880"/>
            <a:ext cx="1261800" cy="94140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52680" y="4257720"/>
            <a:ext cx="1263600" cy="93960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677600" y="5164200"/>
            <a:ext cx="71640" cy="42048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054240" y="5121000"/>
            <a:ext cx="7920" cy="41436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45080" y="5386320"/>
            <a:ext cx="2278080" cy="114480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72000" y="4251240"/>
            <a:ext cx="1262160" cy="94932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04000" y="4272120"/>
            <a:ext cx="1262160" cy="94932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965560" y="5167440"/>
            <a:ext cx="52200" cy="36648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302600" y="5192280"/>
            <a:ext cx="34920" cy="41436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54480" y="5548320"/>
            <a:ext cx="81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347480"/>
            <a:ext cx="85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easurabl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does success look like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ool-Agnostic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 sure your communications plan stays in tact when the tool you are using fails you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978600" y="2487600"/>
            <a:ext cx="1262160" cy="85716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 vert="eaVert" rot="10800000">
            <a:noAutofit/>
          </a:bodyPr>
          <a:p>
            <a:pPr algn="ctr" rtl="1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ool Agnostic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2" name=""/>
          <p:cNvSpPr/>
          <p:nvPr/>
        </p:nvSpPr>
        <p:spPr>
          <a:xfrm>
            <a:off x="1092240" y="5346720"/>
            <a:ext cx="1998720" cy="100476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5280" y="4222800"/>
            <a:ext cx="1242720" cy="83196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30560" y="4206960"/>
            <a:ext cx="1317600" cy="83160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1417680" y="5035680"/>
            <a:ext cx="203040" cy="37440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503440" y="5000760"/>
            <a:ext cx="206280" cy="39672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9120" y="2568600"/>
            <a:ext cx="2076480" cy="103356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6440" y="1501920"/>
            <a:ext cx="1332000" cy="85716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22560" y="1523880"/>
            <a:ext cx="1262160" cy="85752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1025640" y="2327040"/>
            <a:ext cx="163440" cy="40932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376360" y="2343240"/>
            <a:ext cx="208080" cy="35064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86160" y="2517840"/>
            <a:ext cx="1908000" cy="1440"/>
          </a:xfrm>
          <a:prstGeom prst="line">
            <a:avLst/>
          </a:prstGeom>
          <a:ln cap="sq" w="36720">
            <a:solidFill>
              <a:srgbClr val="008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1120" y="5248440"/>
            <a:ext cx="1838520" cy="1440"/>
          </a:xfrm>
          <a:prstGeom prst="line">
            <a:avLst/>
          </a:prstGeom>
          <a:ln cap="sq" w="36720">
            <a:solidFill>
              <a:srgbClr val="008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70680" y="5327640"/>
            <a:ext cx="1998720" cy="100476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43440" y="4264200"/>
            <a:ext cx="1301760" cy="83160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393960" y="5089680"/>
            <a:ext cx="282600" cy="29520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8900000">
            <a:off x="5427720" y="2381040"/>
            <a:ext cx="1379520" cy="85716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039000" y="3029040"/>
            <a:ext cx="174600" cy="30312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5910120" y="2717280"/>
            <a:ext cx="314640" cy="36036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932440" y="2435400"/>
            <a:ext cx="174600" cy="32688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7504200" y="3041640"/>
            <a:ext cx="209520" cy="30312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526160" y="2855880"/>
            <a:ext cx="279720" cy="23328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7467120" y="2703240"/>
            <a:ext cx="373320" cy="19836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re Tool Checklis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434960"/>
            <a:ext cx="822816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612720" indent="-2905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612720"/>
                <a:tab algn="l" pos="1069920"/>
                <a:tab algn="l" pos="1527120"/>
                <a:tab algn="l" pos="1984320"/>
                <a:tab algn="l" pos="2441520"/>
                <a:tab algn="l" pos="2898720"/>
                <a:tab algn="l" pos="3355920"/>
                <a:tab algn="l" pos="3813120"/>
                <a:tab algn="l" pos="4270320"/>
                <a:tab algn="l" pos="4727520"/>
                <a:tab algn="l" pos="5184720"/>
                <a:tab algn="l" pos="5641920"/>
                <a:tab algn="l" pos="6099120"/>
                <a:tab algn="l" pos="6556320"/>
                <a:tab algn="l" pos="7013520"/>
                <a:tab algn="l" pos="7470720"/>
                <a:tab algn="l" pos="7927920"/>
                <a:tab algn="l" pos="8385120"/>
                <a:tab algn="l" pos="8842320"/>
                <a:tab algn="l" pos="9299520"/>
                <a:tab algn="l" pos="975672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14520" indent="-289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612720"/>
                <a:tab algn="l" pos="1069920"/>
                <a:tab algn="l" pos="1527120"/>
                <a:tab algn="l" pos="1984320"/>
                <a:tab algn="l" pos="2441520"/>
                <a:tab algn="l" pos="2898720"/>
                <a:tab algn="l" pos="3355920"/>
                <a:tab algn="l" pos="3813120"/>
                <a:tab algn="l" pos="4270320"/>
                <a:tab algn="l" pos="4727520"/>
                <a:tab algn="l" pos="5184720"/>
                <a:tab algn="l" pos="5641920"/>
                <a:tab algn="l" pos="6099120"/>
                <a:tab algn="l" pos="6556320"/>
                <a:tab algn="l" pos="7013520"/>
                <a:tab algn="l" pos="7470720"/>
                <a:tab algn="l" pos="7927920"/>
                <a:tab algn="l" pos="8385120"/>
                <a:tab algn="l" pos="8842320"/>
                <a:tab algn="l" pos="9299520"/>
                <a:tab algn="l" pos="975672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ntent Management System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nage your web site (Wordpress, Drupal)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nstituent Relationship Manager (Supporter Database)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mail Delivery Too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Online Action Platform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onation Process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ocial Media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Developing Tactic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or Your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Online campaigning is about actually engaging your supporters in what you are doing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nline and offline need to be synchronize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Online tools are a means to build relationships with your base and make a difference in your on the ground work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.g. Get email address, message on FB, sign a peti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192240"/>
            <a:ext cx="752328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Developing Tactic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or Your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1120"/>
            <a:ext cx="85183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 tactic is a plan, procedure, or move you can take to help achieve your goa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Your tactics depend on who you are trying to reach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You don't have to be an “online activist” to have an online strateg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et's take a look at some online “moves”..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Tac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eet people where they are 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reate messages for different platform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43200" y="2514600"/>
            <a:ext cx="5429160" cy="3978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57200" y="3456000"/>
            <a:ext cx="34354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Tac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et Creativ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0">
              <a:lnSpc>
                <a:spcPct val="108000"/>
              </a:lnSpc>
              <a:spcBef>
                <a:spcPts val="700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28520" y="2103480"/>
            <a:ext cx="2889360" cy="4068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3286080" y="1639800"/>
            <a:ext cx="5381640" cy="4943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2789280" y="2004840"/>
            <a:ext cx="25146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Tac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obilize established network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0">
              <a:lnSpc>
                <a:spcPct val="108000"/>
              </a:lnSpc>
              <a:spcBef>
                <a:spcPts val="700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011320" y="2286000"/>
            <a:ext cx="5486400" cy="3657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2117880" cy="1735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6126120" y="1380960"/>
            <a:ext cx="2857680" cy="27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Tac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se technolog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0">
              <a:lnSpc>
                <a:spcPct val="108000"/>
              </a:lnSpc>
              <a:spcBef>
                <a:spcPts val="700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006560" y="2103480"/>
            <a:ext cx="7315200" cy="42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Bottom Lin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Online tools aren't a magic bulle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You need: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n measurable goal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 compelling message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Effective tactics to realize your goal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 plan for engaging supporters and well-defined ways for them to plug in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eAdvocacy is more about organizing and organizational challenges than tech challenge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35360" y="2034720"/>
            <a:ext cx="58500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iscuss the limitations of online organiz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rief review of steps to develop an online campaig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o over “moves” made by online activist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ost importantly, answer your quest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irst Thing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s training is envisioned as a dialo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e want your input as much as possib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lease ask questions early and ofte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specially if and when we use technical jargon, terminology and concepts you don't know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t will only be as valuable for you as you make it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9040" y="93600"/>
            <a:ext cx="8228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veats of Online Too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6240" y="1218960"/>
            <a:ext cx="822780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an take a lot of tim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ime = Mone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ig corporations who want your data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You are the produc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ere are billion of too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ich ones do we need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ools change EVERY. SINGLE. DA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w can we keep up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7954920" y="3548160"/>
            <a:ext cx="80028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veats of Online Too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ep your data footprint smal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implicity is Power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ig corporations who want your data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K to use “Boundary Tactics” if they fail nic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one well, new tactics CAN earn media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eware of data integration issu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lan early for tech divorc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Limitations of Online Organizing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7" name=""/>
          <p:cNvSpPr/>
          <p:nvPr/>
        </p:nvSpPr>
        <p:spPr>
          <a:xfrm>
            <a:off x="345960" y="1533600"/>
            <a:ext cx="8228160" cy="42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igital divid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Never forget who is left out by “e” strategi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rust relationships are best built in perso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nline organizing is most effective when it leverages established social networks and communiti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ach community and campaign is differ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Your mileage will var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Campaign Developm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0" name=""/>
          <p:cNvSpPr/>
          <p:nvPr/>
        </p:nvSpPr>
        <p:spPr>
          <a:xfrm>
            <a:off x="438120" y="1130400"/>
            <a:ext cx="8228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oals &amp; Audience Assessm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o you really know who you're talking to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ublishing Matrix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o you have a model for when to use what tool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essage Calendar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s all online messaging on a unified calendar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racking &amp; Listen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ich techniques are working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50880" y="4791240"/>
            <a:ext cx="1764000" cy="1763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400" y="142920"/>
            <a:ext cx="82278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our Process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20680" y="1455840"/>
            <a:ext cx="1843200" cy="1809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807160" y="1433520"/>
            <a:ext cx="1842840" cy="1797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92080" y="1185840"/>
            <a:ext cx="2425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dience 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07240" y="4327560"/>
            <a:ext cx="2043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ssage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95360" y="4362480"/>
            <a:ext cx="20811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cking &amp; 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69000" y="1204920"/>
            <a:ext cx="199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shing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62360" y="2038320"/>
            <a:ext cx="1557360" cy="446040"/>
          </a:xfrm>
          <a:prstGeom prst="rightArrow">
            <a:avLst>
              <a:gd name="adj1" fmla="val 50000"/>
              <a:gd name="adj2" fmla="val 87288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99240" y="3289320"/>
            <a:ext cx="357120" cy="806400"/>
          </a:xfrm>
          <a:prstGeom prst="downArrow">
            <a:avLst>
              <a:gd name="adj1" fmla="val 50000"/>
              <a:gd name="adj2" fmla="val 56452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98720" y="5327640"/>
            <a:ext cx="1567080" cy="455760"/>
          </a:xfrm>
          <a:prstGeom prst="leftArrow">
            <a:avLst>
              <a:gd name="adj1" fmla="val 50000"/>
              <a:gd name="adj2" fmla="val 85960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43280" y="3376440"/>
            <a:ext cx="345960" cy="844560"/>
          </a:xfrm>
          <a:prstGeom prst="upArrow">
            <a:avLst>
              <a:gd name="adj1" fmla="val 50000"/>
              <a:gd name="adj2" fmla="val 61030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rcRect l="0" t="0" r="0" b="10257"/>
          <a:stretch/>
        </p:blipFill>
        <p:spPr>
          <a:xfrm>
            <a:off x="5788080" y="4722840"/>
            <a:ext cx="1928880" cy="177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hese training materials have been prepared by Aspiration 
These materials are distributed under a Creative Commons license: Attribution-ShareAlike </dc:description>
  <dc:language>en-US</dc:language>
  <cp:lastModifiedBy/>
  <dcterms:modified xsi:type="dcterms:W3CDTF">2014-08-06T23:06:39Z</dcterms:modified>
  <cp:revision>1</cp:revision>
  <dc:subject/>
  <dc:title>Aspiration Online Campaign Tactics</dc:title>
</cp:coreProperties>
</file>