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29.jpeg" ContentType="image/jpeg"/>
  <Override PartName="/ppt/media/image10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28.jpeg" ContentType="image/jpeg"/>
  <Override PartName="/ppt/media/image7.jpeg" ContentType="image/jpeg"/>
  <Override PartName="/ppt/media/image9.png" ContentType="image/png"/>
  <Override PartName="/ppt/media/image30.jpeg" ContentType="image/jpeg"/>
  <Override PartName="/ppt/media/image3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2.png" ContentType="image/png"/>
  <Override PartName="/ppt/media/image25.jpeg" ContentType="image/jpeg"/>
  <Override PartName="/ppt/media/image1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4.jpeg" ContentType="image/jpe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licks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21</c:v>
                </c:pt>
                <c:pt idx="1">
                  <c:v>24</c:v>
                </c:pt>
                <c:pt idx="2">
                  <c:v>88</c:v>
                </c:pt>
                <c:pt idx="3">
                  <c:v>39</c:v>
                </c:pt>
              </c:numCache>
            </c:numRef>
          </c:val>
        </c:ser>
        <c:gapWidth val="100"/>
        <c:overlap val="0"/>
        <c:axId val="90445901"/>
        <c:axId val="65527708"/>
      </c:barChart>
      <c:catAx>
        <c:axId val="90445901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527708"/>
        <c:crosses val="autoZero"/>
        <c:auto val="1"/>
        <c:lblAlgn val="ctr"/>
        <c:lblOffset val="100"/>
        <c:noMultiLvlLbl val="0"/>
      </c:catAx>
      <c:valAx>
        <c:axId val="655277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4459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2640" y="694800"/>
            <a:ext cx="4568760" cy="34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dt" idx="1"/>
          </p:nvPr>
        </p:nvSpPr>
        <p:spPr>
          <a:xfrm>
            <a:off x="38811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868644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881160" y="868644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6B27FB-7694-45E9-84E3-E0D9BEF948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04" name=""/>
          <p:cNvSpPr/>
          <p:nvPr/>
        </p:nvSpPr>
        <p:spPr>
          <a:xfrm>
            <a:off x="685800" y="4343400"/>
            <a:ext cx="5470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" y="4343400"/>
            <a:ext cx="547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" y="4343400"/>
            <a:ext cx="547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4343400"/>
            <a:ext cx="547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5800" y="4343400"/>
            <a:ext cx="547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85800" y="4343400"/>
            <a:ext cx="547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18" name=""/>
          <p:cNvSpPr/>
          <p:nvPr/>
        </p:nvSpPr>
        <p:spPr>
          <a:xfrm>
            <a:off x="685800" y="4343400"/>
            <a:ext cx="5470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4343400"/>
            <a:ext cx="547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4343400"/>
            <a:ext cx="547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5800" y="4343400"/>
            <a:ext cx="547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4343400"/>
            <a:ext cx="547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4343400"/>
            <a:ext cx="547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4343400"/>
            <a:ext cx="547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4343400"/>
            <a:ext cx="547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4343400"/>
            <a:ext cx="547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4343400"/>
            <a:ext cx="547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95" name=""/>
          <p:cNvSpPr/>
          <p:nvPr/>
        </p:nvSpPr>
        <p:spPr>
          <a:xfrm>
            <a:off x="685800" y="4343400"/>
            <a:ext cx="5470560" cy="41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4343400"/>
            <a:ext cx="547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00" name=""/>
          <p:cNvSpPr/>
          <p:nvPr/>
        </p:nvSpPr>
        <p:spPr>
          <a:xfrm>
            <a:off x="685800" y="4343400"/>
            <a:ext cx="54705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" y="4343400"/>
            <a:ext cx="547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58482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35000" y="5051520"/>
            <a:ext cx="58482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35000" y="505152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831640" y="505152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12480" y="243216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89600" y="243216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35000" y="505152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12480" y="505152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789600" y="505152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835000" y="2432160"/>
            <a:ext cx="584820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584820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835000" y="848880"/>
            <a:ext cx="58482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835000" y="505152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35000" y="2432160"/>
            <a:ext cx="584820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831640" y="505152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835000" y="5051520"/>
            <a:ext cx="58482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58482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835000" y="5051520"/>
            <a:ext cx="58482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835000" y="505152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831640" y="505152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2480" y="243216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789600" y="243216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835000" y="505152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12480" y="505152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789600" y="505152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584820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35000" y="848880"/>
            <a:ext cx="58482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35000" y="505152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831640" y="505152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35000" y="5051520"/>
            <a:ext cx="58482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5400000">
            <a:off x="4809960" y="2564640"/>
            <a:ext cx="8226360" cy="536400"/>
          </a:xfrm>
          <a:prstGeom prst="rtTriangle">
            <a:avLst/>
          </a:prstGeom>
          <a:solidFill>
            <a:srgbClr val="346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1320" y="120600"/>
            <a:ext cx="752148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1680" y="1455840"/>
            <a:ext cx="851688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22200" indent="0">
              <a:lnSpc>
                <a:spcPct val="106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2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3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4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5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6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" name=""/>
          <p:cNvSpPr/>
          <p:nvPr/>
        </p:nvSpPr>
        <p:spPr>
          <a:xfrm>
            <a:off x="577800" y="6578640"/>
            <a:ext cx="21034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999999"/>
                </a:solidFill>
                <a:latin typeface="Khmer UI"/>
              </a:rPr>
              <a:t>info@aspirationtech.org</a:t>
            </a:r>
            <a:r>
              <a:rPr b="0" lang="en-US" sz="1400" spc="-1" strike="noStrike">
                <a:solidFill>
                  <a:srgbClr val="999999"/>
                </a:solidFill>
                <a:latin typeface="Khmer UI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018640" y="255600"/>
            <a:ext cx="998280" cy="4744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5985000" y="6573960"/>
            <a:ext cx="283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999999"/>
                </a:solidFill>
                <a:latin typeface="Khmer UI"/>
              </a:rPr>
              <a:t>www.aspirationtech.org/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 rot="5340000">
            <a:off x="-1114560" y="777600"/>
            <a:ext cx="5761080" cy="3840120"/>
          </a:xfrm>
          <a:prstGeom prst="rtTriangle">
            <a:avLst/>
          </a:prstGeom>
          <a:solidFill>
            <a:srgbClr val="346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7280" y="2925720"/>
            <a:ext cx="3657600" cy="3932280"/>
          </a:xfrm>
          <a:prstGeom prst="rtTriangle">
            <a:avLst/>
          </a:prstGeom>
          <a:solidFill>
            <a:srgbClr val="e6e6e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35000" y="2432160"/>
            <a:ext cx="584820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64000"/>
          </a:bodyPr>
          <a:p>
            <a:pPr marL="219240" indent="0" algn="ctr">
              <a:lnSpc>
                <a:spcPct val="99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Click to edit the outline text format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1" marL="219240" indent="-21924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Second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2" marL="219240" indent="-21924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Third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3" marL="219240" indent="-21924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Four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4" marL="219240" indent="-21924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Fif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5" marL="219240" indent="-21924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Six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6" marL="219240" indent="-21924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Seven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74680" y="5567400"/>
            <a:ext cx="2124000" cy="101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4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4.png"/><Relationship Id="rId5" Type="http://schemas.openxmlformats.org/officeDocument/2006/relationships/image" Target="../media/image17.png"/><Relationship Id="rId6" Type="http://schemas.openxmlformats.org/officeDocument/2006/relationships/image" Target="../media/image4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4.pn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2.png"/><Relationship Id="rId3" Type="http://schemas.openxmlformats.org/officeDocument/2006/relationships/image" Target="../media/image4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3.jpe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4.png"/><Relationship Id="rId5" Type="http://schemas.openxmlformats.org/officeDocument/2006/relationships/chart" Target="../charts/chart1.xml"/><Relationship Id="rId6" Type="http://schemas.openxmlformats.org/officeDocument/2006/relationships/slideLayout" Target="../slideLayouts/slideLayout4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4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4.png"/><Relationship Id="rId6" Type="http://schemas.openxmlformats.org/officeDocument/2006/relationships/image" Target="../media/image9.png"/><Relationship Id="rId7" Type="http://schemas.openxmlformats.org/officeDocument/2006/relationships/image" Target="../media/image29.jpe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aspirationtech.org/attribute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4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35360" y="758880"/>
            <a:ext cx="5851440" cy="13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ommunications Processe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35360" y="2432160"/>
            <a:ext cx="5851440" cy="2060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Tracking Online Analytics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3" name=""/>
          <p:cNvSpPr/>
          <p:nvPr/>
        </p:nvSpPr>
        <p:spPr>
          <a:xfrm>
            <a:off x="3033720" y="6129360"/>
            <a:ext cx="41148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  <a:ea typeface="Tahoma"/>
              </a:rPr>
              <a:t>These training materials have been prepared by Aspiration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497720" y="6199200"/>
            <a:ext cx="1371600" cy="476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664160" y="4206960"/>
            <a:ext cx="1763640" cy="17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Tracking Doc Exampl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35030" b="4980"/>
          <a:stretch/>
        </p:blipFill>
        <p:spPr>
          <a:xfrm>
            <a:off x="220680" y="2259000"/>
            <a:ext cx="5722920" cy="41418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389480" y="1920960"/>
            <a:ext cx="4524480" cy="174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20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Traffic Doc Exampl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4972" t="0" r="4972" b="4993"/>
          <a:stretch/>
        </p:blipFill>
        <p:spPr>
          <a:xfrm>
            <a:off x="512640" y="1627200"/>
            <a:ext cx="8266320" cy="2303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184400" y="3149640"/>
            <a:ext cx="5126040" cy="33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Tracking Doc Exampl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411200" y="1455840"/>
            <a:ext cx="6300720" cy="397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Tracking Doc Exampl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411200" y="1455840"/>
            <a:ext cx="6300720" cy="397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Analytics Tool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ebsite Analytic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Email Analytic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ocial Media Analytic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74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Web Sit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45240" cy="45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Web Sit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320" y="1312920"/>
            <a:ext cx="4157640" cy="53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22325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Tool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Many free tools out there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Google Analytics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  <a:p>
            <a:pPr lvl="2" marL="1362240" indent="-21924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hmer UI"/>
              </a:rPr>
              <a:t>Free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lvl="2" marL="1362240" indent="-21924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hmer UI"/>
              </a:rPr>
              <a:t>Stores visitor data on their servers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lvl="2" marL="1362240" indent="-21924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hmer UI"/>
              </a:rPr>
              <a:t>Incredible info w/some limitations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Urchin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Awstats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Piwik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7040" y="1347480"/>
            <a:ext cx="4157640" cy="4211640"/>
          </a:xfrm>
          <a:prstGeom prst="rect">
            <a:avLst/>
          </a:prstGeom>
          <a:solidFill>
            <a:srgbClr val="004586"/>
          </a:solidFill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56200"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  <a:ea typeface="Lucida Sans Unicode"/>
              </a:rPr>
              <a:t>Stats you can Track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Lucida Sans Unicode"/>
              </a:rPr>
              <a:t># Visitors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Lucida Sans Unicode"/>
              </a:rPr>
              <a:t># Bounces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Lucida Sans Unicode"/>
              </a:rPr>
              <a:t># Pageviews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Lucida Sans Unicode"/>
              </a:rPr>
              <a:t>Referring Sites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Lucida Sans Unicode"/>
              </a:rPr>
              <a:t>Search keywords used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Lucida Sans Unicode"/>
              </a:rPr>
              <a:t>Top landing/exit pages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Lucida Sans Unicode"/>
              </a:rPr>
              <a:t>Countries of Visitor Origin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Lucida Sans Unicode"/>
              </a:rPr>
              <a:t>Mobile devices used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Lucida Sans Unicode"/>
              </a:rPr>
              <a:t>and so much more…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Using Web Site Analytics 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680" y="1455480"/>
            <a:ext cx="8518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here are many things to track; What is your goal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Determining your audiences?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2" marL="1348560" indent="-21672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Start at your most popular pages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Figuring out if social media is driving your traffic?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2" marL="1348560" indent="-21672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Check out your referring sites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Just simply monitoring basic traffic trends?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2" marL="1348560" indent="-21672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Visitors, PageViews/Visitor, Referring Sites, Bounces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320" y="151920"/>
            <a:ext cx="8537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Email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265720" y="3710160"/>
            <a:ext cx="3424320" cy="24955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371600" y="830160"/>
            <a:ext cx="6032520" cy="2898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274680" y="4206960"/>
            <a:ext cx="4932360" cy="205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Email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533520" indent="-20772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Analytics come from your blasting software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13680" indent="-20772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Vertical Response, MailChimp, MyEmma, etc.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33520" indent="-20772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All should have ability to track: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13680" indent="-20772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Open Rates (Standard ~16%)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13680" indent="-20772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Click Rates (Standard ~3%)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13680" indent="-20772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Unsubscribes ( &lt;2% )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13680" indent="-20772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Bounces (hard &amp; soft)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Who is Aspiration?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455480"/>
            <a:ext cx="851832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Aspiration helps nonprofits and foundations use software tools more effectively and sustainably.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e serve as </a:t>
            </a:r>
            <a:r>
              <a:rPr b="1" lang="en-US" sz="3200" spc="-1" strike="noStrike">
                <a:solidFill>
                  <a:srgbClr val="000000"/>
                </a:solidFill>
                <a:latin typeface="Khmer UI"/>
              </a:rPr>
              <a:t>ally, coach, strategist, mentor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and</a:t>
            </a:r>
            <a:r>
              <a:rPr b="1" lang="en-US" sz="3200" spc="-1" strike="noStrike">
                <a:solidFill>
                  <a:srgbClr val="000000"/>
                </a:solidFill>
                <a:latin typeface="Khmer UI"/>
              </a:rPr>
              <a:t> facilitator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to those trying to make more impactful use of information technology in their social change efforts.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ww.aspirationtech.org/service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Using Email Analytic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1680" y="1060560"/>
            <a:ext cx="8518320" cy="54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56200" indent="-216360">
              <a:lnSpc>
                <a:spcPct val="106000"/>
              </a:lnSpc>
              <a:spcBef>
                <a:spcPts val="799"/>
              </a:spcBef>
              <a:buSzPct val="122325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Subject Line Optimization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A/B Testing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What gets the most opens?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22325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Message Content Optimization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What gets the most clicks?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22325"/>
              <a:buBlip>
                <a:blip r:embed="rId6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Segmentation after Sign-Up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Those who clicked on this get this email in the future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Those who clicked on that get that email in the future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22325"/>
              <a:buBlip>
                <a:blip r:embed="rId9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Determining proper pacing for messaging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Pay attention to jumps in unsubscribe rates to determine your spamming potential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320" y="76320"/>
            <a:ext cx="85201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Twitter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62120" y="1022400"/>
            <a:ext cx="7467480" cy="483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Twitter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240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marL="455040" indent="-177120">
              <a:lnSpc>
                <a:spcPct val="106000"/>
              </a:lnSpc>
              <a:spcBef>
                <a:spcPts val="799"/>
              </a:spcBef>
              <a:buSzPct val="131640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Now Built-in Analytics :)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1" marL="779040" indent="-177120">
              <a:lnSpc>
                <a:spcPct val="108000"/>
              </a:lnSpc>
              <a:spcBef>
                <a:spcPts val="700"/>
              </a:spcBef>
              <a:buSzPct val="101804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Khmer UI"/>
              </a:rPr>
              <a:t>analytics.twitter.com</a:t>
            </a:r>
            <a:endParaRPr b="0" lang="en-US" sz="2200" spc="-1" strike="noStrike">
              <a:solidFill>
                <a:srgbClr val="000000"/>
              </a:solidFill>
              <a:latin typeface="Khmer UI"/>
            </a:endParaRPr>
          </a:p>
          <a:p>
            <a:pPr marL="455040" indent="-177120">
              <a:lnSpc>
                <a:spcPct val="106000"/>
              </a:lnSpc>
              <a:spcBef>
                <a:spcPts val="799"/>
              </a:spcBef>
              <a:buSzPct val="131640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There are ways to track interaction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1" marL="779040" indent="-177120">
              <a:lnSpc>
                <a:spcPct val="108000"/>
              </a:lnSpc>
              <a:spcBef>
                <a:spcPts val="700"/>
              </a:spcBef>
              <a:buSzPct val="101804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Khmer UI"/>
              </a:rPr>
              <a:t>Followers</a:t>
            </a:r>
            <a:endParaRPr b="0" lang="en-US" sz="2200" spc="-1" strike="noStrike">
              <a:solidFill>
                <a:srgbClr val="000000"/>
              </a:solidFill>
              <a:latin typeface="Khmer UI"/>
            </a:endParaRPr>
          </a:p>
          <a:p>
            <a:pPr lvl="1" marL="779040" indent="-177120">
              <a:lnSpc>
                <a:spcPct val="108000"/>
              </a:lnSpc>
              <a:spcBef>
                <a:spcPts val="700"/>
              </a:spcBef>
              <a:buSzPct val="101804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Khmer UI"/>
              </a:rPr>
              <a:t>Retweets</a:t>
            </a:r>
            <a:endParaRPr b="0" lang="en-US" sz="2200" spc="-1" strike="noStrike">
              <a:solidFill>
                <a:srgbClr val="000000"/>
              </a:solidFill>
              <a:latin typeface="Khmer UI"/>
            </a:endParaRPr>
          </a:p>
          <a:p>
            <a:pPr lvl="1" marL="779040" indent="-177120">
              <a:lnSpc>
                <a:spcPct val="108000"/>
              </a:lnSpc>
              <a:spcBef>
                <a:spcPts val="700"/>
              </a:spcBef>
              <a:buSzPct val="101804"/>
              <a:buBlip>
                <a:blip r:embed="rId6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Khmer UI"/>
              </a:rPr>
              <a:t>@ Mentions</a:t>
            </a:r>
            <a:endParaRPr b="0" lang="en-US" sz="2200" spc="-1" strike="noStrike">
              <a:solidFill>
                <a:srgbClr val="000000"/>
              </a:solidFill>
              <a:latin typeface="Khmer UI"/>
            </a:endParaRPr>
          </a:p>
          <a:p>
            <a:pPr lvl="1" marL="779040" indent="-177120">
              <a:lnSpc>
                <a:spcPct val="108000"/>
              </a:lnSpc>
              <a:spcBef>
                <a:spcPts val="700"/>
              </a:spcBef>
              <a:buSzPct val="101804"/>
              <a:buBlip>
                <a:blip r:embed="rId7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Khmer UI"/>
              </a:rPr>
              <a:t>Use of your hashtag</a:t>
            </a:r>
            <a:endParaRPr b="0" lang="en-US" sz="2200" spc="-1" strike="noStrike">
              <a:solidFill>
                <a:srgbClr val="000000"/>
              </a:solidFill>
              <a:latin typeface="Khmer UI"/>
            </a:endParaRPr>
          </a:p>
          <a:p>
            <a:pPr lvl="1" marL="779040" indent="-177120">
              <a:lnSpc>
                <a:spcPct val="108000"/>
              </a:lnSpc>
              <a:spcBef>
                <a:spcPts val="700"/>
              </a:spcBef>
              <a:buSzPct val="101804"/>
              <a:buBlip>
                <a:blip r:embed="rId8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Khmer UI"/>
              </a:rPr>
              <a:t>Outside Services</a:t>
            </a:r>
            <a:endParaRPr b="0" lang="en-US" sz="2200" spc="-1" strike="noStrike">
              <a:solidFill>
                <a:srgbClr val="000000"/>
              </a:solidFill>
              <a:latin typeface="Khmer UI"/>
            </a:endParaRPr>
          </a:p>
          <a:p>
            <a:pPr lvl="2" marL="1103400" indent="-17748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hmer UI"/>
              </a:rPr>
              <a:t>URL shorteners (e.g. Bit.ly)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lvl="2" marL="1103400" indent="-17748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hmer UI"/>
              </a:rPr>
              <a:t>commun.it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lvl="2" marL="1103400" indent="-17748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hmer UI"/>
              </a:rPr>
              <a:t>Klout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9"/>
          <a:stretch/>
        </p:blipFill>
        <p:spPr>
          <a:xfrm>
            <a:off x="4438800" y="2925720"/>
            <a:ext cx="415764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74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Using Twitter Analytic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95200" y="3244680"/>
            <a:ext cx="5373720" cy="31561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047600" y="1335240"/>
            <a:ext cx="6083280" cy="20476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6583320" y="1790640"/>
            <a:ext cx="2168640" cy="433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Using Twitter Analytic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1320" y="1455480"/>
            <a:ext cx="4157640" cy="50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22325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Message Optimization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What content gets most clicks, retweets?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What time of day gets most clicks, retweets?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22325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Determining proper pacing for messaging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0">
              <a:lnSpc>
                <a:spcPct val="108000"/>
              </a:lnSpc>
              <a:spcBef>
                <a:spcPts val="700"/>
              </a:spcBef>
              <a:buNone/>
              <a:tabLst>
                <a:tab algn="l" pos="0"/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846680" y="1455840"/>
          <a:ext cx="4157640" cy="3978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5"/>
          </a:graphicData>
        </a:graphic>
      </p:graphicFrame>
      <p:sp>
        <p:nvSpPr>
          <p:cNvPr id="165" name=""/>
          <p:cNvSpPr/>
          <p:nvPr/>
        </p:nvSpPr>
        <p:spPr>
          <a:xfrm>
            <a:off x="7513560" y="2408400"/>
            <a:ext cx="990720" cy="1066680"/>
          </a:xfrm>
          <a:prstGeom prst="downArrowCallout">
            <a:avLst>
              <a:gd name="adj1" fmla="val 25002"/>
              <a:gd name="adj2" fmla="val 25000"/>
              <a:gd name="adj3" fmla="val 17945"/>
              <a:gd name="adj4" fmla="val 66667"/>
            </a:avLst>
          </a:prstGeom>
          <a:solidFill>
            <a:srgbClr val="cc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4pm Su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10080" y="1965240"/>
            <a:ext cx="1447920" cy="685800"/>
          </a:xfrm>
          <a:prstGeom prst="rightArrowCallout">
            <a:avLst>
              <a:gd name="adj1" fmla="val 25002"/>
              <a:gd name="adj2" fmla="val 25000"/>
              <a:gd name="adj3" fmla="val 35188"/>
              <a:gd name="adj4" fmla="val 66667"/>
            </a:avLst>
          </a:prstGeom>
          <a:solidFill>
            <a:srgbClr val="cc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4pm Sa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05520" y="2971800"/>
            <a:ext cx="990720" cy="990720"/>
          </a:xfrm>
          <a:prstGeom prst="downArrowCallout">
            <a:avLst>
              <a:gd name="adj1" fmla="val 25002"/>
              <a:gd name="adj2" fmla="val 25000"/>
              <a:gd name="adj3" fmla="val 16667"/>
              <a:gd name="adj4" fmla="val 66667"/>
            </a:avLst>
          </a:prstGeom>
          <a:solidFill>
            <a:srgbClr val="cc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10am Fr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37040" y="3200400"/>
            <a:ext cx="990720" cy="990720"/>
          </a:xfrm>
          <a:prstGeom prst="downArrowCallout">
            <a:avLst>
              <a:gd name="adj1" fmla="val 25002"/>
              <a:gd name="adj2" fmla="val 25000"/>
              <a:gd name="adj3" fmla="val 16667"/>
              <a:gd name="adj4" fmla="val 66667"/>
            </a:avLst>
          </a:prstGeom>
          <a:solidFill>
            <a:srgbClr val="cc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2pm Th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7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Facebook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92160" y="1371600"/>
            <a:ext cx="8794800" cy="45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Facebook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320" y="1455840"/>
            <a:ext cx="4157640" cy="21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Facebook PAGES have “Insights”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Groups do not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Profiles do not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30320" y="1455480"/>
            <a:ext cx="4157640" cy="4211640"/>
          </a:xfrm>
          <a:prstGeom prst="rect">
            <a:avLst/>
          </a:prstGeom>
          <a:solidFill>
            <a:srgbClr val="004586"/>
          </a:solidFill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56200"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  <a:ea typeface="Lucida Sans Unicode"/>
              </a:rPr>
              <a:t>Stats you can Track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Lucida Sans Unicode"/>
              </a:rPr>
              <a:t># Likes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Lucida Sans Unicode"/>
              </a:rPr>
              <a:t># Post Views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Lucida Sans Unicode"/>
              </a:rPr>
              <a:t># Active Users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Lucida Sans Unicode"/>
              </a:rPr>
              <a:t>Demographics (e.g. Age)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Lucida Sans Unicode"/>
              </a:rPr>
              <a:t># Reach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Lucida Sans Unicode"/>
              </a:rPr>
              <a:t>Media Consumption (type)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Lucida Sans Unicode"/>
              </a:rPr>
              <a:t>Post Impressions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Lucida Sans Unicode"/>
              </a:rPr>
              <a:t>Post Feedback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Lucida Sans Unicode"/>
              </a:rPr>
              <a:t>and so much more…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274680" y="3648240"/>
            <a:ext cx="5076720" cy="27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Using Facebook Analytic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22325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Message Optimization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What content gets most interaction?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What content gets most impressions?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Country or Language-specific statuses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22325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Determining your audienc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Facebook has amazing demographic information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7"/>
          <a:stretch/>
        </p:blipFill>
        <p:spPr>
          <a:xfrm>
            <a:off x="731880" y="4664160"/>
            <a:ext cx="6408720" cy="231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Social Media Dashboard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22325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Your real-time window into your mentions onlin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63400" y="2289240"/>
            <a:ext cx="7848720" cy="383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Workflow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1680" y="1239840"/>
            <a:ext cx="8518320" cy="52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end Action Alert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Go through Pub Matrix and send according to message calendar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After action time period complete, check out analytic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2" marL="1362240" indent="-21924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Use Dashboard to SEE the content that corresponds with the #s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Fill in analytics doc to compare to past messaging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2" marL="1362240" indent="-21924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Adjust publishing matrix, message calendar accordingly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Learning Goal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533520" indent="-20772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ee the tools that provide you with analytics for your messaging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33520" indent="-20772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Get introduced to the statistics different online channels can provide about your messaging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33520" indent="-20772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Learn about ways in which to use analytics to improve your online messaging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Section Summary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516960" indent="-2012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hat are your goals for these channels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884880" indent="-2012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Identifying them clears up the utility of analytic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16960" indent="-2012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Use a document to track stats over time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884880" indent="-2012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A simple spreadsheet works fin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16960" indent="-2012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tart small. Iterate up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16960" indent="-2012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6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Make small changes to messaging over time to take advantage of what analytic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16960"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ell you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550440" indent="-21420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0440"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0440" indent="-21420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omments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0440"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0440" indent="-21420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pecial Thanks to Monica Ruck for sharing her analytics knowledge and passion.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906640" y="632880"/>
            <a:ext cx="6034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540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Use, Modify &amp; Attribut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835360" y="2034720"/>
            <a:ext cx="585000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Khmer UI"/>
                <a:hlinkClick r:id="rId1"/>
              </a:rPr>
              <a:t>www.aspirationtech.org/attribut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Aspiration distributes these materials under 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Creative Commons Attribution-ShareAlike licen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  <a:ea typeface="ArialMT"/>
              </a:rPr>
              <a:t>We encourage re-use, modification, and re-distribution in any situation where they may be useful.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We love to hear about how you are improving and remixing what we've done.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Questions? Email us info@aspirationtech.org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19040" y="1006560"/>
            <a:ext cx="1828800" cy="63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835360" y="848880"/>
            <a:ext cx="5850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540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ontact U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835360" y="2431800"/>
            <a:ext cx="5850000" cy="21430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aspirationtech.org/training/support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info@aspirationtech.org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+1-415-839-6456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400" y="142920"/>
            <a:ext cx="822780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Four Processe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20680" y="1455840"/>
            <a:ext cx="1843200" cy="1809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807160" y="1433520"/>
            <a:ext cx="1842840" cy="17971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892080" y="1184400"/>
            <a:ext cx="24256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dience Assess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907240" y="3967200"/>
            <a:ext cx="20430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ssage Calend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95360" y="3894120"/>
            <a:ext cx="208116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cking &amp; Metr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69000" y="1204920"/>
            <a:ext cx="1992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blishing Matr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62360" y="2038320"/>
            <a:ext cx="1557360" cy="446040"/>
          </a:xfrm>
          <a:prstGeom prst="rightArrow">
            <a:avLst>
              <a:gd name="adj1" fmla="val 50000"/>
              <a:gd name="adj2" fmla="val 87288"/>
            </a:avLst>
          </a:prstGeom>
          <a:solidFill>
            <a:srgbClr val="b8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699240" y="3073320"/>
            <a:ext cx="357120" cy="806400"/>
          </a:xfrm>
          <a:prstGeom prst="downArrow">
            <a:avLst>
              <a:gd name="adj1" fmla="val 50000"/>
              <a:gd name="adj2" fmla="val 56452"/>
            </a:avLst>
          </a:prstGeom>
          <a:solidFill>
            <a:srgbClr val="b8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98720" y="4967280"/>
            <a:ext cx="1567080" cy="455760"/>
          </a:xfrm>
          <a:prstGeom prst="leftArrow">
            <a:avLst>
              <a:gd name="adj1" fmla="val 50000"/>
              <a:gd name="adj2" fmla="val 85960"/>
            </a:avLst>
          </a:prstGeom>
          <a:solidFill>
            <a:srgbClr val="b8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43280" y="3016080"/>
            <a:ext cx="345960" cy="844560"/>
          </a:xfrm>
          <a:prstGeom prst="upArrow">
            <a:avLst>
              <a:gd name="adj1" fmla="val 50000"/>
              <a:gd name="adj2" fmla="val 61030"/>
            </a:avLst>
          </a:prstGeom>
          <a:solidFill>
            <a:srgbClr val="b8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5788080" y="4437000"/>
            <a:ext cx="1928880" cy="1986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1463760" y="4454640"/>
            <a:ext cx="1763640" cy="17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Analytics Overview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1455480"/>
            <a:ext cx="8518320" cy="43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545040" indent="-2120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Attached to measurable goals, analytics are your thermometer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Make sure you know what goal the data is speaking to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45040" indent="-2120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Helps determine what value you’re providing to whom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45040" indent="-2120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racking is key!!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Trends more important than isolated number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Goal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racking analytics related to measurable goals is key.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Makes the #s mean something, makes tracking them worth your tim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Helps you to evaluate and adjust communications and programmatic work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Example Goal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1680" y="1023480"/>
            <a:ext cx="8518320" cy="39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22325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Issue: Opposition to police surveillance center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22325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Audience: 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Residents of Oakland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Bay area residents concerned with privacy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Anyone concerned about “Big Brother”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89000" y="3711600"/>
          <a:ext cx="8517960" cy="3015720"/>
        </p:xfrm>
        <a:graphic>
          <a:graphicData uri="http://schemas.openxmlformats.org/drawingml/2006/table">
            <a:tbl>
              <a:tblPr/>
              <a:tblGrid>
                <a:gridCol w="2127240"/>
                <a:gridCol w="2150280"/>
                <a:gridCol w="2149560"/>
                <a:gridCol w="2090880"/>
              </a:tblGrid>
              <a:tr h="1053720">
                <a:tc>
                  <a:txBody>
                    <a:bodyPr lIns="54720" rIns="54720" tIns="199080" bIns="54720" anchor="ctr">
                      <a:noAutofit/>
                    </a:bodyPr>
                    <a:p>
                      <a:pPr marL="228600" algn="ctr">
                        <a:lnSpc>
                          <a:spcPct val="101000"/>
                        </a:lnSpc>
                        <a:tabLst>
                          <a:tab algn="l" pos="0"/>
                          <a:tab algn="l" pos="228600"/>
                          <a:tab algn="l" pos="685800"/>
                          <a:tab algn="l" pos="1143000"/>
                          <a:tab algn="l" pos="1600200"/>
                          <a:tab algn="l" pos="2057400"/>
                          <a:tab algn="l" pos="2514600"/>
                          <a:tab algn="l" pos="2971800"/>
                          <a:tab algn="l" pos="3429000"/>
                          <a:tab algn="l" pos="3886200"/>
                          <a:tab algn="l" pos="4343400"/>
                          <a:tab algn="l" pos="4800600"/>
                          <a:tab algn="l" pos="5257800"/>
                          <a:tab algn="l" pos="5715000"/>
                          <a:tab algn="l" pos="6172200"/>
                          <a:tab algn="l" pos="6629400"/>
                          <a:tab algn="l" pos="7086600"/>
                          <a:tab algn="l" pos="7543800"/>
                          <a:tab algn="l" pos="8001000"/>
                          <a:tab algn="l" pos="8458200"/>
                          <a:tab algn="l" pos="8915400"/>
                          <a:tab algn="l" pos="93726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o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54720" rIns="54720" tIns="199080" bIns="54720" anchor="ctr">
                      <a:noAutofit/>
                    </a:bodyPr>
                    <a:p>
                      <a:pPr marL="228600" algn="ctr">
                        <a:lnSpc>
                          <a:spcPct val="101000"/>
                        </a:lnSpc>
                        <a:tabLst>
                          <a:tab algn="l" pos="0"/>
                          <a:tab algn="l" pos="228600"/>
                          <a:tab algn="l" pos="685800"/>
                          <a:tab algn="l" pos="1143000"/>
                          <a:tab algn="l" pos="1600200"/>
                          <a:tab algn="l" pos="2057400"/>
                          <a:tab algn="l" pos="2514600"/>
                          <a:tab algn="l" pos="2971800"/>
                          <a:tab algn="l" pos="3429000"/>
                          <a:tab algn="l" pos="3886200"/>
                          <a:tab algn="l" pos="4343400"/>
                          <a:tab algn="l" pos="4800600"/>
                          <a:tab algn="l" pos="5257800"/>
                          <a:tab algn="l" pos="5715000"/>
                          <a:tab algn="l" pos="6172200"/>
                          <a:tab algn="l" pos="6629400"/>
                          <a:tab algn="l" pos="7086600"/>
                          <a:tab algn="l" pos="7543800"/>
                          <a:tab algn="l" pos="8001000"/>
                          <a:tab algn="l" pos="8458200"/>
                          <a:tab algn="l" pos="8915400"/>
                          <a:tab algn="l" pos="93726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asurabi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54720" rIns="54720" tIns="199080" bIns="54720" anchor="ctr">
                      <a:noAutofit/>
                    </a:bodyPr>
                    <a:p>
                      <a:pPr marL="228600" algn="ctr">
                        <a:lnSpc>
                          <a:spcPct val="101000"/>
                        </a:lnSpc>
                        <a:tabLst>
                          <a:tab algn="l" pos="0"/>
                          <a:tab algn="l" pos="228600"/>
                          <a:tab algn="l" pos="685800"/>
                          <a:tab algn="l" pos="1143000"/>
                          <a:tab algn="l" pos="1600200"/>
                          <a:tab algn="l" pos="2057400"/>
                          <a:tab algn="l" pos="2514600"/>
                          <a:tab algn="l" pos="2971800"/>
                          <a:tab algn="l" pos="3429000"/>
                          <a:tab algn="l" pos="3886200"/>
                          <a:tab algn="l" pos="4343400"/>
                          <a:tab algn="l" pos="4800600"/>
                          <a:tab algn="l" pos="5257800"/>
                          <a:tab algn="l" pos="5715000"/>
                          <a:tab algn="l" pos="6172200"/>
                          <a:tab algn="l" pos="6629400"/>
                          <a:tab algn="l" pos="7086600"/>
                          <a:tab algn="l" pos="7543800"/>
                          <a:tab algn="l" pos="8001000"/>
                          <a:tab algn="l" pos="8458200"/>
                          <a:tab algn="l" pos="8915400"/>
                          <a:tab algn="l" pos="93726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at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es success look lik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54720" rIns="54720" tIns="199080" bIns="54720" anchor="ctr">
                      <a:noAutofit/>
                    </a:bodyPr>
                    <a:p>
                      <a:pPr marL="228600" algn="ctr">
                        <a:lnSpc>
                          <a:spcPct val="101000"/>
                        </a:lnSpc>
                        <a:tabLst>
                          <a:tab algn="l" pos="0"/>
                          <a:tab algn="l" pos="228600"/>
                          <a:tab algn="l" pos="685800"/>
                          <a:tab algn="l" pos="1143000"/>
                          <a:tab algn="l" pos="1600200"/>
                          <a:tab algn="l" pos="2057400"/>
                          <a:tab algn="l" pos="2514600"/>
                          <a:tab algn="l" pos="2971800"/>
                          <a:tab algn="l" pos="3429000"/>
                          <a:tab algn="l" pos="3886200"/>
                          <a:tab algn="l" pos="4343400"/>
                          <a:tab algn="l" pos="4800600"/>
                          <a:tab algn="l" pos="5257800"/>
                          <a:tab algn="l" pos="5715000"/>
                          <a:tab algn="l" pos="6172200"/>
                          <a:tab algn="l" pos="6629400"/>
                          <a:tab algn="l" pos="7086600"/>
                          <a:tab algn="l" pos="7543800"/>
                          <a:tab algn="l" pos="8001000"/>
                          <a:tab algn="l" pos="8458200"/>
                          <a:tab algn="l" pos="8915400"/>
                          <a:tab algn="l" pos="93726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o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7b8b8"/>
                    </a:solidFill>
                  </a:tcPr>
                </a:tc>
              </a:tr>
              <a:tr h="2224080">
                <a:tc>
                  <a:txBody>
                    <a:bodyPr lIns="54720" rIns="54720" tIns="84240" bIns="5472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crease attendees at “awareness action” through online effor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3caff"/>
                    </a:solidFill>
                  </a:tcPr>
                </a:tc>
                <a:tc>
                  <a:txBody>
                    <a:bodyPr lIns="54720" rIns="54720" tIns="84240" bIns="54720" anchor="ctr">
                      <a:noAutofit/>
                    </a:bodyPr>
                    <a:p>
                      <a:pPr marL="228600">
                        <a:lnSpc>
                          <a:spcPct val="101000"/>
                        </a:lnSpc>
                        <a:tabLst>
                          <a:tab algn="l" pos="0"/>
                          <a:tab algn="l" pos="228600"/>
                          <a:tab algn="l" pos="685800"/>
                          <a:tab algn="l" pos="1143000"/>
                          <a:tab algn="l" pos="1600200"/>
                          <a:tab algn="l" pos="2057400"/>
                          <a:tab algn="l" pos="2514600"/>
                          <a:tab algn="l" pos="2971800"/>
                          <a:tab algn="l" pos="3429000"/>
                          <a:tab algn="l" pos="3886200"/>
                          <a:tab algn="l" pos="4343400"/>
                          <a:tab algn="l" pos="4800600"/>
                          <a:tab algn="l" pos="5257800"/>
                          <a:tab algn="l" pos="5715000"/>
                          <a:tab algn="l" pos="6172200"/>
                          <a:tab algn="l" pos="6629400"/>
                          <a:tab algn="l" pos="7086600"/>
                          <a:tab algn="l" pos="7543800"/>
                          <a:tab algn="l" pos="8001000"/>
                          <a:tab algn="l" pos="8458200"/>
                          <a:tab algn="l" pos="8915400"/>
                          <a:tab algn="l" pos="93726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228600"/>
                          <a:tab algn="l" pos="685800"/>
                          <a:tab algn="l" pos="1143000"/>
                          <a:tab algn="l" pos="1600200"/>
                          <a:tab algn="l" pos="2057400"/>
                          <a:tab algn="l" pos="2514600"/>
                          <a:tab algn="l" pos="2971800"/>
                          <a:tab algn="l" pos="3429000"/>
                          <a:tab algn="l" pos="3886200"/>
                          <a:tab algn="l" pos="4343400"/>
                          <a:tab algn="l" pos="4800600"/>
                          <a:tab algn="l" pos="5257800"/>
                          <a:tab algn="l" pos="5715000"/>
                          <a:tab algn="l" pos="6172200"/>
                          <a:tab algn="l" pos="6629400"/>
                          <a:tab algn="l" pos="7086600"/>
                          <a:tab algn="l" pos="7543800"/>
                          <a:tab algn="l" pos="8001000"/>
                          <a:tab algn="l" pos="8458200"/>
                          <a:tab algn="l" pos="8915400"/>
                          <a:tab algn="l" pos="93726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228600"/>
                          <a:tab algn="l" pos="685800"/>
                          <a:tab algn="l" pos="1143000"/>
                          <a:tab algn="l" pos="1600200"/>
                          <a:tab algn="l" pos="2057400"/>
                          <a:tab algn="l" pos="2514600"/>
                          <a:tab algn="l" pos="2971800"/>
                          <a:tab algn="l" pos="3429000"/>
                          <a:tab algn="l" pos="3886200"/>
                          <a:tab algn="l" pos="4343400"/>
                          <a:tab algn="l" pos="4800600"/>
                          <a:tab algn="l" pos="5257800"/>
                          <a:tab algn="l" pos="5715000"/>
                          <a:tab algn="l" pos="6172200"/>
                          <a:tab algn="l" pos="6629400"/>
                          <a:tab algn="l" pos="7086600"/>
                          <a:tab algn="l" pos="7543800"/>
                          <a:tab algn="l" pos="8001000"/>
                          <a:tab algn="l" pos="8458200"/>
                          <a:tab algn="l" pos="8915400"/>
                          <a:tab algn="l" pos="93726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pare this month's attendance to last month'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11000"/>
                        </a:lnSpc>
                        <a:tabLst>
                          <a:tab algn="l" pos="0"/>
                          <a:tab algn="l" pos="228600"/>
                          <a:tab algn="l" pos="685800"/>
                          <a:tab algn="l" pos="1143000"/>
                          <a:tab algn="l" pos="1600200"/>
                          <a:tab algn="l" pos="2057400"/>
                          <a:tab algn="l" pos="2514600"/>
                          <a:tab algn="l" pos="2971800"/>
                          <a:tab algn="l" pos="3429000"/>
                          <a:tab algn="l" pos="3886200"/>
                          <a:tab algn="l" pos="4343400"/>
                          <a:tab algn="l" pos="4800600"/>
                          <a:tab algn="l" pos="5257800"/>
                          <a:tab algn="l" pos="5715000"/>
                          <a:tab algn="l" pos="6172200"/>
                          <a:tab algn="l" pos="6629400"/>
                          <a:tab algn="l" pos="7086600"/>
                          <a:tab algn="l" pos="7543800"/>
                          <a:tab algn="l" pos="8001000"/>
                          <a:tab algn="l" pos="8458200"/>
                          <a:tab algn="l" pos="8915400"/>
                          <a:tab algn="l" pos="93726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11000"/>
                        </a:lnSpc>
                        <a:tabLst>
                          <a:tab algn="l" pos="0"/>
                          <a:tab algn="l" pos="228600"/>
                          <a:tab algn="l" pos="685800"/>
                          <a:tab algn="l" pos="1143000"/>
                          <a:tab algn="l" pos="1600200"/>
                          <a:tab algn="l" pos="2057400"/>
                          <a:tab algn="l" pos="2514600"/>
                          <a:tab algn="l" pos="2971800"/>
                          <a:tab algn="l" pos="3429000"/>
                          <a:tab algn="l" pos="3886200"/>
                          <a:tab algn="l" pos="4343400"/>
                          <a:tab algn="l" pos="4800600"/>
                          <a:tab algn="l" pos="5257800"/>
                          <a:tab algn="l" pos="5715000"/>
                          <a:tab algn="l" pos="6172200"/>
                          <a:tab algn="l" pos="6629400"/>
                          <a:tab algn="l" pos="7086600"/>
                          <a:tab algn="l" pos="7543800"/>
                          <a:tab algn="l" pos="8001000"/>
                          <a:tab algn="l" pos="8458200"/>
                          <a:tab algn="l" pos="8915400"/>
                          <a:tab algn="l" pos="93726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3caff"/>
                    </a:solidFill>
                  </a:tcPr>
                </a:tc>
                <a:tc>
                  <a:txBody>
                    <a:bodyPr lIns="54720" rIns="54720" tIns="84240" bIns="54720" anchor="ctr">
                      <a:noAutofit/>
                    </a:bodyPr>
                    <a:p>
                      <a:pPr marL="228600" algn="ctr">
                        <a:lnSpc>
                          <a:spcPct val="101000"/>
                        </a:lnSpc>
                        <a:tabLst>
                          <a:tab algn="l" pos="0"/>
                          <a:tab algn="l" pos="228600"/>
                          <a:tab algn="l" pos="685800"/>
                          <a:tab algn="l" pos="1143000"/>
                          <a:tab algn="l" pos="1600200"/>
                          <a:tab algn="l" pos="2057400"/>
                          <a:tab algn="l" pos="2514600"/>
                          <a:tab algn="l" pos="2971800"/>
                          <a:tab algn="l" pos="3429000"/>
                          <a:tab algn="l" pos="3886200"/>
                          <a:tab algn="l" pos="4343400"/>
                          <a:tab algn="l" pos="4800600"/>
                          <a:tab algn="l" pos="5257800"/>
                          <a:tab algn="l" pos="5715000"/>
                          <a:tab algn="l" pos="6172200"/>
                          <a:tab algn="l" pos="6629400"/>
                          <a:tab algn="l" pos="7086600"/>
                          <a:tab algn="l" pos="7543800"/>
                          <a:tab algn="l" pos="8001000"/>
                          <a:tab algn="l" pos="8458200"/>
                          <a:tab algn="l" pos="8915400"/>
                          <a:tab algn="l" pos="93726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% increase in attend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3caff"/>
                    </a:solidFill>
                  </a:tcPr>
                </a:tc>
                <a:tc>
                  <a:txBody>
                    <a:bodyPr lIns="54720" rIns="54720" tIns="84240" bIns="54720" anchor="ctr">
                      <a:noAutofit/>
                    </a:bodyPr>
                    <a:p>
                      <a:pPr marL="228600">
                        <a:lnSpc>
                          <a:spcPct val="101000"/>
                        </a:lnSpc>
                        <a:tabLst>
                          <a:tab algn="l" pos="0"/>
                          <a:tab algn="l" pos="228600"/>
                          <a:tab algn="l" pos="685800"/>
                          <a:tab algn="l" pos="1143000"/>
                          <a:tab algn="l" pos="1600200"/>
                          <a:tab algn="l" pos="2057400"/>
                          <a:tab algn="l" pos="2514600"/>
                          <a:tab algn="l" pos="2971800"/>
                          <a:tab algn="l" pos="3429000"/>
                          <a:tab algn="l" pos="3886200"/>
                          <a:tab algn="l" pos="4343400"/>
                          <a:tab algn="l" pos="4800600"/>
                          <a:tab algn="l" pos="5257800"/>
                          <a:tab algn="l" pos="5715000"/>
                          <a:tab algn="l" pos="6172200"/>
                          <a:tab algn="l" pos="6629400"/>
                          <a:tab algn="l" pos="7086600"/>
                          <a:tab algn="l" pos="7543800"/>
                          <a:tab algn="l" pos="8001000"/>
                          <a:tab algn="l" pos="8458200"/>
                          <a:tab algn="l" pos="8915400"/>
                          <a:tab algn="l" pos="93726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mail Bla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11000"/>
                        </a:lnSpc>
                        <a:tabLst>
                          <a:tab algn="l" pos="0"/>
                          <a:tab algn="l" pos="228600"/>
                          <a:tab algn="l" pos="685800"/>
                          <a:tab algn="l" pos="1143000"/>
                          <a:tab algn="l" pos="1600200"/>
                          <a:tab algn="l" pos="2057400"/>
                          <a:tab algn="l" pos="2514600"/>
                          <a:tab algn="l" pos="2971800"/>
                          <a:tab algn="l" pos="3429000"/>
                          <a:tab algn="l" pos="3886200"/>
                          <a:tab algn="l" pos="4343400"/>
                          <a:tab algn="l" pos="4800600"/>
                          <a:tab algn="l" pos="5257800"/>
                          <a:tab algn="l" pos="5715000"/>
                          <a:tab algn="l" pos="6172200"/>
                          <a:tab algn="l" pos="6629400"/>
                          <a:tab algn="l" pos="7086600"/>
                          <a:tab algn="l" pos="7543800"/>
                          <a:tab algn="l" pos="8001000"/>
                          <a:tab algn="l" pos="8458200"/>
                          <a:tab algn="l" pos="8915400"/>
                          <a:tab algn="l" pos="93726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11000"/>
                        </a:lnSpc>
                        <a:tabLst>
                          <a:tab algn="l" pos="0"/>
                          <a:tab algn="l" pos="228600"/>
                          <a:tab algn="l" pos="685800"/>
                          <a:tab algn="l" pos="1143000"/>
                          <a:tab algn="l" pos="1600200"/>
                          <a:tab algn="l" pos="2057400"/>
                          <a:tab algn="l" pos="2514600"/>
                          <a:tab algn="l" pos="2971800"/>
                          <a:tab algn="l" pos="3429000"/>
                          <a:tab algn="l" pos="3886200"/>
                          <a:tab algn="l" pos="4343400"/>
                          <a:tab algn="l" pos="4800600"/>
                          <a:tab algn="l" pos="5257800"/>
                          <a:tab algn="l" pos="5715000"/>
                          <a:tab algn="l" pos="6172200"/>
                          <a:tab algn="l" pos="6629400"/>
                          <a:tab algn="l" pos="7086600"/>
                          <a:tab algn="l" pos="7543800"/>
                          <a:tab algn="l" pos="8001000"/>
                          <a:tab algn="l" pos="8458200"/>
                          <a:tab algn="l" pos="8915400"/>
                          <a:tab algn="l" pos="93726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x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11000"/>
                        </a:lnSpc>
                        <a:tabLst>
                          <a:tab algn="l" pos="0"/>
                          <a:tab algn="l" pos="228600"/>
                          <a:tab algn="l" pos="685800"/>
                          <a:tab algn="l" pos="1143000"/>
                          <a:tab algn="l" pos="1600200"/>
                          <a:tab algn="l" pos="2057400"/>
                          <a:tab algn="l" pos="2514600"/>
                          <a:tab algn="l" pos="2971800"/>
                          <a:tab algn="l" pos="3429000"/>
                          <a:tab algn="l" pos="3886200"/>
                          <a:tab algn="l" pos="4343400"/>
                          <a:tab algn="l" pos="4800600"/>
                          <a:tab algn="l" pos="5257800"/>
                          <a:tab algn="l" pos="5715000"/>
                          <a:tab algn="l" pos="6172200"/>
                          <a:tab algn="l" pos="6629400"/>
                          <a:tab algn="l" pos="7086600"/>
                          <a:tab algn="l" pos="7543800"/>
                          <a:tab algn="l" pos="8001000"/>
                          <a:tab algn="l" pos="8458200"/>
                          <a:tab algn="l" pos="8915400"/>
                          <a:tab algn="l" pos="93726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11000"/>
                        </a:lnSpc>
                        <a:tabLst>
                          <a:tab algn="l" pos="0"/>
                          <a:tab algn="l" pos="228600"/>
                          <a:tab algn="l" pos="685800"/>
                          <a:tab algn="l" pos="1143000"/>
                          <a:tab algn="l" pos="1600200"/>
                          <a:tab algn="l" pos="2057400"/>
                          <a:tab algn="l" pos="2514600"/>
                          <a:tab algn="l" pos="2971800"/>
                          <a:tab algn="l" pos="3429000"/>
                          <a:tab algn="l" pos="3886200"/>
                          <a:tab algn="l" pos="4343400"/>
                          <a:tab algn="l" pos="4800600"/>
                          <a:tab algn="l" pos="5257800"/>
                          <a:tab algn="l" pos="5715000"/>
                          <a:tab algn="l" pos="6172200"/>
                          <a:tab algn="l" pos="6629400"/>
                          <a:tab algn="l" pos="7086600"/>
                          <a:tab algn="l" pos="7543800"/>
                          <a:tab algn="l" pos="8001000"/>
                          <a:tab algn="l" pos="8458200"/>
                          <a:tab algn="l" pos="8915400"/>
                          <a:tab algn="l" pos="93726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ceboo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3ca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Example Goal Con't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239480"/>
            <a:ext cx="8518320" cy="39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Programmatic Goal: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Increase attendance to events.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ools: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Email Blast, Facebook Page, Text Message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Need to know: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hat tools works best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884160" y="4278240"/>
          <a:ext cx="7326000" cy="2109600"/>
        </p:xfrm>
        <a:graphic>
          <a:graphicData uri="http://schemas.openxmlformats.org/drawingml/2006/table">
            <a:tbl>
              <a:tblPr/>
              <a:tblGrid>
                <a:gridCol w="1830600"/>
                <a:gridCol w="1830600"/>
                <a:gridCol w="1830600"/>
                <a:gridCol w="1834200"/>
              </a:tblGrid>
              <a:tr h="433080">
                <a:tc>
                  <a:txBody>
                    <a:bodyPr lIns="90000" rIns="90000" tIns="17388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a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Facebo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Text Mess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ttend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67652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>
                        <a:lnSpc>
                          <a:spcPct val="93000"/>
                        </a:lnSpc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pen 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16000" indent="-216000">
                        <a:lnSpc>
                          <a:spcPct val="93000"/>
                        </a:lnSpc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most popular clicked lin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16000" indent="-216000">
                        <a:lnSpc>
                          <a:spcPct val="93000"/>
                        </a:lnSpc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# went to registration p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>
                        <a:lnSpc>
                          <a:spcPct val="93000"/>
                        </a:lnSpc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# Post likes &amp; 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16000" indent="-216000">
                        <a:lnSpc>
                          <a:spcPct val="93000"/>
                        </a:lnSpc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# Event Page rsv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>
                        <a:lnSpc>
                          <a:spcPct val="93000"/>
                        </a:lnSpc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# repl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16000" indent="-216000">
                        <a:lnSpc>
                          <a:spcPct val="93000"/>
                        </a:lnSpc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# rsv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>
                        <a:lnSpc>
                          <a:spcPct val="93000"/>
                        </a:lnSpc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How many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16000" indent="-216000">
                        <a:lnSpc>
                          <a:spcPct val="93000"/>
                        </a:lnSpc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ho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16000" indent="-216000">
                        <a:lnSpc>
                          <a:spcPct val="93000"/>
                        </a:lnSpc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here did they find out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Tracking Document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1168560"/>
            <a:ext cx="8518320" cy="53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545040" indent="-212040">
              <a:lnSpc>
                <a:spcPct val="106000"/>
              </a:lnSpc>
              <a:spcBef>
                <a:spcPts val="799"/>
              </a:spcBef>
              <a:buSzPct val="114232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Khmer UI"/>
              </a:rPr>
              <a:t>How do you keep track of your analytics data?</a:t>
            </a:r>
            <a:endParaRPr b="0" lang="en-US" sz="3000" spc="-1" strike="noStrike">
              <a:solidFill>
                <a:srgbClr val="000000"/>
              </a:solidFill>
              <a:latin typeface="Khmer UI"/>
            </a:endParaRPr>
          </a:p>
          <a:p>
            <a:pPr marL="545040" indent="-212040">
              <a:lnSpc>
                <a:spcPct val="106000"/>
              </a:lnSpc>
              <a:spcBef>
                <a:spcPts val="799"/>
              </a:spcBef>
              <a:buSzPct val="114232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Khmer UI"/>
              </a:rPr>
              <a:t>Start with a simple spreadsheet tracking basic web site traffic</a:t>
            </a:r>
            <a:endParaRPr b="0" lang="en-US" sz="30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Update once a week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45040" indent="-212040">
              <a:lnSpc>
                <a:spcPct val="106000"/>
              </a:lnSpc>
              <a:spcBef>
                <a:spcPts val="799"/>
              </a:spcBef>
              <a:buSzPct val="114232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Khmer UI"/>
              </a:rPr>
              <a:t>Iterate (small steps) to tracking your other channels over time</a:t>
            </a:r>
            <a:endParaRPr b="0" lang="en-US" sz="30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Email open rates over tim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Twitter Clicks, Facebook interactions, etc.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45040" indent="-212040">
              <a:lnSpc>
                <a:spcPct val="106000"/>
              </a:lnSpc>
              <a:spcBef>
                <a:spcPts val="799"/>
              </a:spcBef>
              <a:buSzPct val="114232"/>
              <a:buBlip>
                <a:blip r:embed="rId7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Khmer UI"/>
              </a:rPr>
              <a:t>Make notes on peaks and dips to describe what content caused them</a:t>
            </a:r>
            <a:endParaRPr b="0" lang="en-US" sz="3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These training materials have been prepared by Aspiration 
These materials are distributed under a Creative Commons license: Attribution-ShareAlike</dc:description>
  <dc:language>en-US</dc:language>
  <cp:lastModifiedBy/>
  <dcterms:modified xsi:type="dcterms:W3CDTF">2014-08-18T23:13:02Z</dcterms:modified>
  <cp:revision>57</cp:revision>
  <dc:subject/>
  <dc:title>Aspiration Tracking Online Analytics</dc:title>
</cp:coreProperties>
</file>