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9.png" ContentType="image/png"/>
  <Override PartName="/ppt/media/image30.jpeg" ContentType="image/jpeg"/>
  <Override PartName="/ppt/media/image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licks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1</c:v>
                </c:pt>
                <c:pt idx="1">
                  <c:v>24</c:v>
                </c:pt>
                <c:pt idx="2">
                  <c:v>88</c:v>
                </c:pt>
                <c:pt idx="3">
                  <c:v>39</c:v>
                </c:pt>
              </c:numCache>
            </c:numRef>
          </c:val>
        </c:ser>
        <c:gapWidth val="100"/>
        <c:overlap val="0"/>
        <c:axId val="73433696"/>
        <c:axId val="26162827"/>
      </c:barChart>
      <c:catAx>
        <c:axId val="7343369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62827"/>
        <c:crosses val="autoZero"/>
        <c:auto val="1"/>
        <c:lblAlgn val="ctr"/>
        <c:lblOffset val="100"/>
        <c:noMultiLvlLbl val="0"/>
      </c:catAx>
      <c:valAx>
        <c:axId val="26162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33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B326F-E3B4-4065-A2AA-9F073288CA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8" name=""/>
          <p:cNvSpPr/>
          <p:nvPr/>
        </p:nvSpPr>
        <p:spPr>
          <a:xfrm>
            <a:off x="685800" y="4343400"/>
            <a:ext cx="547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685800" y="4343400"/>
            <a:ext cx="547056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0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flipV="1" rot="5400000">
            <a:off x="4809960" y="2564640"/>
            <a:ext cx="8226360" cy="53640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image" Target="../media/image17.png"/><Relationship Id="rId6" Type="http://schemas.openxmlformats.org/officeDocument/2006/relationships/image" Target="../media/image4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4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chart" Target="../charts/chart1.xml"/><Relationship Id="rId6" Type="http://schemas.openxmlformats.org/officeDocument/2006/relationships/slideLayout" Target="../slideLayouts/slideLayout4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758880"/>
            <a:ext cx="5851440" cy="13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munications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14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racking Online Analytic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64160" y="420696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racking Doc Exam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35030" b="4980"/>
          <a:stretch/>
        </p:blipFill>
        <p:spPr>
          <a:xfrm>
            <a:off x="220680" y="2259000"/>
            <a:ext cx="5722920" cy="4141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389480" y="1920960"/>
            <a:ext cx="452448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20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raffic Doc Exam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4972" t="0" r="4972" b="4993"/>
          <a:stretch/>
        </p:blipFill>
        <p:spPr>
          <a:xfrm>
            <a:off x="512640" y="1627200"/>
            <a:ext cx="8266320" cy="2303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84400" y="3149640"/>
            <a:ext cx="512604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racking Doc Exam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11200" y="1455840"/>
            <a:ext cx="63007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racking Doc Exampl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11200" y="1455840"/>
            <a:ext cx="63007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nalytics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bsite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mail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ocial Media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4524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312920"/>
            <a:ext cx="415764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Many free tools out ther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Google Analytic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Stores visitor data on their server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Incredible info w/some limitation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Urchin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wstat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Piwik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040" y="1347480"/>
            <a:ext cx="4157640" cy="421164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Lucida Sans Unicode"/>
              </a:rPr>
              <a:t>Stats you can Trac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Visitor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Bounce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Pageview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Referring Site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Search keywords used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Top landing/exit page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Countries of Visitor Origin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Mobile devices used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and so much more…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Web Site Analytics 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re are many things to track; What is your goal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termining your audience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Start at your most popular pag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iguring out if social media is driving your traffic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heck out your referring sit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Just simply monitoring basic traffic trends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Visitors, PageViews/Visitor, Referring Sites, Bounc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151920"/>
            <a:ext cx="8537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65720" y="3710160"/>
            <a:ext cx="3424320" cy="2495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371600" y="830160"/>
            <a:ext cx="6032520" cy="2898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74680" y="4206960"/>
            <a:ext cx="4932360" cy="20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alytics come from your blasting softwar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Vertical Response, MailChimp, MyEmma, etc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ll should have ability to track: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Open Rates (Standard ~16%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lick Rates (Standard ~3%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nsubscribes ( &lt;2% 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13680" indent="-20772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Bounces (hard &amp; soft)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Email Analy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060560"/>
            <a:ext cx="8518320" cy="54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ject Line Optimiz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/B Testing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at gets the most opens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 Content Optimiz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at gets the most clicks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egmentation after Sign-Up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Those who clicked on this get this email in the futur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Those who clicked on that get that email in the future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9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termining proper pacing for messag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Pay attention to jumps in unsubscribe rates to determine your spamming potential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76320"/>
            <a:ext cx="8520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witte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022400"/>
            <a:ext cx="746748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witte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240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455040" indent="-17712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Now Built-in Analytics :)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analytics.twitter.com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marL="455040" indent="-177120">
              <a:lnSpc>
                <a:spcPct val="106000"/>
              </a:lnSpc>
              <a:spcBef>
                <a:spcPts val="799"/>
              </a:spcBef>
              <a:buSzPct val="13164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There are ways to track interac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Follower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Retweet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@ Mention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Use of your hashtag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1" marL="779040" indent="-177120">
              <a:lnSpc>
                <a:spcPct val="108000"/>
              </a:lnSpc>
              <a:spcBef>
                <a:spcPts val="700"/>
              </a:spcBef>
              <a:buSzPct val="101804"/>
              <a:buBlip>
                <a:blip r:embed="rId8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Khmer UI"/>
              </a:rPr>
              <a:t>Outside Services</a:t>
            </a:r>
            <a:endParaRPr b="0" lang="en-US" sz="2200" spc="-1" strike="noStrike">
              <a:solidFill>
                <a:srgbClr val="000000"/>
              </a:solidFill>
              <a:latin typeface="Khmer UI"/>
            </a:endParaRPr>
          </a:p>
          <a:p>
            <a:pPr lvl="2" marL="1103400" indent="-1774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URL shorteners (e.g. Bit.ly)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103400" indent="-1774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commun.it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2" marL="1103400" indent="-17748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hmer UI"/>
              </a:rPr>
              <a:t>Klout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4438800" y="2925720"/>
            <a:ext cx="4157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Twitter Analy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5200" y="3244680"/>
            <a:ext cx="5373720" cy="3156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047600" y="1335240"/>
            <a:ext cx="6083280" cy="2047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583320" y="1790640"/>
            <a:ext cx="2168640" cy="43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Twitter Analy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320" y="1455480"/>
            <a:ext cx="415764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 Optimiz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at content gets most clicks, retweets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What time of day gets most clicks, retweets?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termining proper pacing for messag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846680" y="1455840"/>
          <a:ext cx="4157640" cy="397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5"/>
          </a:graphicData>
        </a:graphic>
      </p:graphicFrame>
      <p:sp>
        <p:nvSpPr>
          <p:cNvPr id="165" name=""/>
          <p:cNvSpPr/>
          <p:nvPr/>
        </p:nvSpPr>
        <p:spPr>
          <a:xfrm>
            <a:off x="7513560" y="2408400"/>
            <a:ext cx="990720" cy="1066680"/>
          </a:xfrm>
          <a:prstGeom prst="downArrowCallout">
            <a:avLst>
              <a:gd name="adj1" fmla="val 25002"/>
              <a:gd name="adj2" fmla="val 25000"/>
              <a:gd name="adj3" fmla="val 17945"/>
              <a:gd name="adj4" fmla="val 66667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4pm Su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1965240"/>
            <a:ext cx="1447920" cy="685800"/>
          </a:xfrm>
          <a:prstGeom prst="rightArrowCallout">
            <a:avLst>
              <a:gd name="adj1" fmla="val 25002"/>
              <a:gd name="adj2" fmla="val 25000"/>
              <a:gd name="adj3" fmla="val 35188"/>
              <a:gd name="adj4" fmla="val 66667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4pm S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05520" y="2971800"/>
            <a:ext cx="990720" cy="99072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10am F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37040" y="3200400"/>
            <a:ext cx="990720" cy="99072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cc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2pm Th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7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aceboo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2160" y="1371600"/>
            <a:ext cx="8794800" cy="45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aceboo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acebook PAGES have “Insights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roups do no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rofiles do no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30320" y="1455480"/>
            <a:ext cx="4157640" cy="4211640"/>
          </a:xfrm>
          <a:prstGeom prst="rect">
            <a:avLst/>
          </a:prstGeom>
          <a:solidFill>
            <a:srgbClr val="004586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  <a:ea typeface="Lucida Sans Unicode"/>
              </a:rPr>
              <a:t>Stats you can Trac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Like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Post View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Active User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Demographics (e.g. Age)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# Reach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Media Consumption (type)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Post Impressions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Post Feedback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and so much more…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74680" y="3648240"/>
            <a:ext cx="507672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ing Facebook Analytic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essage Optimiza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hat content gets most interaction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What content gets most impressions?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Country or Language-specific status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Determining your audien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Facebook has amazing demographic information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731880" y="4664160"/>
            <a:ext cx="6408720" cy="23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ocial Media Dashboar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Your real-time window into your mentions onlin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63400" y="2289240"/>
            <a:ext cx="784872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orkflow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239840"/>
            <a:ext cx="851832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nd Action Ale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Go through Pub Matrix and send according to message calenda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fter action time period complete, check out analytic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Use Dashboard to SEE the content that corresponds with the #s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Fill in analytics doc to compare to past messagin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62240" indent="-21924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hmer UI"/>
              </a:rPr>
              <a:t>Adjust publishing matrix, message calendar accordingly</a:t>
            </a:r>
            <a:endParaRPr b="0" lang="en-US" sz="2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e the tools that provide you with analytics for you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et introduced to the statistics different online channels can provide about you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33520" indent="-20772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arn about ways in which to use analytics to improve your online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Section 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516960" indent="-201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are your goals for these channel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dentifying them clears up the utility of analytic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16960" indent="-201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a document to track stats over tim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884880" indent="-2012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 simple spreadsheet works fin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16960" indent="-201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tart small. Iterate up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16960" indent="-2012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small changes to messaging over time to take advantage of what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16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ell you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pecial Thanks to Monica Ruck for sharing her analytics knowledge and passion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142920"/>
            <a:ext cx="8227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our Processe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20680" y="1455840"/>
            <a:ext cx="18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07160" y="1433520"/>
            <a:ext cx="1842840" cy="1797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92080" y="1184400"/>
            <a:ext cx="2425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dience Assess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07240" y="3967200"/>
            <a:ext cx="2043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3894120"/>
            <a:ext cx="20811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ing &amp;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69000" y="1204920"/>
            <a:ext cx="199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shing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2360" y="2038320"/>
            <a:ext cx="1557360" cy="446040"/>
          </a:xfrm>
          <a:prstGeom prst="rightArrow">
            <a:avLst>
              <a:gd name="adj1" fmla="val 50000"/>
              <a:gd name="adj2" fmla="val 87288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99240" y="3073320"/>
            <a:ext cx="357120" cy="806400"/>
          </a:xfrm>
          <a:prstGeom prst="downArrow">
            <a:avLst>
              <a:gd name="adj1" fmla="val 50000"/>
              <a:gd name="adj2" fmla="val 56452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98720" y="4967280"/>
            <a:ext cx="1567080" cy="455760"/>
          </a:xfrm>
          <a:prstGeom prst="leftArrow">
            <a:avLst>
              <a:gd name="adj1" fmla="val 50000"/>
              <a:gd name="adj2" fmla="val 8596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43280" y="3016080"/>
            <a:ext cx="345960" cy="844560"/>
          </a:xfrm>
          <a:prstGeom prst="upArrow">
            <a:avLst>
              <a:gd name="adj1" fmla="val 50000"/>
              <a:gd name="adj2" fmla="val 61030"/>
            </a:avLst>
          </a:prstGeom>
          <a:solidFill>
            <a:srgbClr val="b8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788080" y="4437000"/>
            <a:ext cx="1928880" cy="198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63760" y="4454640"/>
            <a:ext cx="176364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nalytics Overview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ttached to measurable goals, analytics are your thermome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sure you know what goal the data is speaking t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Helps determine what value you’re providing to who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ing is key!!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rends more important than isolated numbe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ing analytics related to measurable goals is ke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s the #s mean something, makes tracking them worth your tim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Helps you to evaluate and adjust communications and programmatic wor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 Goal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02348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ssue: Opposition to police surveillance center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udience: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sidents of Oakland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Bay area residents concerned with privacy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nyone concerned about “Big Brother”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89000" y="3711600"/>
          <a:ext cx="8517960" cy="3015720"/>
        </p:xfrm>
        <a:graphic>
          <a:graphicData uri="http://schemas.openxmlformats.org/drawingml/2006/table">
            <a:tbl>
              <a:tblPr/>
              <a:tblGrid>
                <a:gridCol w="2127240"/>
                <a:gridCol w="2150280"/>
                <a:gridCol w="2149560"/>
                <a:gridCol w="2090880"/>
              </a:tblGrid>
              <a:tr h="1053720"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sur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success look lik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54720" rIns="54720" tIns="19908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7b8b8"/>
                    </a:solidFill>
                  </a:tcPr>
                </a:tc>
              </a:tr>
              <a:tr h="2224080">
                <a:tc>
                  <a:txBody>
                    <a:bodyPr lIns="54720" rIns="54720" tIns="84240" bIns="5472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 attendees at “awareness action” through online effo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e this month's attendance to last month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 algn="ctr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% increase in atten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54720" rIns="54720" tIns="84240" bIns="54720" anchor="ctr">
                      <a:noAutofit/>
                    </a:bodyPr>
                    <a:p>
                      <a:pPr marL="228600">
                        <a:lnSpc>
                          <a:spcPct val="10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ail Bl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>
                        <a:lnSpc>
                          <a:spcPct val="111000"/>
                        </a:lnSpc>
                        <a:tabLst>
                          <a:tab algn="l" pos="0"/>
                          <a:tab algn="l" pos="228600"/>
                          <a:tab algn="l" pos="685800"/>
                          <a:tab algn="l" pos="1143000"/>
                          <a:tab algn="l" pos="1600200"/>
                          <a:tab algn="l" pos="2057400"/>
                          <a:tab algn="l" pos="2514600"/>
                          <a:tab algn="l" pos="2971800"/>
                          <a:tab algn="l" pos="3429000"/>
                          <a:tab algn="l" pos="3886200"/>
                          <a:tab algn="l" pos="4343400"/>
                          <a:tab algn="l" pos="4800600"/>
                          <a:tab algn="l" pos="5257800"/>
                          <a:tab algn="l" pos="5715000"/>
                          <a:tab algn="l" pos="6172200"/>
                          <a:tab algn="l" pos="6629400"/>
                          <a:tab algn="l" pos="7086600"/>
                          <a:tab algn="l" pos="7543800"/>
                          <a:tab algn="l" pos="8001000"/>
                          <a:tab algn="l" pos="8458200"/>
                          <a:tab algn="l" pos="8915400"/>
                          <a:tab algn="l" pos="93726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ce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xample Goal Con'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23948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Programmatic Goal: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Increase attendance to even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: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mail Blast, Facebook Page, Text Mess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Need to know: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at tools works best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84160" y="4278240"/>
          <a:ext cx="7326000" cy="2109600"/>
        </p:xfrm>
        <a:graphic>
          <a:graphicData uri="http://schemas.openxmlformats.org/drawingml/2006/table">
            <a:tbl>
              <a:tblPr/>
              <a:tblGrid>
                <a:gridCol w="1830600"/>
                <a:gridCol w="1830600"/>
                <a:gridCol w="1830600"/>
                <a:gridCol w="1834200"/>
              </a:tblGrid>
              <a:tr h="433080">
                <a:tc>
                  <a:txBody>
                    <a:bodyPr lIns="90000" rIns="90000" tIns="17388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Face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Text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tte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67652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pe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ost popular clicked l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# went to registration p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# Post likes &amp;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# Event Page rsv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# re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# rsv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How man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h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16000" indent="-216000"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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here did they find ou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racking Docu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168560"/>
            <a:ext cx="8518320" cy="53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How do you keep track of your analytics data?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Start with a simple spreadsheet tracking basic web site traffic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pdate once a week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Iterate (small steps) to tracking your other channels over time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Email open rates over tim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Twitter Clicks, Facebook interactions, etc.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14232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Khmer UI"/>
              </a:rPr>
              <a:t>Make notes on peaks and dips to describe what content caused them</a:t>
            </a:r>
            <a:endParaRPr b="0" lang="en-US" sz="30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
These materials are distributed under a Creative Commons license: Attribution-ShareAlike</dc:description>
  <dc:language>en-US</dc:language>
  <cp:lastModifiedBy/>
  <dcterms:modified xsi:type="dcterms:W3CDTF">2014-08-18T23:13:02Z</dcterms:modified>
  <cp:revision>57</cp:revision>
  <dc:subject/>
  <dc:title>Aspiration Tracking Online Analytics</dc:title>
</cp:coreProperties>
</file>