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18.jpeg" ContentType="image/jpeg"/>
  <Override PartName="/ppt/media/image15.png" ContentType="image/png"/>
  <Override PartName="/ppt/media/image20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8.jpeg" ContentType="image/jpeg"/>
  <Override PartName="/ppt/media/image19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D715A-2245-490A-A705-7BB29CB78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6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66" name=""/>
          <p:cNvSpPr/>
          <p:nvPr/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0" name=""/>
          <p:cNvSpPr/>
          <p:nvPr/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2" name=""/>
          <p:cNvSpPr/>
          <p:nvPr/>
        </p:nvSpPr>
        <p:spPr>
          <a:xfrm>
            <a:off x="685800" y="4341960"/>
            <a:ext cx="548496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8" name=""/>
          <p:cNvSpPr/>
          <p:nvPr/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4" name=""/>
          <p:cNvSpPr/>
          <p:nvPr/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0" name=""/>
          <p:cNvSpPr/>
          <p:nvPr/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4" name=""/>
          <p:cNvSpPr/>
          <p:nvPr/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96" name=""/>
          <p:cNvSpPr/>
          <p:nvPr/>
        </p:nvSpPr>
        <p:spPr>
          <a:xfrm>
            <a:off x="685800" y="4341960"/>
            <a:ext cx="548496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4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4" name=""/>
          <p:cNvSpPr/>
          <p:nvPr/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6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8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14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50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52" name=""/>
          <p:cNvSpPr/>
          <p:nvPr/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54" name=""/>
          <p:cNvSpPr/>
          <p:nvPr/>
        </p:nvSpPr>
        <p:spPr>
          <a:xfrm>
            <a:off x="685800" y="4341960"/>
            <a:ext cx="54817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56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340000">
            <a:off x="-1114560" y="7776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4000"/>
          </a:bodyPr>
          <a:p>
            <a:pPr marL="21924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 rot="5400000">
            <a:off x="4809960" y="2567160"/>
            <a:ext cx="8226360" cy="5317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4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image" Target="../media/image11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6.xml"/><Relationship Id="rId8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35360" y="758880"/>
            <a:ext cx="585144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mmunications Process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144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Reaching Your Online Audience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612936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37040" y="4133880"/>
            <a:ext cx="184320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ing Facebook Analy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essage Optimiza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What content gets most interaction?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What content gets most impressions?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Country or Language-specific statuse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etermining your audienc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Facebook has amazing demographic information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731880" y="4664160"/>
            <a:ext cx="6408720" cy="23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Your organization/campaign is uniqu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ools change all the tim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racking is important to give you a sense of what is working for YOU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1640" y="498240"/>
            <a:ext cx="8228160" cy="16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5 Comm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Communic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2" name=""/>
          <p:cNvSpPr/>
          <p:nvPr/>
        </p:nvSpPr>
        <p:spPr>
          <a:xfrm>
            <a:off x="3833640" y="3308400"/>
            <a:ext cx="4761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17880" y="3044880"/>
            <a:ext cx="1290600" cy="644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41280" y="3032280"/>
            <a:ext cx="1441440" cy="720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98440" y="4681440"/>
            <a:ext cx="6737400" cy="306360"/>
          </a:xfrm>
          <a:prstGeom prst="leftRightArrow">
            <a:avLst>
              <a:gd name="adj1" fmla="val 16806"/>
              <a:gd name="adj2" fmla="val 191308"/>
            </a:avLst>
          </a:prstGeom>
          <a:solidFill>
            <a:srgbClr val="004586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Target Audien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7" name=""/>
          <p:cNvSpPr/>
          <p:nvPr/>
        </p:nvSpPr>
        <p:spPr>
          <a:xfrm>
            <a:off x="1473120" y="2394000"/>
            <a:ext cx="712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76360" y="222552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58800" y="225108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405240" y="4621320"/>
            <a:ext cx="2286000" cy="144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9200" y="3816360"/>
            <a:ext cx="29242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you; want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 information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 detail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your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5040" y="3792600"/>
            <a:ext cx="29386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supporters,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about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work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arget Audien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74680" y="2689200"/>
            <a:ext cx="8526600" cy="439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78000" y="2082960"/>
            <a:ext cx="1460160" cy="457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28520" y="3165480"/>
            <a:ext cx="883296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278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arget Audien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58920" y="1336680"/>
            <a:ext cx="6243480" cy="45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Tone and Voi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0" name=""/>
          <p:cNvSpPr/>
          <p:nvPr/>
        </p:nvSpPr>
        <p:spPr>
          <a:xfrm>
            <a:off x="3559320" y="2378160"/>
            <a:ext cx="23842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368440" y="22510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17400" y="22525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405240" y="4332240"/>
            <a:ext cx="2286000" cy="180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200" y="3814920"/>
            <a:ext cx="30243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erson singula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I”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and 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al; “Soci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5040" y="3792600"/>
            <a:ext cx="261936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erson plural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hird perso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We” or “The or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hmer UI"/>
              </a:rPr>
              <a:t>Tone &amp; Voice</a:t>
            </a:r>
            <a:endParaRPr b="0" lang="en-US" sz="4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4800" y="1603440"/>
            <a:ext cx="7932600" cy="452592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760" y="27108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hmer UI"/>
              </a:rPr>
              <a:t>Tone &amp; Voice</a:t>
            </a:r>
            <a:endParaRPr b="0" lang="en-US" sz="4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081160" y="1658880"/>
            <a:ext cx="4389480" cy="452592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Frequency of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1" name=""/>
          <p:cNvSpPr/>
          <p:nvPr/>
        </p:nvSpPr>
        <p:spPr>
          <a:xfrm>
            <a:off x="1913040" y="2516040"/>
            <a:ext cx="6573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97160" y="23590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46120" y="23605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405240" y="4476600"/>
            <a:ext cx="2286000" cy="180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200" y="4103640"/>
            <a:ext cx="28558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t –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or more o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5040" y="4116240"/>
            <a:ext cx="28562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frequent -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to month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requency of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84440" y="1531800"/>
            <a:ext cx="3838680" cy="471168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5760" y="27108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requency of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83000" y="1531800"/>
            <a:ext cx="3840120" cy="471168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Matching Tools to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2" name=""/>
          <p:cNvSpPr/>
          <p:nvPr/>
        </p:nvSpPr>
        <p:spPr>
          <a:xfrm>
            <a:off x="3738600" y="2384280"/>
            <a:ext cx="2708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97160" y="22510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46120" y="22525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405240" y="4584600"/>
            <a:ext cx="2286000" cy="180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9200" y="3780000"/>
            <a:ext cx="29242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-breaking new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update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sers, Flirt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stic 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5040" y="3755880"/>
            <a:ext cx="293868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messaging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narrativ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gent alert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al 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atching Tools to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58960" y="1603440"/>
            <a:ext cx="7424640" cy="452592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108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atching Tools to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57160" y="1601640"/>
            <a:ext cx="7425000" cy="452628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Control of Message and Brand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3" name=""/>
          <p:cNvSpPr/>
          <p:nvPr/>
        </p:nvSpPr>
        <p:spPr>
          <a:xfrm>
            <a:off x="3711600" y="2467080"/>
            <a:ext cx="50544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97160" y="23590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46120" y="23605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405240" y="4513320"/>
            <a:ext cx="2286000" cy="144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9200" y="4103640"/>
            <a:ext cx="292428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with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,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5040" y="4079880"/>
            <a:ext cx="29386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”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rol of Message &amp; Brand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054160" y="1515960"/>
            <a:ext cx="5060880" cy="452448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400" y="271080"/>
            <a:ext cx="82278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rol of Message &amp; Brand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5240" y="1365120"/>
            <a:ext cx="4064040" cy="452592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892760" y="1327320"/>
            <a:ext cx="3927240" cy="49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Time/Labor Investm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97160" y="22510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46120" y="22525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405240" y="4440240"/>
            <a:ext cx="2286000" cy="144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9200" y="4067280"/>
            <a:ext cx="28558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tial, tend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s 24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5040" y="4079880"/>
            <a:ext cx="28562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able, based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ast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11600" y="2395440"/>
            <a:ext cx="505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ime/Labor Investm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308320" y="160344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Learning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93200" indent="-390240">
              <a:lnSpc>
                <a:spcPct val="101000"/>
              </a:lnSpc>
              <a:spcBef>
                <a:spcPts val="726"/>
              </a:spcBef>
              <a:buSzPct val="113122"/>
              <a:buBlip>
                <a:blip r:embed="rId1"/>
              </a:buBlip>
              <a:tabLst>
                <a:tab algn="l" pos="503280"/>
                <a:tab algn="l" pos="615960"/>
                <a:tab algn="l" pos="1073160"/>
                <a:tab algn="l" pos="1530360"/>
                <a:tab algn="l" pos="1987560"/>
                <a:tab algn="l" pos="2444760"/>
                <a:tab algn="l" pos="2901960"/>
                <a:tab algn="l" pos="3359160"/>
                <a:tab algn="l" pos="3816360"/>
                <a:tab algn="l" pos="4273560"/>
                <a:tab algn="l" pos="4730760"/>
                <a:tab algn="l" pos="5187960"/>
                <a:tab algn="l" pos="5645160"/>
                <a:tab algn="l" pos="6102360"/>
                <a:tab algn="l" pos="6559560"/>
                <a:tab algn="l" pos="7016760"/>
                <a:tab algn="l" pos="7473960"/>
                <a:tab algn="l" pos="7931160"/>
                <a:tab algn="l" pos="8388360"/>
                <a:tab algn="l" pos="8845560"/>
                <a:tab algn="l" pos="9302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dentify ways to know who you are reach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493200" indent="-390240">
              <a:lnSpc>
                <a:spcPct val="101000"/>
              </a:lnSpc>
              <a:spcBef>
                <a:spcPts val="726"/>
              </a:spcBef>
              <a:buSzPct val="113122"/>
              <a:buBlip>
                <a:blip r:embed="rId2"/>
              </a:buBlip>
              <a:tabLst>
                <a:tab algn="l" pos="503280"/>
                <a:tab algn="l" pos="615960"/>
                <a:tab algn="l" pos="1073160"/>
                <a:tab algn="l" pos="1530360"/>
                <a:tab algn="l" pos="1987560"/>
                <a:tab algn="l" pos="2444760"/>
                <a:tab algn="l" pos="2901960"/>
                <a:tab algn="l" pos="3359160"/>
                <a:tab algn="l" pos="3816360"/>
                <a:tab algn="l" pos="4273560"/>
                <a:tab algn="l" pos="4730760"/>
                <a:tab algn="l" pos="5187960"/>
                <a:tab algn="l" pos="5645160"/>
                <a:tab algn="l" pos="6102360"/>
                <a:tab algn="l" pos="6559560"/>
                <a:tab algn="l" pos="7016760"/>
                <a:tab algn="l" pos="7473960"/>
                <a:tab algn="l" pos="7931160"/>
                <a:tab algn="l" pos="8388360"/>
                <a:tab algn="l" pos="8845560"/>
                <a:tab algn="l" pos="9302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pare common tools used for online communicat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493200" indent="-390240">
              <a:lnSpc>
                <a:spcPct val="126000"/>
              </a:lnSpc>
              <a:spcBef>
                <a:spcPts val="726"/>
              </a:spcBef>
              <a:buSzPct val="113122"/>
              <a:buBlip>
                <a:blip r:embed="rId3"/>
              </a:buBlip>
              <a:tabLst>
                <a:tab algn="l" pos="503280"/>
                <a:tab algn="l" pos="615960"/>
                <a:tab algn="l" pos="1073160"/>
                <a:tab algn="l" pos="1530360"/>
                <a:tab algn="l" pos="1987560"/>
                <a:tab algn="l" pos="2444760"/>
                <a:tab algn="l" pos="2901960"/>
                <a:tab algn="l" pos="3359160"/>
                <a:tab algn="l" pos="3816360"/>
                <a:tab algn="l" pos="4273560"/>
                <a:tab algn="l" pos="4730760"/>
                <a:tab algn="l" pos="5187960"/>
                <a:tab algn="l" pos="5645160"/>
                <a:tab algn="l" pos="6102360"/>
                <a:tab algn="l" pos="6559560"/>
                <a:tab algn="l" pos="7016760"/>
                <a:tab algn="l" pos="7473960"/>
                <a:tab algn="l" pos="7931160"/>
                <a:tab algn="l" pos="8388360"/>
                <a:tab algn="l" pos="8845560"/>
                <a:tab algn="l" pos="9302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etter understand when to use what too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493200" indent="-390240">
              <a:lnSpc>
                <a:spcPct val="126000"/>
              </a:lnSpc>
              <a:spcBef>
                <a:spcPts val="726"/>
              </a:spcBef>
              <a:buSzPct val="113122"/>
              <a:buBlip>
                <a:blip r:embed="rId4"/>
              </a:buBlip>
              <a:tabLst>
                <a:tab algn="l" pos="503280"/>
                <a:tab algn="l" pos="615960"/>
                <a:tab algn="l" pos="1073160"/>
                <a:tab algn="l" pos="1530360"/>
                <a:tab algn="l" pos="1987560"/>
                <a:tab algn="l" pos="2444760"/>
                <a:tab algn="l" pos="2901960"/>
                <a:tab algn="l" pos="3359160"/>
                <a:tab algn="l" pos="3816360"/>
                <a:tab algn="l" pos="4273560"/>
                <a:tab algn="l" pos="4730760"/>
                <a:tab algn="l" pos="5187960"/>
                <a:tab algn="l" pos="5645160"/>
                <a:tab algn="l" pos="6102360"/>
                <a:tab algn="l" pos="6559560"/>
                <a:tab algn="l" pos="7016760"/>
                <a:tab algn="l" pos="7473960"/>
                <a:tab algn="l" pos="7931160"/>
                <a:tab algn="l" pos="8388360"/>
                <a:tab algn="l" pos="8845560"/>
                <a:tab algn="l" pos="9302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nk about how tool selection supports your organization's work in connecting with your audienc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Return on Investm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97160" y="239544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46120" y="239724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405240" y="4332240"/>
            <a:ext cx="2286000" cy="180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200" y="3959280"/>
            <a:ext cx="262116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D; uneven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to chan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're trying to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5040" y="3971880"/>
            <a:ext cx="27194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able”, based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ast patter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e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11600" y="2540160"/>
            <a:ext cx="50544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Return on Investm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029200" y="1920960"/>
            <a:ext cx="3228840" cy="26953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12640" y="1281240"/>
            <a:ext cx="4881600" cy="338292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757080" y="4359240"/>
            <a:ext cx="64677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5840" y="849240"/>
            <a:ext cx="2544840" cy="25336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9040" y="25092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ngaging Cont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6" name=""/>
          <p:cNvSpPr/>
          <p:nvPr/>
        </p:nvSpPr>
        <p:spPr>
          <a:xfrm>
            <a:off x="182520" y="3565440"/>
            <a:ext cx="885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Fame             Fun              Passion              Pai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170080" y="3932280"/>
            <a:ext cx="2584440" cy="2584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114800" y="1279440"/>
            <a:ext cx="3019320" cy="2082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5742000" y="3932280"/>
            <a:ext cx="3036960" cy="21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Engagement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31480" y="1258560"/>
            <a:ext cx="415764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Your role is to define ways for your different audiences to plug in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How are you engaging strangers? fans? funders?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Prep work is key. 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Define your lists of 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ks” or ways to engage ahead of time.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4756320" y="1455840"/>
            <a:ext cx="397800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8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tart tracking measurable goals around your online communications tool use (Traffic doc)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termine differences in tool use for your organization as a whole and for specific campaig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lan out your messages across different channels to make sure you reach all your audien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Audience Surve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398520">
              <a:lnSpc>
                <a:spcPct val="101000"/>
              </a:lnSpc>
              <a:spcBef>
                <a:spcPts val="726"/>
              </a:spcBef>
              <a:buSzPct val="113122"/>
              <a:buBlip>
                <a:blip r:embed="rId1"/>
              </a:buBlip>
              <a:tabLst>
                <a:tab algn="l" pos="503280"/>
                <a:tab algn="l" pos="615960"/>
                <a:tab algn="l" pos="1073160"/>
                <a:tab algn="l" pos="1530360"/>
                <a:tab algn="l" pos="1987560"/>
                <a:tab algn="l" pos="2444760"/>
                <a:tab algn="l" pos="2901960"/>
                <a:tab algn="l" pos="3359160"/>
                <a:tab algn="l" pos="3816360"/>
                <a:tab algn="l" pos="4273560"/>
                <a:tab algn="l" pos="4730760"/>
                <a:tab algn="l" pos="5187960"/>
                <a:tab algn="l" pos="5645160"/>
                <a:tab algn="l" pos="6102360"/>
                <a:tab algn="l" pos="6559560"/>
                <a:tab algn="l" pos="7016760"/>
                <a:tab algn="l" pos="7473960"/>
                <a:tab algn="l" pos="7931160"/>
                <a:tab algn="l" pos="8388360"/>
                <a:tab algn="l" pos="8845560"/>
                <a:tab algn="l" pos="9302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is one thing that you would tell a friend or peer about using online tools to identify and reach their audience?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81120" y="478476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142920"/>
            <a:ext cx="82278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our Process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20680" y="1455840"/>
            <a:ext cx="1843200" cy="1809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807160" y="1433520"/>
            <a:ext cx="1842840" cy="1797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892080" y="1184400"/>
            <a:ext cx="2425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dience 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07240" y="4327560"/>
            <a:ext cx="2043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ssage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95360" y="4362480"/>
            <a:ext cx="20811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cking &amp; 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69000" y="1204920"/>
            <a:ext cx="199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shing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62360" y="2038320"/>
            <a:ext cx="1557360" cy="446040"/>
          </a:xfrm>
          <a:prstGeom prst="rightArrow">
            <a:avLst>
              <a:gd name="adj1" fmla="val 50000"/>
              <a:gd name="adj2" fmla="val 87288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99240" y="3289320"/>
            <a:ext cx="357120" cy="806400"/>
          </a:xfrm>
          <a:prstGeom prst="downArrow">
            <a:avLst>
              <a:gd name="adj1" fmla="val 50000"/>
              <a:gd name="adj2" fmla="val 56452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98720" y="5327640"/>
            <a:ext cx="1567080" cy="455760"/>
          </a:xfrm>
          <a:prstGeom prst="leftArrow">
            <a:avLst>
              <a:gd name="adj1" fmla="val 50000"/>
              <a:gd name="adj2" fmla="val 85960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43280" y="3376440"/>
            <a:ext cx="345960" cy="844560"/>
          </a:xfrm>
          <a:prstGeom prst="upArrow">
            <a:avLst>
              <a:gd name="adj1" fmla="val 50000"/>
              <a:gd name="adj2" fmla="val 61030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5788080" y="4797360"/>
            <a:ext cx="1928880" cy="19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835360" y="2035080"/>
            <a:ext cx="5850000" cy="3641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8920" y="471960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142920"/>
            <a:ext cx="82278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our Process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20680" y="1455840"/>
            <a:ext cx="1843200" cy="1809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807160" y="1433520"/>
            <a:ext cx="1842840" cy="1797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2080" y="1184400"/>
            <a:ext cx="2425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dience 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07240" y="4327560"/>
            <a:ext cx="2043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ssage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95360" y="4362480"/>
            <a:ext cx="20811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cking &amp; 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69000" y="1204920"/>
            <a:ext cx="199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shing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62360" y="2038320"/>
            <a:ext cx="1557360" cy="446040"/>
          </a:xfrm>
          <a:prstGeom prst="rightArrow">
            <a:avLst>
              <a:gd name="adj1" fmla="val 50000"/>
              <a:gd name="adj2" fmla="val 87288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99240" y="3289320"/>
            <a:ext cx="357120" cy="806400"/>
          </a:xfrm>
          <a:prstGeom prst="downArrow">
            <a:avLst>
              <a:gd name="adj1" fmla="val 50000"/>
              <a:gd name="adj2" fmla="val 56452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98720" y="5327640"/>
            <a:ext cx="1567080" cy="455760"/>
          </a:xfrm>
          <a:prstGeom prst="leftArrow">
            <a:avLst>
              <a:gd name="adj1" fmla="val 50000"/>
              <a:gd name="adj2" fmla="val 85960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43280" y="3376440"/>
            <a:ext cx="345960" cy="844560"/>
          </a:xfrm>
          <a:prstGeom prst="upArrow">
            <a:avLst>
              <a:gd name="adj1" fmla="val 50000"/>
              <a:gd name="adj2" fmla="val 61030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788080" y="4797360"/>
            <a:ext cx="1928880" cy="19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veats of Online Organizing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Never forget who's left out by “e” strategies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Trust relationships are best built in person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nline organizing is most effective when it leverages established social networks and communities.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Each community, campaign, and cause is different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Respect for local wisdom, culture, &amp; customs  need to remain intact in online engagement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31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Audience Exercis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33600" y="2684520"/>
            <a:ext cx="6067440" cy="2360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12960" y="2209680"/>
            <a:ext cx="7324560" cy="28497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760" y="1603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396720">
              <a:lnSpc>
                <a:spcPct val="101000"/>
              </a:lnSpc>
              <a:spcBef>
                <a:spcPts val="726"/>
              </a:spcBef>
              <a:buSzPct val="113122"/>
              <a:buBlip>
                <a:blip r:embed="rId3"/>
              </a:buBlip>
              <a:tabLst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are your top audience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03280" indent="0">
              <a:lnSpc>
                <a:spcPct val="126000"/>
              </a:lnSpc>
              <a:spcBef>
                <a:spcPts val="726"/>
              </a:spcBef>
              <a:buNone/>
              <a:tabLst>
                <a:tab algn="l" pos="0"/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xample Goal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023480"/>
            <a:ext cx="85183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ssue: Opposition to police surveillance center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udience: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Residents of Oakland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Bay area residents concerned with privacy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nyone concerned about “Big Brother”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89000" y="3711600"/>
          <a:ext cx="8517960" cy="3015720"/>
        </p:xfrm>
        <a:graphic>
          <a:graphicData uri="http://schemas.openxmlformats.org/drawingml/2006/table">
            <a:tbl>
              <a:tblPr/>
              <a:tblGrid>
                <a:gridCol w="2127240"/>
                <a:gridCol w="2150280"/>
                <a:gridCol w="2149560"/>
                <a:gridCol w="2090880"/>
              </a:tblGrid>
              <a:tr h="1053720">
                <a:tc>
                  <a:txBody>
                    <a:bodyPr lIns="54720" rIns="54720" tIns="199080" bIns="54720" anchor="ctr">
                      <a:noAutofit/>
                    </a:bodyPr>
                    <a:p>
                      <a:pPr marL="228600" algn="ctr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54720" rIns="54720" tIns="199080" bIns="54720" anchor="ctr">
                      <a:noAutofit/>
                    </a:bodyPr>
                    <a:p>
                      <a:pPr marL="228600" algn="ctr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sur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54720" rIns="54720" tIns="199080" bIns="54720" anchor="ctr">
                      <a:noAutofit/>
                    </a:bodyPr>
                    <a:p>
                      <a:pPr marL="228600" algn="ctr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at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es success look lik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54720" rIns="54720" tIns="199080" bIns="54720" anchor="ctr">
                      <a:noAutofit/>
                    </a:bodyPr>
                    <a:p>
                      <a:pPr marL="228600" algn="ctr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o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b8b8"/>
                    </a:solidFill>
                  </a:tcPr>
                </a:tc>
              </a:tr>
              <a:tr h="2224080">
                <a:tc>
                  <a:txBody>
                    <a:bodyPr lIns="54720" rIns="54720" tIns="84240" bIns="5472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 attendees at “awareness action” through online eff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 this month's attendance to last month'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 algn="ctr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% increase in attend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ail Bl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ce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Know Your Audience(s)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udience Analytic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w do you analyze web traffic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aseline Indicator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ages viewed, search keywords use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ere does traffic come from; who links to you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ich mailing list segments drive what traffic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ther tricks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eb Si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45240" cy="451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hese training materials have been prepared by Aspiration 
These materials are distributed under a Creative Commons license: Attribution-ShareAlike</dc:description>
  <dc:language>en-US</dc:language>
  <cp:lastModifiedBy/>
  <dcterms:modified xsi:type="dcterms:W3CDTF">2014-07-22T20:22:10Z</dcterms:modified>
  <cp:revision>13</cp:revision>
  <dc:subject/>
  <dc:title>Aspiration Audience Assessment</dc:title>
</cp:coreProperties>
</file>