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8.jpeg" ContentType="image/jpe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7ADB7-2CB2-453B-9BEA-EFBA26181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685800" y="4341960"/>
            <a:ext cx="54817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7160"/>
            <a:ext cx="8226360" cy="5317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Reaching Your Online Audience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7040" y="4133880"/>
            <a:ext cx="18432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Facebook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nteraction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mpressions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untry or Language-specific status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your audie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Facebook has amazing demographic informa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31880" y="4664160"/>
            <a:ext cx="640872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organization/campaign is uniqu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all the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is important to give you a sense of what is working for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640" y="498240"/>
            <a:ext cx="822816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5 Comm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ommun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"/>
          <p:cNvSpPr/>
          <p:nvPr/>
        </p:nvSpPr>
        <p:spPr>
          <a:xfrm>
            <a:off x="3833640" y="3308400"/>
            <a:ext cx="4761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17880" y="3044880"/>
            <a:ext cx="1290600" cy="64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1280" y="3032280"/>
            <a:ext cx="144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98440" y="4681440"/>
            <a:ext cx="6737400" cy="306360"/>
          </a:xfrm>
          <a:prstGeom prst="leftRightArrow">
            <a:avLst>
              <a:gd name="adj1" fmla="val 16806"/>
              <a:gd name="adj2" fmla="val 191308"/>
            </a:avLst>
          </a:prstGeom>
          <a:solidFill>
            <a:srgbClr val="004586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7" name=""/>
          <p:cNvSpPr/>
          <p:nvPr/>
        </p:nvSpPr>
        <p:spPr>
          <a:xfrm>
            <a:off x="1473120" y="2394000"/>
            <a:ext cx="712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6360" y="22255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8800" y="225108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405240" y="4621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00" y="381636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; wan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 information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detail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you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5040" y="3792600"/>
            <a:ext cx="29386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upporters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rk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680" y="2689200"/>
            <a:ext cx="8526600" cy="439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8000" y="2082960"/>
            <a:ext cx="146016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8520" y="3165480"/>
            <a:ext cx="88329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1336680"/>
            <a:ext cx="62434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one and Vo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"/>
          <p:cNvSpPr/>
          <p:nvPr/>
        </p:nvSpPr>
        <p:spPr>
          <a:xfrm>
            <a:off x="3559320" y="2378160"/>
            <a:ext cx="2384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6844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740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200" y="3814920"/>
            <a:ext cx="30243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singul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and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; “So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5040" y="3792600"/>
            <a:ext cx="261936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plura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ird pers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We” or “The or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4800" y="1603440"/>
            <a:ext cx="793260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81160" y="1658880"/>
            <a:ext cx="438948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"/>
          <p:cNvSpPr/>
          <p:nvPr/>
        </p:nvSpPr>
        <p:spPr>
          <a:xfrm>
            <a:off x="1913040" y="2516040"/>
            <a:ext cx="657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05240" y="4476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200" y="410364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–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or more o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5040" y="411624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requent -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o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84440" y="1531800"/>
            <a:ext cx="3838680" cy="47116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83000" y="1531800"/>
            <a:ext cx="3840120" cy="47116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2" name=""/>
          <p:cNvSpPr/>
          <p:nvPr/>
        </p:nvSpPr>
        <p:spPr>
          <a:xfrm>
            <a:off x="3738600" y="2384280"/>
            <a:ext cx="270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405240" y="4584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200" y="378000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-breaking new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update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sers, Flirt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stic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5040" y="3755880"/>
            <a:ext cx="293868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messaging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narrat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t alert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58960" y="1603440"/>
            <a:ext cx="742464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57160" y="1601640"/>
            <a:ext cx="7425000" cy="45262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Control of Message and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"/>
          <p:cNvSpPr/>
          <p:nvPr/>
        </p:nvSpPr>
        <p:spPr>
          <a:xfrm>
            <a:off x="3711600" y="246708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5240" y="4513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200" y="4103640"/>
            <a:ext cx="29242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with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,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5040" y="4079880"/>
            <a:ext cx="2938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4160" y="1515960"/>
            <a:ext cx="5060880" cy="45244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5240" y="1365120"/>
            <a:ext cx="406404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92760" y="1327320"/>
            <a:ext cx="3927240" cy="49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05240" y="444024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9200" y="406728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, tend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2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5040" y="407988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able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11600" y="2395440"/>
            <a:ext cx="505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08320" y="160344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93200" indent="-39024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1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ways to know who you are reach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493200" indent="-39024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2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pare common tools used for online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493200" indent="-390240">
              <a:lnSpc>
                <a:spcPct val="126000"/>
              </a:lnSpc>
              <a:spcBef>
                <a:spcPts val="726"/>
              </a:spcBef>
              <a:buSzPct val="113122"/>
              <a:buBlip>
                <a:blip r:embed="rId3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tter understand when to use what too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493200" indent="-390240">
              <a:lnSpc>
                <a:spcPct val="126000"/>
              </a:lnSpc>
              <a:spcBef>
                <a:spcPts val="726"/>
              </a:spcBef>
              <a:buSzPct val="113122"/>
              <a:buBlip>
                <a:blip r:embed="rId4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about how tool selection supports your organization's work in connecting with your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97160" y="2395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46120" y="23972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200" y="3959280"/>
            <a:ext cx="2621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D; uneven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chan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're trying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5040" y="3971880"/>
            <a:ext cx="27194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able”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11600" y="254016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029200" y="1920960"/>
            <a:ext cx="3228840" cy="2695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2640" y="1281240"/>
            <a:ext cx="4881600" cy="3382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57080" y="4359240"/>
            <a:ext cx="64677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840" y="849240"/>
            <a:ext cx="2544840" cy="2533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2509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gaging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6" name=""/>
          <p:cNvSpPr/>
          <p:nvPr/>
        </p:nvSpPr>
        <p:spPr>
          <a:xfrm>
            <a:off x="182520" y="3565440"/>
            <a:ext cx="885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ame             Fun              Passion             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170080" y="3932280"/>
            <a:ext cx="2584440" cy="258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114800" y="1279440"/>
            <a:ext cx="3019320" cy="2082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742000" y="3932280"/>
            <a:ext cx="303696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1480" y="1258560"/>
            <a:ext cx="415764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Your role is to define ways for your different audiences to plug i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How are you engaging strangers? fans? funders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rep work is key.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efine your lists of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ks” or ways to engage ahead of time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4756320" y="1455840"/>
            <a:ext cx="397800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rt tracking measurable goals around your online communications tool use (Traffic doc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termine differences in tool use for your organization as a whole and for specific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an out your messages across different channels to make sure you reach all your audien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3985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1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one thing that you would tell a friend or peer about using online tools to identify and reach their audience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81120" y="478476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07240" y="432756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95360" y="436248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99240" y="3289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98720" y="532764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337644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788080" y="4797360"/>
            <a:ext cx="192888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835360" y="2035080"/>
            <a:ext cx="585000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8920" y="471960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07240" y="432756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95360" y="436248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99240" y="3289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8720" y="532764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43280" y="337644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88080" y="4797360"/>
            <a:ext cx="192888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Organiz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Never forget who's left out by “e” strategi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Each community, campaign, and cause is differ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Respect for local wisdom, culture, &amp; customs  need to remain intact in online engagem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31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udience Exercis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33600" y="2684520"/>
            <a:ext cx="6067440" cy="2360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12960" y="2209680"/>
            <a:ext cx="7324560" cy="2849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6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3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are your top audience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3280" indent="0">
              <a:lnSpc>
                <a:spcPct val="126000"/>
              </a:lnSpc>
              <a:spcBef>
                <a:spcPts val="726"/>
              </a:spcBef>
              <a:buNone/>
              <a:tabLst>
                <a:tab algn="l" pos="0"/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 Goa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0234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ssue: Opposition to police surveillance cent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udience: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sidents of Oaklan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ay area residents concerned with privacy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nyone concerned about “Big Brother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9000" y="3711600"/>
          <a:ext cx="8517960" cy="3015720"/>
        </p:xfrm>
        <a:graphic>
          <a:graphicData uri="http://schemas.openxmlformats.org/drawingml/2006/table">
            <a:tbl>
              <a:tblPr/>
              <a:tblGrid>
                <a:gridCol w="2127240"/>
                <a:gridCol w="2150280"/>
                <a:gridCol w="2149560"/>
                <a:gridCol w="2090880"/>
              </a:tblGrid>
              <a:tr h="1053720"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sur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success look lik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</a:tr>
              <a:tr h="2224080">
                <a:tc>
                  <a:txBody>
                    <a:bodyPr lIns="54720" rIns="54720" tIns="84240" bIns="5472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attendees at “awareness action”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 this month's attendance to last month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 increase in atten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ail Bl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Know Your Audience(s)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udience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do you analyze web traffic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aseline Indicato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ages viewed, search keywords us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ere does traffic come from; who links to you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mailing list segments drive what traffic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ther trick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452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</dc:description>
  <dc:language>en-US</dc:language>
  <cp:lastModifiedBy/>
  <dcterms:modified xsi:type="dcterms:W3CDTF">2014-07-22T20:22:10Z</dcterms:modified>
  <cp:revision>13</cp:revision>
  <dc:subject/>
  <dc:title>Aspiration Audience Assessment</dc:title>
</cp:coreProperties>
</file>