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CFAA9-1A9A-47FD-857E-51447DAA1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5400000">
            <a:off x="48124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reating a Social Media Policy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Post Should...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320" y="1455480"/>
            <a:ext cx="41576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lud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hotos of previous ev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vent Promo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erie/Auxiliary contact inform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perating Hou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040" y="1455480"/>
            <a:ext cx="41576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Not Includ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Disparaging comment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9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Copyrighted material that you do not own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10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Anything of a sexual nature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1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he use of promotion of controlled substances (liquor, cigarettes, illegal drugs, etc.)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1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hird party advertisement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1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Personal contact info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08660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1600200"/>
            <a:ext cx="914400" cy="457200"/>
          </a:xfrm>
          <a:prstGeom prst="rightArrow">
            <a:avLst>
              <a:gd name="adj1" fmla="val 51222"/>
              <a:gd name="adj2" fmla="val 414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tarting a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with your staff and make a list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re your organization's concern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's the worst case scenario? How will you react to it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is an “ideal” social media conversation? How will you encourage it to happen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naging Your Poli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aving a policy is not enough, you also need someone who is monitoring the policy for staff and us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moving unwanted inform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sponding to conversa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lding the organization accounta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ifting the policy as reality chan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policy is unique to your organization's  practices and audien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es not only define what not to do, but also guidelines in using online effectivel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sential to have a fully functional communications plan at your organiz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ore Resourc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irectory of Social Media Policie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http://www.socialbrite.org/sharing-center/directory-of-social-media-policies/#nonprofi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57 examples of Social Media Polic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http://davefleet.com/2010/07/57-social-media-policy-examples-resources/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od reads(!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blog.socialsourcecommons.org/2012/01/managing-multiple-people-doing-online-communications/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socialmedia-strategy.wikispaces.com/Social+Media+Policy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bethkanter.org/trust-control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create a social media polic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to start the process for an organizational social media polic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amples of real world polic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ocial Media Poli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d to define the role of social media at your organization and how your staff/users  can participate appropriatel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ch policy is going to be different per organiz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Khmer UI"/>
              </a:rPr>
              <a:t>It's all about your organizational cultur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t is a “living, breathing” docu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n't focus on just what you CANNOT do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tinguish between internal staff guidelines   versus public-facing polic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it practical and reader-friendly to make  it work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uilding Trust 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MP is Critical for Effective Communic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9120" y="2606760"/>
          <a:ext cx="7913160" cy="3833280"/>
        </p:xfrm>
        <a:graphic>
          <a:graphicData uri="http://schemas.openxmlformats.org/drawingml/2006/table">
            <a:tbl>
              <a:tblPr/>
              <a:tblGrid>
                <a:gridCol w="2432520"/>
                <a:gridCol w="2732400"/>
                <a:gridCol w="2748240"/>
              </a:tblGrid>
              <a:tr h="4093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ho benefit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How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com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03716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rg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stablishes an internal 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evelops org standard for what's okay and not ok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34964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ives guidelines in order to carry out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llows space for effective social media practices without “fear” thin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03716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er/ Aud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efines appropriate behavior on your chann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ives you the upper hand in monitoring and regul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915400" cy="389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914400"/>
            <a:ext cx="2514600" cy="685800"/>
          </a:xfrm>
          <a:prstGeom prst="wedgeRoundRectCallout">
            <a:avLst>
              <a:gd name="adj1" fmla="val 67662"/>
              <a:gd name="adj2" fmla="val 15078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-Driven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343400"/>
            <a:ext cx="2514600" cy="685800"/>
          </a:xfrm>
          <a:prstGeom prst="wedgeRoundRectCallout">
            <a:avLst>
              <a:gd name="adj1" fmla="val -109203"/>
              <a:gd name="adj2" fmla="val 634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to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4600" y="1247760"/>
            <a:ext cx="4229280" cy="56102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round/>
          </a:ln>
        </p:spPr>
      </p:pic>
      <p:sp>
        <p:nvSpPr>
          <p:cNvPr id="113" name=""/>
          <p:cNvSpPr/>
          <p:nvPr/>
        </p:nvSpPr>
        <p:spPr>
          <a:xfrm>
            <a:off x="1828800" y="25146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iendly Adv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156280" cy="4473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20:31:19Z</dcterms:created>
  <dc:creator>Misty </dc:creator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5T19:40:52Z</dcterms:modified>
  <cp:revision>51</cp:revision>
  <dc:subject/>
  <dc:title>Aspiration Social Media Policy</dc:title>
</cp:coreProperties>
</file>